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8.jpeg" ContentType="image/jpeg"/>
  <Override PartName="/ppt/media/image5.png" ContentType="image/png"/>
  <Override PartName="/ppt/media/image6.png" ContentType="image/png"/>
  <Override PartName="/ppt/media/image7.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7</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SimSun"/>
              </a:rPr>
              <a:t>HIV and Requirement for Food Aid, 2002</a:t>
            </a:r>
            <a:r>
              <a:rPr b="0" lang="en-GB" sz="4000" spc="-1" strike="noStrike">
                <a:solidFill>
                  <a:srgbClr val="000000"/>
                </a:solidFill>
                <a:latin typeface="Times New Roman"/>
                <a:ea typeface="SimSun"/>
              </a:rPr>
              <a:t> </a:t>
            </a:r>
            <a:endParaRPr b="0" lang="en-US" sz="4000" spc="-1" strike="noStrike">
              <a:solidFill>
                <a:srgbClr val="000000"/>
              </a:solidFill>
              <a:latin typeface="Times New Roman"/>
            </a:endParaRPr>
          </a:p>
        </p:txBody>
      </p:sp>
      <p:pic>
        <p:nvPicPr>
          <p:cNvPr id="58" name="" descr=""/>
          <p:cNvPicPr/>
          <p:nvPr/>
        </p:nvPicPr>
        <p:blipFill>
          <a:blip r:embed="rId1"/>
          <a:stretch/>
        </p:blipFill>
        <p:spPr>
          <a:xfrm>
            <a:off x="1563840" y="1447920"/>
            <a:ext cx="60148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bt and Aid</a:t>
            </a:r>
            <a:endParaRPr b="0" lang="en-US" sz="4400" spc="-1" strike="noStrike">
              <a:solidFill>
                <a:srgbClr val="000000"/>
              </a:solidFill>
              <a:latin typeface="Times New Roman"/>
            </a:endParaRPr>
          </a:p>
        </p:txBody>
      </p:sp>
      <p:sp>
        <p:nvSpPr>
          <p:cNvPr id="60"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ts are a significant part of GDP in most developing nations.  However, it is the plight of the Highly Indebted Poor Countries (HIPC) that is at the forefront of the issue, the majority of which are in Sub-Saharan Africa.  </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after the substantial debt relief in 2001, many poor countries were still spending more on debt servicing than on education and health.  Without being able to divert more resources to these areas, it is unlikely that growth will ever take off.  </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nations also undoubtedly need to borrow in order to make the investments that development requires. If loans were used effectively, then profitable investments would generate the economic growth that makes the debt sustainable.  Many of the problems which have arisen are because the high level of borrowing has not generated economic growth.</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DC Debt (% of GDP)</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1917720" y="1447920"/>
            <a:ext cx="530712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ajor Debtors in Sub-Saharan Africa, 1999</a:t>
            </a:r>
            <a:endParaRPr b="0" lang="en-US" sz="4000" spc="-1" strike="noStrike">
              <a:solidFill>
                <a:srgbClr val="000000"/>
              </a:solidFill>
              <a:latin typeface="Times New Roman"/>
            </a:endParaRPr>
          </a:p>
        </p:txBody>
      </p:sp>
      <p:pic>
        <p:nvPicPr>
          <p:cNvPr id="64" name="" descr=""/>
          <p:cNvPicPr/>
          <p:nvPr/>
        </p:nvPicPr>
        <p:blipFill>
          <a:blip r:embed="rId1"/>
          <a:stretch/>
        </p:blipFill>
        <p:spPr>
          <a:xfrm>
            <a:off x="2282760" y="1447920"/>
            <a:ext cx="45766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aring debt servicing to spending on primary education and health, 2001</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1544760" y="1447920"/>
            <a:ext cx="6053040" cy="47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bt and Aid</a:t>
            </a:r>
            <a:endParaRPr b="0" lang="en-US" sz="4400" spc="-1" strike="noStrike">
              <a:solidFill>
                <a:srgbClr val="000000"/>
              </a:solidFill>
              <a:latin typeface="Times New Roman"/>
            </a:endParaRPr>
          </a:p>
        </p:txBody>
      </p:sp>
      <p:sp>
        <p:nvSpPr>
          <p:cNvPr id="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only are the costs of servicing the debts very high, these economies are extremely fragile to shocks, such as interest rate changes and exchange rate movemen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would the answer be for all debt to be forgive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believe that the slate should be wiped clean, but this presents concerns.  If HIPC governments know that debt will be forgiven they have no incentive to use the funds wisely, especially as corruption is often rife.  This is referred to as the problem of </a:t>
            </a:r>
            <a:r>
              <a:rPr b="0" i="1" lang="en-GB" sz="2400" spc="-1" strike="noStrike">
                <a:solidFill>
                  <a:srgbClr val="000000"/>
                </a:solidFill>
                <a:latin typeface="Times New Roman"/>
              </a:rPr>
              <a:t>moral hazar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ly, these HIPCs must continue their quest for growth which will require the need for further resources in the future.  If all debt is written off it may be viewed as a form of default, which would lower that nation’s credit rating and thus affect future financing of grow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de and Investment</a:t>
            </a:r>
            <a:endParaRPr b="0" lang="en-US" sz="4400" spc="-1" strike="noStrike">
              <a:solidFill>
                <a:srgbClr val="000000"/>
              </a:solidFill>
              <a:latin typeface="Times New Roman"/>
            </a:endParaRPr>
          </a:p>
        </p:txBody>
      </p:sp>
      <p:sp>
        <p:nvSpPr>
          <p:cNvPr id="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Sun"/>
              </a:rPr>
              <a:t>International trade</a:t>
            </a:r>
            <a:r>
              <a:rPr b="0" lang="en-GB" sz="2400" spc="-1" strike="noStrike">
                <a:solidFill>
                  <a:srgbClr val="000000"/>
                </a:solidFill>
                <a:latin typeface="Times New Roman"/>
                <a:ea typeface="SimSun"/>
              </a:rPr>
              <a:t> opens a country’s borders and allows countries to specialise and exchange, generating gains from trade.  By doing so, the overall economic pie gets bigger because each country can produce what it is relatively more efficient at and trade for other goods.  Production becomes more efficient, resources are used more efficiently and consumption possibilities increase, among other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ment:</a:t>
            </a:r>
            <a:r>
              <a:rPr b="0" lang="en-GB" sz="2400" spc="-1" strike="noStrike">
                <a:solidFill>
                  <a:srgbClr val="000000"/>
                </a:solidFill>
                <a:latin typeface="Times New Roman"/>
              </a:rPr>
              <a:t> </a:t>
            </a:r>
            <a:r>
              <a:rPr b="0" lang="en-GB" sz="2400" spc="-1" strike="noStrike">
                <a:solidFill>
                  <a:srgbClr val="000000"/>
                </a:solidFill>
                <a:latin typeface="Times New Roman"/>
                <a:ea typeface="SimSun"/>
              </a:rPr>
              <a:t>One of the main determinants of long-growth levels is investment.  Governments usually need to borrow to invest in order to grow, and this will typically take the form of external borrowing for developing countries because there tends to be insufficient domestic savings.  Foreign direct investment becomes impo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SimSun"/>
              </a:rPr>
              <a:t>Import-substitution versus export-orientation: Latin America and East Asia</a:t>
            </a:r>
            <a:r>
              <a:rPr b="0" lang="en-GB" sz="4000" spc="-1" strike="noStrike">
                <a:solidFill>
                  <a:srgbClr val="000000"/>
                </a:solidFill>
                <a:latin typeface="Times New Roman"/>
                <a:ea typeface="SimSun"/>
              </a:rPr>
              <a:t> </a:t>
            </a:r>
            <a:endParaRPr b="0" lang="en-US" sz="40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mport-substitution strategy or an export-led approach to grow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goal of import-substitution is protectionis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Developing countries protected themselves against foreign competition by restricting imports and expanding domestic industri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was a way of utilising domestic markets to allow a diversified industrial sector to develo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 Braz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st Asia: Export</a:t>
            </a:r>
            <a:r>
              <a:rPr b="0" lang="en-GB" sz="3600" spc="-1" strike="noStrike">
                <a:solidFill>
                  <a:srgbClr val="000000"/>
                </a:solidFill>
                <a:latin typeface="Times New Roman"/>
                <a:ea typeface="SimSun"/>
              </a:rPr>
              <a:t>-led growth strategy</a:t>
            </a:r>
            <a:r>
              <a:rPr b="0" lang="en-GB" sz="4000" spc="-1" strike="noStrike">
                <a:solidFill>
                  <a:srgbClr val="000000"/>
                </a:solidFill>
                <a:latin typeface="Times New Roman"/>
                <a:ea typeface="SimSun"/>
              </a:rPr>
              <a:t> </a:t>
            </a:r>
            <a:endParaRPr b="0" lang="en-US" sz="4000" spc="-1" strike="noStrike">
              <a:solidFill>
                <a:srgbClr val="000000"/>
              </a:solidFill>
              <a:latin typeface="Times New Roman"/>
            </a:endParaRPr>
          </a:p>
        </p:txBody>
      </p:sp>
      <p:sp>
        <p:nvSpPr>
          <p:cNvPr id="74" name="PlaceHolder 2"/>
          <p:cNvSpPr>
            <a:spLocks noGrp="1"/>
          </p:cNvSpPr>
          <p:nvPr>
            <p:ph/>
          </p:nvPr>
        </p:nvSpPr>
        <p:spPr>
          <a:xfrm>
            <a:off x="628560" y="1142640"/>
            <a:ext cx="7886880" cy="47242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East Asian ‘miracle’ refers to the rapid growth of Hong Kong, Singapore, Taiwan and South Korea.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ir export-led strategy has been considered as following trade liberalisation and opening, while at other times viewed as protectionist and restrictive of trade in such a way as to benefit domestic firms to allow them to gain global market shar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other critique that by attracting foreign investment in manufacturing and exporting those goods, these countries are not gaining productive efficiencies, rendering their growth to be driven by factor accumulation and spurred by investment alon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egree of state intervention and use of industrial policy differed, but a focus on attracting foreign investment to produce manufactures for exports is a formula that has generated strong grow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DP growth in Asia</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981000" y="1447920"/>
            <a:ext cx="71802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pproaches to Growth</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conomics of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mport-substitution versus export-orientation: Latin America and East A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nsition and marketisation: China and the former Soviet Un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conomic growth in an international frame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are of global markets</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846000" y="2305080"/>
            <a:ext cx="7358040" cy="275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Growth without rising inequality </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1515960" y="1447920"/>
            <a:ext cx="611028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Transition and Marketisation: China and the former Soviet Union </a:t>
            </a:r>
            <a:endParaRPr b="0" lang="en-US" sz="4000" spc="-1" strike="noStrike">
              <a:solidFill>
                <a:srgbClr val="000000"/>
              </a:solidFill>
              <a:latin typeface="Times New Roman"/>
            </a:endParaRPr>
          </a:p>
        </p:txBody>
      </p:sp>
      <p:sp>
        <p:nvSpPr>
          <p:cNvPr id="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Centrally planned economies competed with capitalist ones for nearly 50 years until the collapse of Communism in Russia and Eastern Europe in the late 1980s and early 1990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China also embraced marketisation and rejected central planning in the late 20th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But, they undertook transition differently. FSU undertook transition in a “big bang” while China followed a gradualist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17.6 Who lost Russia?</a:t>
            </a:r>
            <a:r>
              <a:rPr b="0" lang="en-GB" sz="2400" spc="-1" strike="noStrike">
                <a:solidFill>
                  <a:srgbClr val="000000"/>
                </a:solidFill>
                <a:latin typeface="Times New Roman"/>
                <a:ea typeface="SimSu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ina</a:t>
            </a:r>
            <a:endParaRPr b="0" lang="en-US" sz="4400" spc="-1" strike="noStrike">
              <a:solidFill>
                <a:srgbClr val="000000"/>
              </a:solidFill>
              <a:latin typeface="Times New Roman"/>
            </a:endParaRPr>
          </a:p>
        </p:txBody>
      </p:sp>
      <p:sp>
        <p:nvSpPr>
          <p:cNvPr id="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able growth rate of 9% per annum on average, lasting a quarter of a cent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adual dismantling of the state system and incrementally addressing the development problems of a country with 1/5</a:t>
            </a:r>
            <a:r>
              <a:rPr b="0" lang="en-GB" sz="2400" spc="-1" strike="noStrike" baseline="30000">
                <a:solidFill>
                  <a:srgbClr val="000000"/>
                </a:solidFill>
                <a:latin typeface="Times New Roman"/>
              </a:rPr>
              <a:t>th</a:t>
            </a:r>
            <a:r>
              <a:rPr b="0" lang="en-GB" sz="2400" spc="-1" strike="noStrike">
                <a:solidFill>
                  <a:srgbClr val="000000"/>
                </a:solidFill>
                <a:latin typeface="Times New Roman"/>
              </a:rPr>
              <a:t> of the world’s population has propelled it to become the world’s 4</a:t>
            </a:r>
            <a:r>
              <a:rPr b="0" lang="en-GB" sz="2400" spc="-1" strike="noStrike" baseline="30000">
                <a:solidFill>
                  <a:srgbClr val="000000"/>
                </a:solidFill>
                <a:latin typeface="Times New Roman"/>
              </a:rPr>
              <a:t>th</a:t>
            </a:r>
            <a:r>
              <a:rPr b="0" lang="en-GB" sz="2400" spc="-1" strike="noStrike">
                <a:solidFill>
                  <a:srgbClr val="000000"/>
                </a:solidFill>
                <a:latin typeface="Times New Roman"/>
              </a:rPr>
              <a:t> largest ec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marketisation is incomplete, and structural problems remain unresolved in the ec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Economic growth in an international framework </a:t>
            </a:r>
            <a:endParaRPr b="0" lang="en-US" sz="40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international economic order in the post-War period includes the Bretton Woods institutions of the World Bank and IMF, and also the establishment of rules for countries to engage and trade with each oth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n 1995, the Uruguay Round established the World Trade Organisation and the articles of establishment created international rules for trade. The 195 member nations of the WTO in 2005 account for 99% of world trade and each are bound by the provisions of international economic law.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world economic growth has averaged 3.8% in the post War period, growth in world trade has exceeded 9% per annum.  Overall economic growth is accompanied by the growth in international tr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owth and Trade</a:t>
            </a:r>
            <a:endParaRPr b="0" lang="en-US" sz="4400" spc="-1" strike="noStrike">
              <a:solidFill>
                <a:srgbClr val="000000"/>
              </a:solidFill>
              <a:latin typeface="Times New Roman"/>
            </a:endParaRPr>
          </a:p>
        </p:txBody>
      </p:sp>
      <p:sp>
        <p:nvSpPr>
          <p:cNvPr id="8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seems then that if countries want to grow, then they should open their economies to trade.  This is much more complicated, however, than the simple macroeconomic principles would sugges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and foremost, trade takes place within imperfectly competitive markets.  This means that new firms in developing countries cannot easily compete with large multinational corporations who have market power in world marke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many developing countries are in the early stages of industrialisation, so their </a:t>
            </a:r>
            <a:r>
              <a:rPr b="1" lang="en-GB" sz="2400" spc="-1" strike="noStrike">
                <a:solidFill>
                  <a:srgbClr val="000000"/>
                </a:solidFill>
                <a:latin typeface="Times New Roman"/>
              </a:rPr>
              <a:t>comparative advantage</a:t>
            </a:r>
            <a:r>
              <a:rPr b="0" lang="en-GB" sz="2400" spc="-1" strike="noStrike">
                <a:solidFill>
                  <a:srgbClr val="000000"/>
                </a:solidFill>
                <a:latin typeface="Times New Roman"/>
              </a:rPr>
              <a:t> would be in primary products, which suffer from volatility and low value add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7.7 Comparative advantage and why countries tr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SimSun"/>
              </a:rPr>
              <a:t>Global Applications 7.7</a:t>
            </a:r>
            <a:endParaRPr b="0" lang="en-US" sz="4400" spc="-1" strike="noStrike">
              <a:solidFill>
                <a:srgbClr val="000000"/>
              </a:solidFill>
              <a:latin typeface="Times New Roman"/>
            </a:endParaRPr>
          </a:p>
        </p:txBody>
      </p:sp>
      <p:sp>
        <p:nvSpPr>
          <p:cNvPr id="90"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SimSun"/>
              </a:rPr>
              <a:t>Comparative advantage and why countries tra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specialisation and exchange generate gains to trade? </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4645080" y="2362320"/>
            <a:ext cx="3870360" cy="289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SimSun"/>
              </a:rPr>
              <a:t>What will be the effect on economic development under international law?</a:t>
            </a:r>
            <a:r>
              <a:rPr b="0" lang="en-GB" sz="4000" spc="-1" strike="noStrike">
                <a:solidFill>
                  <a:srgbClr val="000000"/>
                </a:solidFill>
                <a:latin typeface="Times New Roman"/>
                <a:ea typeface="SimSun"/>
              </a:rPr>
              <a:t> </a:t>
            </a:r>
            <a:endParaRPr b="0" lang="en-US" sz="4000" spc="-1" strike="noStrike">
              <a:solidFill>
                <a:srgbClr val="000000"/>
              </a:solidFill>
              <a:latin typeface="Times New Roman"/>
            </a:endParaRPr>
          </a:p>
        </p:txBody>
      </p:sp>
      <p:sp>
        <p:nvSpPr>
          <p:cNvPr id="9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ules of trade will now be better established, so the system levels the playing field for the less developed natio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ld trade does not always run so smoothly and the regime itself still has many unresolved issues, seen in the current Doha Round launched in 2001.</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having rules of trade, a form of adjudication of trade disputes, and avenues of negotiation improves the previous syste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gether with the UN group of organisation, such as UNIDO, UNDP, these organisations form a supra-national structure for the global economy.  The future growth approach of countries will necessarily need to consider the strictures of international economic law and global instit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ined the approaches to growth undertaken by successful and less successful developing and transition economies over the past half century.  Their experiences have been diverse.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identified some of the main elements of economic development that has contributed to divergent growth rates around the world.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nalysed the difference between import-substitution and export-led growth using the examples of Latin America and East Asia.</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covered the experience of transition economies in the next section, focusing on China and the former Soviet Union.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concluded the chapter with an assessment of the international economic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e different approaches to achieving economic growt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ess the evidence of economic growth across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e the economics of developing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 the difference between import-substitution and export-led growt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 the process of transition and marketis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rn about the evolving international economic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ess the relationship between growth and globalisa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economics of development </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know that countries have not converged in growth and the world economy is characterised by vast dispariti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orld economy had a GDP of $31.7 trillion in 2003 and the U.S. accounted for over $10 trillion of that while Nepal accounted for only $5 bill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isparities are even more remarkable when viewed in terms of GDP per capita, since a country with a large population may be expected to have a higher total GDP though the national income may be spread across a larger popul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DP of country groups</a:t>
            </a:r>
            <a:endParaRPr b="0" lang="en-US" sz="4400" spc="-1" strike="noStrike">
              <a:solidFill>
                <a:srgbClr val="000000"/>
              </a:solidFill>
              <a:latin typeface="Times New Roman"/>
            </a:endParaRPr>
          </a:p>
        </p:txBody>
      </p:sp>
      <p:pic>
        <p:nvPicPr>
          <p:cNvPr id="48" name="" descr=""/>
          <p:cNvPicPr/>
          <p:nvPr/>
        </p:nvPicPr>
        <p:blipFill>
          <a:blip r:embed="rId1"/>
          <a:stretch/>
        </p:blipFill>
        <p:spPr>
          <a:xfrm>
            <a:off x="1238400" y="1447920"/>
            <a:ext cx="66672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verty</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orld Bank’s measure of extreme poverty is set at $1 per day, while $2 per day captures those who live in pover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le an average person in some countries earns more than $40,000 a year, more than half the people in developing countries, 2.8 billion people, live on less than $700 a year.  Of these, 1.2 billion or one-fifth of the world’s population earn less than $1 a da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Economic growth can be associated with poverty reduction, as has been seen in Asia. In </a:t>
            </a:r>
            <a:r>
              <a:rPr b="0" lang="en-GB" sz="2400" spc="-1" strike="noStrike">
                <a:solidFill>
                  <a:srgbClr val="000000"/>
                </a:solidFill>
                <a:latin typeface="Times New Roman"/>
              </a:rPr>
              <a:t>Sub-Saharan Africa, however, there were 75 million more Africans in poverty in 2000 than a decade bef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Human Development Index </a:t>
            </a:r>
            <a:endParaRPr b="0" lang="en-US" sz="44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Human Development Index (HDI) tries to capture the level of development in a country to see if growth has been accompanied by an improvement in standards of living measured by life expectancy and some measure of human capital, such as adult literacy and educational enrolmen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developed country in the world is not the United States by this measure, despite it being the richest in money terms.  The country with the highest level of human development is Norwa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17.2 Human Development Ind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lth and Nutrition</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number of under-nourished people has risen by nearly three-fold in Sub-Saharan Africa since 1970.  It is generally on the decline in other regions of the worl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cidence of HIV and the percentage of the adult population requiring food ai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thout a healthy population, growth is simply not fea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hronically Undernourished </a:t>
            </a:r>
            <a:br>
              <a:rPr sz="4000"/>
            </a:br>
            <a:r>
              <a:rPr b="0" lang="en-GB" sz="4000" spc="-1" strike="noStrike">
                <a:solidFill>
                  <a:srgbClr val="000000"/>
                </a:solidFill>
                <a:latin typeface="Times New Roman"/>
              </a:rPr>
              <a:t>(million people)</a:t>
            </a:r>
            <a:endParaRPr b="0" lang="en-US" sz="4000" spc="-1" strike="noStrike">
              <a:solidFill>
                <a:srgbClr val="000000"/>
              </a:solidFill>
              <a:latin typeface="Times New Roman"/>
            </a:endParaRPr>
          </a:p>
        </p:txBody>
      </p:sp>
      <p:pic>
        <p:nvPicPr>
          <p:cNvPr id="56" name="" descr=""/>
          <p:cNvPicPr/>
          <p:nvPr/>
        </p:nvPicPr>
        <p:blipFill>
          <a:blip r:embed="rId1"/>
          <a:stretch/>
        </p:blipFill>
        <p:spPr>
          <a:xfrm>
            <a:off x="1725480" y="1447920"/>
            <a:ext cx="569304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9:45:41Z</dcterms:created>
  <dc:creator>Emily Gibson</dc:creator>
  <dc:description/>
  <dc:language>en-US</dc:language>
  <cp:lastModifiedBy>Cengage learning</cp:lastModifiedBy>
  <dcterms:modified xsi:type="dcterms:W3CDTF">2008-10-30T15:58:10Z</dcterms:modified>
  <cp:revision>3</cp:revision>
  <dc:subject/>
  <dc:title>Macroeconomics Chamberlin and Yueh</dc:title>
</cp:coreProperties>
</file>