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Macroeconomics</a:t>
            </a:r>
            <a:br>
              <a:rPr sz="4800"/>
            </a:br>
            <a:r>
              <a:rPr b="0" lang="en-GB" sz="3600" spc="-1" strike="noStrike">
                <a:solidFill>
                  <a:srgbClr val="000000"/>
                </a:solidFill>
                <a:latin typeface="Times New Roman"/>
              </a:rPr>
              <a:t>Chamberlin and Yueh</a:t>
            </a:r>
            <a:endParaRPr b="0" lang="en-US" sz="36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15</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hanging Ideology</a:t>
            </a:r>
            <a:endParaRPr b="0" lang="en-US" sz="4400" spc="-1" strike="noStrike">
              <a:solidFill>
                <a:srgbClr val="000000"/>
              </a:solidFill>
              <a:latin typeface="Times New Roman"/>
            </a:endParaRPr>
          </a:p>
        </p:txBody>
      </p:sp>
      <p:sp>
        <p:nvSpPr>
          <p:cNvPr id="5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bolition of exchange controls and the increasing freedom to make international financial transactions have often mirrored the deregulation in domestic financial marke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evious arguments are somewhat negative.  They suggest that increasing capital mobility is simply a consequence of no longer needing controls to help maintain a fixed exchange rate, or that they are becoming increasingly irrelevant due to the scale of currency trading taking place outside of a nation’s border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a positive argument is that openness in financial markets might be something that is demanded in its own righ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n International Financial Market: the Advantages</a:t>
            </a:r>
            <a:endParaRPr b="0" lang="en-US" sz="4000" spc="-1" strike="noStrike">
              <a:solidFill>
                <a:srgbClr val="000000"/>
              </a:solidFill>
              <a:latin typeface="Times New Roman"/>
            </a:endParaRPr>
          </a:p>
        </p:txBody>
      </p:sp>
      <p:sp>
        <p:nvSpPr>
          <p:cNvPr id="6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Facilitating International Trade</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Portfolio Divers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Promoting an Efficient Allocation of Resources: </a:t>
            </a:r>
            <a:r>
              <a:rPr b="1" lang="en-GB" sz="3200" spc="-1" strike="noStrike">
                <a:solidFill>
                  <a:srgbClr val="000000"/>
                </a:solidFill>
                <a:latin typeface="Times New Roman"/>
              </a:rPr>
              <a:t>Global Applications 15.2 Feldstein-Horioka Deb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A Disciplining Device on Policy-Ma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urrency Crises </a:t>
            </a:r>
            <a:endParaRPr b="0" lang="en-US" sz="4400" spc="-1" strike="noStrike">
              <a:solidFill>
                <a:srgbClr val="000000"/>
              </a:solidFill>
              <a:latin typeface="Times New Roman"/>
            </a:endParaRPr>
          </a:p>
        </p:txBody>
      </p:sp>
      <p:sp>
        <p:nvSpPr>
          <p:cNvPr id="6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urrency crises</a:t>
            </a:r>
            <a:r>
              <a:rPr b="0" lang="en-GB" sz="2400" spc="-1" strike="noStrike">
                <a:solidFill>
                  <a:srgbClr val="000000"/>
                </a:solidFill>
                <a:latin typeface="Times New Roman"/>
              </a:rPr>
              <a:t> are sharp depreciations in a nation’s currency brought about by large amounts of selling on international foreign exchange marke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lmost all instances, it involves nations which have endeavoured to fix their exchange rate, but are then forced into a very sudden and sharp devaluation when defending the parity becomes impossible or too costly. The recent prevalence of currency crises has been linked to the international foreign exchange marke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ent currency crises of note which will be discussed ar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atin American crisis, 1981-2</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RM crisis, 1992</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xican crisis, 1994-5</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sian crisis, 1997-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y attack a currency: how do speculators make money from devaluations?</a:t>
            </a:r>
            <a:r>
              <a:rPr b="0" i="1"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6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 speculator thinks that a currency will devalue, then they can submit an order to the markets to sell the currency now and buy it back at a later date.  </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in the meantime, the exchange rate depreciates, it means that the speculator is selling the currency for far more than which it is being bought back at, representing in many cases a sizeable trading profit.  For example, if the currency devalues by 50%, then this is the size of the capital gain that the speculator will make.</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ventional models argue that a currency crisis will emerge when the government runs out of reserves and is no longer able to defend the fixed exchange rate against heavy selling by speculato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y attack a currency: how do speculators make money from devaluations?</a:t>
            </a:r>
            <a:endParaRPr b="0" lang="en-US" sz="3200" spc="-1" strike="noStrike">
              <a:solidFill>
                <a:srgbClr val="000000"/>
              </a:solidFill>
              <a:latin typeface="Times New Roman"/>
            </a:endParaRPr>
          </a:p>
        </p:txBody>
      </p:sp>
      <p:sp>
        <p:nvSpPr>
          <p:cNvPr id="6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heavy selling by speculators is a vital part of the anatomy of a crisis.  Remember that speculators can profit from a devaluation, but by their selling actions, they can help create this by exhausting the governments reserves.  Therefore, speculators know that when the government is low on reserves, they may be able to force a devaluation and profit from their own action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maintain a fixed exchange rate, the government must use its gold and foreign exchange reserves to intervene in the currency markets. If a devaluation occurs, then the source of speculator profit will be the capital losses that governments make on their intervention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ample: High Reserve Game</a:t>
            </a:r>
            <a:endParaRPr b="0" lang="en-US" sz="4400" spc="-1" strike="noStrike">
              <a:solidFill>
                <a:srgbClr val="000000"/>
              </a:solidFill>
              <a:latin typeface="Times New Roman"/>
            </a:endParaRPr>
          </a:p>
        </p:txBody>
      </p:sp>
      <p:sp>
        <p:nvSpPr>
          <p:cNvPr id="6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se there are two traders, 1 and 2, who can either sell or hold their currency holdings, each having six units.  The cost of undertaking a sell order is 1, whereas holding costs are 0.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se the government has reserves of 20 with which to defend the currency.  If a devaluation is forced, then the exchange rate will depreciate by 50%.  In this case, the pay-off each trader receives given the action of the other can be represented in the following figur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quilibrium in this game is for both traders to hold, no matter what the other does.  This is because, individually or together, the speculators do not cannot exert enough pressure to overwhelm the government, so any action would be unsuccessful and cost 1 un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igh Reserve Game</a:t>
            </a:r>
            <a:endParaRPr b="0" lang="en-US" sz="4400" spc="-1" strike="noStrike">
              <a:solidFill>
                <a:srgbClr val="000000"/>
              </a:solidFill>
              <a:latin typeface="Times New Roman"/>
            </a:endParaRPr>
          </a:p>
        </p:txBody>
      </p:sp>
      <p:pic>
        <p:nvPicPr>
          <p:cNvPr id="71" name="" descr=""/>
          <p:cNvPicPr/>
          <p:nvPr/>
        </p:nvPicPr>
        <p:blipFill>
          <a:blip r:embed="rId1"/>
          <a:stretch/>
        </p:blipFill>
        <p:spPr>
          <a:xfrm>
            <a:off x="1403280" y="1484280"/>
            <a:ext cx="5545080" cy="4216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ample: Low Reserve Game</a:t>
            </a:r>
            <a:endParaRPr b="0" lang="en-US" sz="4400" spc="-1" strike="noStrike">
              <a:solidFill>
                <a:srgbClr val="000000"/>
              </a:solidFill>
              <a:latin typeface="Times New Roman"/>
            </a:endParaRPr>
          </a:p>
        </p:txBody>
      </p:sp>
      <p:sp>
        <p:nvSpPr>
          <p:cNvPr id="7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suppose the government’s reserves are low, and are only 6.  In this case, either speculator has the ability to force a devaluation since they can completely exhaust the government’s reserves by their selling actions.  The following pay-off matrix will resul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one trader sold while the other did not, a profit of 2 will be mad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both traders sell, then the trading revenue of 3 is shared between them, each receiving 1.5 units each.  They then both pay the transaction charge of 1 to leave a possible profit of 0.5.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as any sell action would yield a profit, no trader would ever wish to hold, so both traders selling would be the equilibrium of the gam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nder what conditions then is a currency likely to come under attack?</a:t>
            </a:r>
            <a:endParaRPr b="0" lang="en-US" sz="3200" spc="-1" strike="noStrike">
              <a:solidFill>
                <a:srgbClr val="000000"/>
              </a:solidFill>
              <a:latin typeface="Times New Roman"/>
            </a:endParaRPr>
          </a:p>
        </p:txBody>
      </p:sp>
      <p:sp>
        <p:nvSpPr>
          <p:cNvPr id="75" name="PlaceHolder 2"/>
          <p:cNvSpPr>
            <a:spLocks noGrp="1"/>
          </p:cNvSpPr>
          <p:nvPr>
            <p:ph/>
          </p:nvPr>
        </p:nvSpPr>
        <p:spPr>
          <a:xfrm>
            <a:off x="628560" y="1295280"/>
            <a:ext cx="7886880" cy="472464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Balance of Payments Crisis</a:t>
            </a:r>
            <a:r>
              <a:rPr b="0" lang="en-GB" sz="2400" spc="-1" strike="noStrike">
                <a:solidFill>
                  <a:srgbClr val="000000"/>
                </a:solidFill>
                <a:latin typeface="Times New Roman"/>
              </a:rPr>
              <a:t>: The government runs down its reserves in the official financing of current account deficits.  Because reserves are limited, official financing cannot sustain deficits forever. </a:t>
            </a:r>
            <a:endParaRPr b="0" lang="en-US" sz="2400" spc="-1" strike="noStrike">
              <a:solidFill>
                <a:srgbClr val="000000"/>
              </a:solidFill>
              <a:latin typeface="Times New Roman"/>
            </a:endParaRPr>
          </a:p>
          <a:p>
            <a:pPr marL="578880" indent="-578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Inflation</a:t>
            </a:r>
            <a:r>
              <a:rPr b="0" lang="en-GB" sz="2400" spc="-1" strike="noStrike">
                <a:solidFill>
                  <a:srgbClr val="000000"/>
                </a:solidFill>
                <a:latin typeface="Times New Roman"/>
              </a:rPr>
              <a:t>: In a fixed exchange rate regime, runaway inflation will erode competitiveness, as there will be no offsetting exchange rate depreciations.  This will lead to the exchange rate being overvalued compared to its PPP level, and the erosion of competitiveness would put pressure on the current account.</a:t>
            </a:r>
            <a:endParaRPr b="0" lang="en-US" sz="2400" spc="-1" strike="noStrike">
              <a:solidFill>
                <a:srgbClr val="000000"/>
              </a:solidFill>
              <a:latin typeface="Times New Roman"/>
            </a:endParaRPr>
          </a:p>
          <a:p>
            <a:pPr marL="578880" indent="-578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Government deficits</a:t>
            </a:r>
            <a:r>
              <a:rPr b="0" lang="en-GB" sz="2400" spc="-1" strike="noStrike">
                <a:solidFill>
                  <a:srgbClr val="000000"/>
                </a:solidFill>
                <a:latin typeface="Times New Roman"/>
              </a:rPr>
              <a:t>: A government running a substantial debt may be encouraged to produce some inflation (seigniorage revenues) in order to reduce the real value of its debt.  Therefore, large deficits may be seen as inflationary, with consequences for competitiveness and the balance of pay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ample: Low Reserve Game</a:t>
            </a:r>
            <a:endParaRPr b="0" lang="en-US" sz="4400" spc="-1" strike="noStrike">
              <a:solidFill>
                <a:srgbClr val="000000"/>
              </a:solidFill>
              <a:latin typeface="Times New Roman"/>
            </a:endParaRPr>
          </a:p>
        </p:txBody>
      </p:sp>
      <p:pic>
        <p:nvPicPr>
          <p:cNvPr id="77" name="" descr=""/>
          <p:cNvPicPr/>
          <p:nvPr/>
        </p:nvPicPr>
        <p:blipFill>
          <a:blip r:embed="rId1"/>
          <a:stretch/>
        </p:blipFill>
        <p:spPr>
          <a:xfrm>
            <a:off x="1812960" y="1473120"/>
            <a:ext cx="5175360" cy="438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International Financial Markets and Currency Crises</a:t>
            </a:r>
            <a:endParaRPr b="0" lang="en-US" sz="4000" spc="-1" strike="noStrike">
              <a:solidFill>
                <a:srgbClr val="000000"/>
              </a:solidFill>
              <a:latin typeface="Times New Roman"/>
            </a:endParaRPr>
          </a:p>
        </p:txBody>
      </p:sp>
      <p:sp>
        <p:nvSpPr>
          <p:cNvPr id="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Internationalisation of Financial Mar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cy Cri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Generation Models: Latin America, 1981-8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 Generation Models: ERM, 1992; Mexico, </a:t>
            </a:r>
            <a:br>
              <a:rPr sz="2400"/>
            </a:br>
            <a:r>
              <a:rPr b="0" lang="en-GB" sz="2400" spc="-1" strike="noStrike">
                <a:solidFill>
                  <a:srgbClr val="000000"/>
                </a:solidFill>
                <a:latin typeface="Times New Roman"/>
              </a:rPr>
              <a:t>1994-95</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rd Generation Models: Asian Crises, 1997-98</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venting Currency Cri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rst generation models </a:t>
            </a:r>
            <a:endParaRPr b="0" lang="en-US" sz="4400" spc="-1" strike="noStrike">
              <a:solidFill>
                <a:srgbClr val="000000"/>
              </a:solidFill>
              <a:latin typeface="Times New Roman"/>
            </a:endParaRPr>
          </a:p>
        </p:txBody>
      </p:sp>
      <p:sp>
        <p:nvSpPr>
          <p:cNvPr id="7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generation of currency crises models links the onset of the crisis to one of these problems.  All of them are expected to lead to a demise in the external competitiveness of the nation and in a fall in reserves.  The eventual exhaustion of reserves would lead to a collapse in the fixed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iming of the crisis will be as soon as speculators believe that it will be successful, and this is when the government is down to some critical level of reserv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xed rate is ultimately unsustainable because of fundamental factors; the actions of speculators just bring its eventual demise forw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tin America, 1981-2 </a:t>
            </a:r>
            <a:endParaRPr b="0" lang="en-US" sz="4400" spc="-1" strike="noStrike">
              <a:solidFill>
                <a:srgbClr val="000000"/>
              </a:solidFill>
              <a:latin typeface="Times New Roman"/>
            </a:endParaRPr>
          </a:p>
        </p:txBody>
      </p:sp>
      <p:sp>
        <p:nvSpPr>
          <p:cNvPr id="8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a conventional example of a first generation currency crisi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conomies of Chile, Brazil, Mexico and Argentina were operating a fixed exchange rate against the $US.  These were collectively known as the Tablitas, which was a pre-announced schedule of depreciations against the US dollar known as a crawling peg.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a substantial inflation differential between these Latin American nations and the U.S. meant that inflation rose in excess of the currency depreciations, which eroded their competitiveness and put pressure on their balance of payment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econd generation models </a:t>
            </a:r>
            <a:endParaRPr b="0" lang="en-US" sz="4400" spc="-1" strike="noStrike">
              <a:solidFill>
                <a:srgbClr val="000000"/>
              </a:solidFill>
              <a:latin typeface="Times New Roman"/>
            </a:endParaRPr>
          </a:p>
        </p:txBody>
      </p:sp>
      <p:sp>
        <p:nvSpPr>
          <p:cNvPr id="83"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xtension to the game introduced above is the following, where the government has resources of 10 (medium reserve game).</a:t>
            </a:r>
            <a:endParaRPr b="0" lang="en-US" sz="2800" spc="-1" strike="noStrike">
              <a:solidFill>
                <a:srgbClr val="000000"/>
              </a:solidFill>
              <a:latin typeface="Times New Roman"/>
            </a:endParaRPr>
          </a:p>
        </p:txBody>
      </p:sp>
      <p:pic>
        <p:nvPicPr>
          <p:cNvPr id="84" name="" descr=""/>
          <p:cNvPicPr/>
          <p:nvPr/>
        </p:nvPicPr>
        <p:blipFill>
          <a:blip r:embed="rId1"/>
          <a:stretch/>
        </p:blipFill>
        <p:spPr>
          <a:xfrm>
            <a:off x="5029200" y="2576520"/>
            <a:ext cx="3103560" cy="246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econd generation models</a:t>
            </a:r>
            <a:endParaRPr b="0" lang="en-US" sz="4400" spc="-1" strike="noStrike">
              <a:solidFill>
                <a:srgbClr val="000000"/>
              </a:solidFill>
              <a:latin typeface="Times New Roman"/>
            </a:endParaRPr>
          </a:p>
        </p:txBody>
      </p:sp>
      <p:sp>
        <p:nvSpPr>
          <p:cNvPr id="8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eature of this game is that no trader on his own can initiate a crisis, but both working together ca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both hold, then the payoffs are obviously zero.  If one held and one sold, the seller would lose 1 unit.  However, if both sold, then the government would commit its reserves and make a 50% loss, so the trading revenue would be 5, or 2.5 each.  After paying the trading fee, residual profits are 1.5 eac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each trader’s optimal decision is to do what the other did, this game has two solutions.  Either both will sell, or both will hol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elf-fulfilling crises</a:t>
            </a:r>
            <a:endParaRPr b="0" lang="en-US" sz="4400" spc="-1" strike="noStrike">
              <a:solidFill>
                <a:srgbClr val="000000"/>
              </a:solidFill>
              <a:latin typeface="Times New Roman"/>
            </a:endParaRPr>
          </a:p>
        </p:txBody>
      </p:sp>
      <p:sp>
        <p:nvSpPr>
          <p:cNvPr id="8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nteresting feature of this game is that a currency crisis may hit one nation, whereas a similar country can escape such a situation.  If speculators decide to attack and can coordinate their actions, then the attack will be successful in forcing a devaluation.  In this case, there is a degree of arbitrariness about a speculative attack.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nd of the peg is not pre-ordained.  There may be no worsening trend in fundamentals, and no reason as to why a currency should necessarily be subject to attack. There is a range of fundamentals where a crisis may happen, but not necessarily must do.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such a situation, a crisis can become a self-fulfilling event. Coordination among speculators is required for pessimism to become self confirm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elf-fulfilling crises</a:t>
            </a:r>
            <a:endParaRPr b="0" lang="en-US" sz="4400" spc="-1" strike="noStrike">
              <a:solidFill>
                <a:srgbClr val="000000"/>
              </a:solidFill>
              <a:latin typeface="Times New Roman"/>
            </a:endParaRPr>
          </a:p>
        </p:txBody>
      </p:sp>
      <p:sp>
        <p:nvSpPr>
          <p:cNvPr id="9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ituation in which a crisis could happen, but need not presents speculators with a one way bet.  They will reap a huge capital gain by selling currency if the exchange rate regime collapses, but will make no losses (apart from transaction costs) if the collapse fails to materialise.  If self-fulfilling crises are a possibility, then what can create the coordination dynamics that can set them off?</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erding</a:t>
            </a:r>
            <a:r>
              <a:rPr b="0" lang="en-GB" sz="2400" spc="-1" strike="noStrike">
                <a:solidFill>
                  <a:srgbClr val="000000"/>
                </a:solidFill>
                <a:latin typeface="Times New Roman"/>
              </a:rPr>
              <a:t> is the simple idea that speculators will all move in the same direction because the behaviour of one will influence the behaviour of others in the same direction.</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rding</a:t>
            </a:r>
            <a:endParaRPr b="0" lang="en-US" sz="4400" spc="-1" strike="noStrike">
              <a:solidFill>
                <a:srgbClr val="000000"/>
              </a:solidFill>
              <a:latin typeface="Times New Roman"/>
            </a:endParaRPr>
          </a:p>
        </p:txBody>
      </p:sp>
      <p:sp>
        <p:nvSpPr>
          <p:cNvPr id="9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several explanations as to why this might happe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A </a:t>
            </a:r>
            <a:r>
              <a:rPr b="0" i="1" lang="en-GB" sz="2400" spc="-1" strike="noStrike">
                <a:solidFill>
                  <a:srgbClr val="000000"/>
                </a:solidFill>
                <a:latin typeface="Times New Roman"/>
              </a:rPr>
              <a:t>bandwagon effect</a:t>
            </a:r>
            <a:r>
              <a:rPr b="0" lang="en-GB" sz="2400" spc="-1" strike="noStrike">
                <a:solidFill>
                  <a:srgbClr val="000000"/>
                </a:solidFill>
                <a:latin typeface="Times New Roman"/>
              </a:rPr>
              <a:t> induced by the presumption that an investor has private informatio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 Behavioural finance models.  This relates to the psychology of fund managers who are compensated on their relative performance.  They have strong incentives to act alik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 Market manipulation.  As currency crises are such a profitable event for speculators, one would suspect that they would play the market strategically in order to induce a crisis.  An influential speculator may try to instigate a crisis from which they benefit by a combination of public statements and very clear large selling.  George Soros’ attack on the Sterling in the ERM is a classic case in poi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1</a:t>
            </a:r>
            <a:r>
              <a:rPr b="0" lang="en-GB" sz="4400" spc="-1" strike="noStrike" baseline="30000">
                <a:solidFill>
                  <a:srgbClr val="000000"/>
                </a:solidFill>
                <a:latin typeface="Times New Roman"/>
              </a:rPr>
              <a:t>st</a:t>
            </a:r>
            <a:r>
              <a:rPr b="0" lang="en-GB" sz="4400" spc="-1" strike="noStrike">
                <a:solidFill>
                  <a:srgbClr val="000000"/>
                </a:solidFill>
                <a:latin typeface="Times New Roman"/>
              </a:rPr>
              <a:t> and 2</a:t>
            </a:r>
            <a:r>
              <a:rPr b="0" lang="en-GB" sz="4400" spc="-1" strike="noStrike" baseline="30000">
                <a:solidFill>
                  <a:srgbClr val="000000"/>
                </a:solidFill>
                <a:latin typeface="Times New Roman"/>
              </a:rPr>
              <a:t>nd</a:t>
            </a:r>
            <a:r>
              <a:rPr b="0" lang="en-GB" sz="4400" spc="-1" strike="noStrike">
                <a:solidFill>
                  <a:srgbClr val="000000"/>
                </a:solidFill>
                <a:latin typeface="Times New Roman"/>
              </a:rPr>
              <a:t> generation models</a:t>
            </a:r>
            <a:endParaRPr b="0" lang="en-US" sz="4400" spc="-1" strike="noStrike">
              <a:solidFill>
                <a:srgbClr val="000000"/>
              </a:solidFill>
              <a:latin typeface="Times New Roman"/>
            </a:endParaRPr>
          </a:p>
        </p:txBody>
      </p:sp>
      <p:sp>
        <p:nvSpPr>
          <p:cNvPr id="94" name="PlaceHolder 2"/>
          <p:cNvSpPr>
            <a:spLocks noGrp="1"/>
          </p:cNvSpPr>
          <p:nvPr>
            <p:ph/>
          </p:nvPr>
        </p:nvSpPr>
        <p:spPr>
          <a:xfrm>
            <a:off x="628560" y="1295280"/>
            <a:ext cx="7886880" cy="47246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s common to both first and second generation models of currency crises is that a speculative attack is most likely to work when the policy maker is not prepared to defend the currency. </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first generation model, it is because something fundamental about the economy ultimately makes the fixed parity unsustainable.  A speculative attack just brings forward the inevitable.</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second generation model, a speculative attack may or may not happen, but what is likely to make speculators attack a particular country?  This will be when the policy maker may be unwilling to defend the parity of the currency.  This is most likely to be the case (as we’ll see with the ERM and Mexican crises) when such a commitment would require measures that the policy maker would rather not tak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y might the exchange rate be so hard to peg?</a:t>
            </a:r>
            <a:endParaRPr b="0" lang="en-US" sz="3600" spc="-1" strike="noStrike">
              <a:solidFill>
                <a:srgbClr val="000000"/>
              </a:solidFill>
              <a:latin typeface="Times New Roman"/>
            </a:endParaRPr>
          </a:p>
        </p:txBody>
      </p:sp>
      <p:sp>
        <p:nvSpPr>
          <p:cNvPr id="9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pital market deregulation has led to an explosion in hot money flows.  A common misperception is that daily trading of currencies is too large – exceeding $1 trillion per day – and that no government could hope to defend their currency against such an attack.  The largest individual hedge funds command enough resources to wipe out the foreign exchange reserves of all but 20 central banks.</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example, in 1994, Soros Management reported investment capital of $11 billion and Tiger management of more than $6 billion.  An estimate of total hedge fund reserves was $75-100 billion.</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y might the exchange rate be so hard to peg?</a:t>
            </a:r>
            <a:endParaRPr b="0" lang="en-US" sz="3600" spc="-1" strike="noStrike">
              <a:solidFill>
                <a:srgbClr val="000000"/>
              </a:solidFill>
              <a:latin typeface="Times New Roman"/>
            </a:endParaRPr>
          </a:p>
        </p:txBody>
      </p:sp>
      <p:sp>
        <p:nvSpPr>
          <p:cNvPr id="9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pite the existence of these large funds, there is no insurmountable obstacle to fixing the exchange rat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simply because a monetary authority can use the interest rate to defend the currenc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UIP, we know that the exchange rate will change unles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this has to be the minimum interest rate that the government can offer.   </a:t>
            </a:r>
            <a:r>
              <a:rPr b="0" i="1" lang="el-GR" sz="2400" spc="-1" strike="noStrike">
                <a:solidFill>
                  <a:srgbClr val="000000"/>
                </a:solidFill>
                <a:latin typeface="Times New Roman"/>
                <a:ea typeface="Arial"/>
              </a:rPr>
              <a:t>ρ</a:t>
            </a:r>
            <a:r>
              <a:rPr b="0" lang="en-GB" sz="2400" spc="-1" strike="noStrike">
                <a:solidFill>
                  <a:srgbClr val="000000"/>
                </a:solidFill>
                <a:latin typeface="Times New Roman"/>
                <a:ea typeface="Arial"/>
              </a:rPr>
              <a:t> </a:t>
            </a:r>
            <a:r>
              <a:rPr b="0" lang="en-GB" sz="2400" spc="-1" strike="noStrike">
                <a:solidFill>
                  <a:srgbClr val="000000"/>
                </a:solidFill>
                <a:latin typeface="Times New Roman"/>
              </a:rPr>
              <a:t>reflects the relative risk premium of domestic and foreign assets.  </a:t>
            </a:r>
            <a:endParaRPr b="0" lang="en-US" sz="2400" spc="-1" strike="noStrike">
              <a:solidFill>
                <a:srgbClr val="000000"/>
              </a:solidFill>
              <a:latin typeface="Times New Roman"/>
            </a:endParaRPr>
          </a:p>
        </p:txBody>
      </p:sp>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0" name=""/>
              <p:cNvSpPr txBox="1"/>
              <p:nvPr/>
            </p:nvSpPr>
            <p:spPr>
              <a:xfrm>
                <a:off x="3203640" y="3429000"/>
                <a:ext cx="1800000" cy="625320"/>
              </a:xfrm>
              <a:prstGeom prst="rect">
                <a:avLst/>
              </a:prstGeom>
            </p:spPr>
            <p:txBody>
              <a:bodyPr/>
              <a:p>
                <a14:m>
                  <m:oMath xmlns:m="http://schemas.openxmlformats.org/officeDocument/2006/math">
                    <m:r>
                      <m:t xml:space="preserve">r</m:t>
                    </m:r>
                    <m:r>
                      <m:t xml:space="preserve">=</m:t>
                    </m:r>
                    <m:sSup>
                      <m:e>
                        <m:r>
                          <m:t xml:space="preserve">r</m:t>
                        </m:r>
                      </m:e>
                      <m:sup/>
                    </m:sSup>
                    <m:r>
                      <m:t xml:space="preserve">+</m:t>
                    </m:r>
                    <m:r>
                      <m:t xml:space="preserve">ρ</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arn about the internationalisation of financial mark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termine the causes of currency crises around the wor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ssess policy options to combat currency cr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y might the exchange rate be so hard to peg?</a:t>
            </a:r>
            <a:endParaRPr b="0" lang="en-US" sz="3600" spc="-1" strike="noStrike">
              <a:solidFill>
                <a:srgbClr val="000000"/>
              </a:solidFill>
              <a:latin typeface="Times New Roman"/>
            </a:endParaRPr>
          </a:p>
        </p:txBody>
      </p:sp>
      <p:sp>
        <p:nvSpPr>
          <p:cNvPr id="10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isk premium largely reflects the probability of a devaluation (as a devaluation will result in capital losses for foreign investors).  Consequently, as the expectation of a devaluation becomes larger, the risk premium rises, which requires a larger interest rate to attract the necessary inflow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high interest rates will have an adverse impact on the rest of the econom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vernment is then faced with a choice: it can either accept the higher rate with its effects on the domestic economy, or it can abandon the fixed rate and let the currency depreciat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vernment’s resolve to defend the currency will be influenced by its ability to accept higher interest ra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y might the exchange rate be so hard to peg?</a:t>
            </a:r>
            <a:endParaRPr b="0" lang="en-US" sz="3600" spc="-1" strike="noStrike">
              <a:solidFill>
                <a:srgbClr val="000000"/>
              </a:solidFill>
              <a:latin typeface="Times New Roman"/>
            </a:endParaRPr>
          </a:p>
        </p:txBody>
      </p:sp>
      <p:sp>
        <p:nvSpPr>
          <p:cNvPr id="10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der what conditions might the rise in interest rates required be intolerable?</a:t>
            </a:r>
            <a:endParaRPr b="0" lang="en-US" sz="2800" spc="-1" strike="noStrike">
              <a:solidFill>
                <a:srgbClr val="000000"/>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53352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employment – significant unemployment will make rises in interest rates more unbearable.</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blic debt – highly indebted countries with short term debt will find the chances of fiscal insolvency are greatly increased if the threat of devaluation drives up interest rates, e.g., Italy in 1992.</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nks – higher interest rates may lead to corporate and personal bankruptcies which will increase the number of non-performing loans held by creditors, perhaps precipitating a banking crisis.</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conventional model of a currency crisis</a:t>
            </a:r>
            <a:endParaRPr b="0" lang="en-US" sz="3200" spc="-1" strike="noStrike">
              <a:solidFill>
                <a:srgbClr val="000000"/>
              </a:solidFill>
              <a:latin typeface="Times New Roman"/>
            </a:endParaRPr>
          </a:p>
        </p:txBody>
      </p:sp>
      <p:sp>
        <p:nvSpPr>
          <p:cNvPr id="10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ree ingredients which lead to a potential crisi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A reason as to why the government may wish to abandon the fixed exchang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 A reason as to why the government would wish to defend the exchange rate; so there is a degree of conflict between its objectiv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 The cost of defending a currency must increase when people expect that the rate might be abandone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three factors taken together is all that is required to generate a conventional model of a currency crisi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y might the exchange rate be so hard to peg?</a:t>
            </a:r>
            <a:endParaRPr b="0" lang="en-US" sz="3600" spc="-1" strike="noStrike">
              <a:solidFill>
                <a:srgbClr val="000000"/>
              </a:solidFill>
              <a:latin typeface="Times New Roman"/>
            </a:endParaRPr>
          </a:p>
        </p:txBody>
      </p:sp>
      <p:sp>
        <p:nvSpPr>
          <p:cNvPr id="10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nation may have reasons to defend the currenc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xed exchange rate is important for facilitating international trade and invest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way of introducing inflation discipline/credibility into the economy.</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if under pressure of a devaluation, the cost of defending the currency becomes too great, the policy maker may be prepared to let go of the fixed parity.  A speculative attack on the currency may then become likely as speculators are prepared to gamble on the resolve of the policy maker to sustain the high interest rates necessary to defend the curr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RM crisis, 1992</a:t>
            </a:r>
            <a:endParaRPr b="0" lang="en-US" sz="4400" spc="-1" strike="noStrike">
              <a:solidFill>
                <a:srgbClr val="000000"/>
              </a:solidFill>
              <a:latin typeface="Times New Roman"/>
            </a:endParaRPr>
          </a:p>
        </p:txBody>
      </p:sp>
      <p:sp>
        <p:nvSpPr>
          <p:cNvPr id="110" name="PlaceHolder 2"/>
          <p:cNvSpPr>
            <a:spLocks noGrp="1"/>
          </p:cNvSpPr>
          <p:nvPr>
            <p:ph/>
          </p:nvPr>
        </p:nvSpPr>
        <p:spPr>
          <a:xfrm>
            <a:off x="457200" y="1295280"/>
            <a:ext cx="8229600" cy="472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1992, massive speculation led to the exit of Britain, Spain and Italy from the ERM. All these countries fit the second generation model well, but the UK example is particularly illuminatin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UK’s decision to join the ERM (Exchange rate Mechanism) was the cornerstone of its anti-inflation policy.  By fixing the pound (£) against the German Deutschmark (DM), Germany’s low inflation discipline could be imported, and for a time, it worked as UK inflation came under control from its peak in 1990.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maintaining the fixed exchange rate against the DM required UK interest rates to follow German levels.  German reunification was largely paid for by borrowing rather than tax cuts, and in order to prevent inflation, the German Bundesbank substantially increased German interest r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UK interest rates: upward push in 1990-91 </a:t>
            </a:r>
            <a:endParaRPr b="0" lang="en-US" sz="4000" spc="-1" strike="noStrike">
              <a:solidFill>
                <a:srgbClr val="000000"/>
              </a:solidFill>
              <a:latin typeface="Times New Roman"/>
            </a:endParaRPr>
          </a:p>
        </p:txBody>
      </p:sp>
      <p:pic>
        <p:nvPicPr>
          <p:cNvPr id="112" name="" descr=""/>
          <p:cNvPicPr/>
          <p:nvPr/>
        </p:nvPicPr>
        <p:blipFill>
          <a:blip r:embed="rId1"/>
          <a:stretch/>
        </p:blipFill>
        <p:spPr>
          <a:xfrm>
            <a:off x="1514520" y="1666800"/>
            <a:ext cx="6114960" cy="4284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K unemployment</a:t>
            </a:r>
            <a:endParaRPr b="0" lang="en-US" sz="4400" spc="-1" strike="noStrike">
              <a:solidFill>
                <a:srgbClr val="000000"/>
              </a:solidFill>
              <a:latin typeface="Times New Roman"/>
            </a:endParaRPr>
          </a:p>
        </p:txBody>
      </p:sp>
      <p:pic>
        <p:nvPicPr>
          <p:cNvPr id="114" name="" descr=""/>
          <p:cNvPicPr/>
          <p:nvPr/>
        </p:nvPicPr>
        <p:blipFill>
          <a:blip r:embed="rId1"/>
          <a:stretch/>
        </p:blipFill>
        <p:spPr>
          <a:xfrm>
            <a:off x="1495440" y="1662120"/>
            <a:ext cx="6153120" cy="4294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DM Exchange Rate</a:t>
            </a:r>
            <a:endParaRPr b="0" lang="en-US" sz="4400" spc="-1" strike="noStrike">
              <a:solidFill>
                <a:srgbClr val="000000"/>
              </a:solidFill>
              <a:latin typeface="Times New Roman"/>
            </a:endParaRPr>
          </a:p>
        </p:txBody>
      </p:sp>
      <p:pic>
        <p:nvPicPr>
          <p:cNvPr id="116" name="" descr=""/>
          <p:cNvPicPr/>
          <p:nvPr/>
        </p:nvPicPr>
        <p:blipFill>
          <a:blip r:embed="rId1"/>
          <a:stretch/>
        </p:blipFill>
        <p:spPr>
          <a:xfrm>
            <a:off x="1463760" y="1725480"/>
            <a:ext cx="6216480" cy="4167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RM crisis, 1992</a:t>
            </a:r>
            <a:endParaRPr b="0" lang="en-US" sz="4400" spc="-1" strike="noStrike">
              <a:solidFill>
                <a:srgbClr val="000000"/>
              </a:solidFill>
              <a:latin typeface="Times New Roman"/>
            </a:endParaRPr>
          </a:p>
        </p:txBody>
      </p:sp>
      <p:sp>
        <p:nvSpPr>
          <p:cNvPr id="11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e UK needed lower interest rates in order to try and invigorate the economy and reduce unemployment.  As this was impossible for as long the UK belonged to the ERM and there was no movement in German interest rates, there was a clear argument for abandoning the fixed exchange rat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ulative pressure on the pound arose because simply because of this conflict of policy objectives.  If the pound came under heavy selling pressure, it would seem a very reasonable policy for the UK to simply let the pound devalue and sacrifice ERM membership.  This is because to defend the pound would require higher and higher interest rates, which would be intolerable for domestic reas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RM crisis, 1992</a:t>
            </a:r>
            <a:endParaRPr b="0" lang="en-US" sz="4400" spc="-1" strike="noStrike">
              <a:solidFill>
                <a:srgbClr val="000000"/>
              </a:solidFill>
              <a:latin typeface="Times New Roman"/>
            </a:endParaRPr>
          </a:p>
        </p:txBody>
      </p:sp>
      <p:sp>
        <p:nvSpPr>
          <p:cNvPr id="12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orge Soros accumulated a $15 billion short position against the pound. On Black Wednesday, a brief defence of the pound was undertaken: interest rates rose from 10% to 12%, and then further to 15%.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did not avert the attack, but the UK could have imposed higher interest rates if it really wanted to. (For example, Swedish overnight interest rates jumped to 500% at one point).  However, when 15% did not work, the UK government gave up the parity, prompting a collapse in the £ against the D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it from the ERM, though, wasn’t necessarily such bad news.  Firstly, it enabled UK interest rates to come down quite sharply and the depreciation in the exchange rate boosted UK competitiveness.  The result was that the UK economy began to grow, and unemployment fell.</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nternational Financial Market</a:t>
            </a:r>
            <a:endParaRPr b="0" lang="en-US" sz="44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nce the 1980s, though, there has been a dramatic reduction in exchange controls throughout the world, leading to a large rise in international capital mobilit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sequence is that financial markets in different countries have become increasingly interlinked, given rise to what can be described as an international financial market.  In addition, the scale of international trading has risen dramaticall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jority of this is short term and highly liquid, known as “hot money,” which can move quickly in and out of different markets in different countri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explains how financial markets have come to be increasingly linked together, giving rise to what is known as the international financial marke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atomy of the ERM crisis </a:t>
            </a:r>
            <a:endParaRPr b="0" lang="en-US" sz="4400" spc="-1" strike="noStrike">
              <a:solidFill>
                <a:srgbClr val="000000"/>
              </a:solidFill>
              <a:latin typeface="Times New Roman"/>
            </a:endParaRPr>
          </a:p>
        </p:txBody>
      </p:sp>
      <p:pic>
        <p:nvPicPr>
          <p:cNvPr id="122" name="" descr=""/>
          <p:cNvPicPr/>
          <p:nvPr/>
        </p:nvPicPr>
        <p:blipFill>
          <a:blip r:embed="rId1"/>
          <a:stretch/>
        </p:blipFill>
        <p:spPr>
          <a:xfrm>
            <a:off x="2432160" y="1457280"/>
            <a:ext cx="4279680" cy="4703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exico crisis, 1994-5</a:t>
            </a:r>
            <a:endParaRPr b="0" lang="en-US" sz="4400" spc="-1" strike="noStrike">
              <a:solidFill>
                <a:srgbClr val="000000"/>
              </a:solidFill>
              <a:latin typeface="Times New Roman"/>
            </a:endParaRPr>
          </a:p>
        </p:txBody>
      </p:sp>
      <p:sp>
        <p:nvSpPr>
          <p:cNvPr id="12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ior to the collapse, the Mexican peso had been operating a fixed parity against the $US.  However, leading up to the end of 1994, there were several underlying weaknesses in the Mexican economy which led speculators to question the sustainability of the peg.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cerns originated from PPP calculations, which indicated that prices/costs had risen in excess of trading partners, implying that the fixed exchange rate was overvalued.  This was the cause of a growing current account deficit, rising from 7% of GDP in 1993 and 8% in 1994.</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ntral bank reserves were running down and defending the currency was requiring higher interest rates, which there was high unemploymen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re was political pressure for a devaluation.  Mexico had a history of devaluing in election years.  Civil unrest at the hard economic conditions culminated in the assassination of Luis Donaldo Colosio, the ruling party’s presidential candidate.  Monetary policy was relaxed in the build-up to elections and, at the same time, the election year rise in public spending had weakened the government’s fiscal posi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collapse of the Mexican peso against the $US in 1994 </a:t>
            </a:r>
            <a:endParaRPr b="0" lang="en-US" sz="4000" spc="-1" strike="noStrike">
              <a:solidFill>
                <a:srgbClr val="000000"/>
              </a:solidFill>
              <a:latin typeface="Times New Roman"/>
            </a:endParaRPr>
          </a:p>
        </p:txBody>
      </p:sp>
      <p:pic>
        <p:nvPicPr>
          <p:cNvPr id="126" name="" descr=""/>
          <p:cNvPicPr/>
          <p:nvPr/>
        </p:nvPicPr>
        <p:blipFill>
          <a:blip r:embed="rId1"/>
          <a:stretch/>
        </p:blipFill>
        <p:spPr>
          <a:xfrm>
            <a:off x="1573200" y="2049480"/>
            <a:ext cx="5997600" cy="3519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exico crisis, 1994-5</a:t>
            </a:r>
            <a:endParaRPr b="0" lang="en-US" sz="4400" spc="-1" strike="noStrike">
              <a:solidFill>
                <a:srgbClr val="000000"/>
              </a:solidFill>
              <a:latin typeface="Times New Roman"/>
            </a:endParaRPr>
          </a:p>
        </p:txBody>
      </p:sp>
      <p:sp>
        <p:nvSpPr>
          <p:cNvPr id="12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rowing need for a devaluation, though, was initially ignored by policy makers.  Even if it made sense to devalue, the cost in terms of credibility would be high.  The fixed exchange rate regime and price stability would, if the present difficulties could be tolerated, would yield the conditions that are favourable to long term investment – a due consideration for an emerging market economy that is largely dependent on outside inves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alling peso threatened to create a large spike in inflation (due to more expensive imports) requiring a very large increase in short term interest rates, leading to a substantial fall in aggregate demand and output.  GDP fell by 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RM and Mexico Crises</a:t>
            </a:r>
            <a:endParaRPr b="0" lang="en-US" sz="4400" spc="-1" strike="noStrike">
              <a:solidFill>
                <a:srgbClr val="000000"/>
              </a:solidFill>
              <a:latin typeface="Times New Roman"/>
            </a:endParaRPr>
          </a:p>
        </p:txBody>
      </p:sp>
      <p:sp>
        <p:nvSpPr>
          <p:cNvPr id="13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eneral principle behind attacks seems to be the inconsistency in policy making and that ultimately governments are prepared to forsake long term political or inflation credibility for a short run economic expansion.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atin American crisis shares some common features with the ERM collapse, but the most striking difference was in the aftermath.  The countries that were forced to parachute out of the ERM performed well; the depreciation injected competitiveness, and the freedom to reduce interest rates was exercised.  However, the Mexican economy suffered severe downturns following deval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ird generation models: Asian Crises, 1997-98 </a:t>
            </a:r>
            <a:endParaRPr b="0" lang="en-US" sz="4000" spc="-1" strike="noStrike">
              <a:solidFill>
                <a:srgbClr val="000000"/>
              </a:solidFill>
              <a:latin typeface="Times New Roman"/>
            </a:endParaRPr>
          </a:p>
        </p:txBody>
      </p:sp>
      <p:sp>
        <p:nvSpPr>
          <p:cNvPr id="13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sian five – Thailand, Malaysia, South Korea, Indonesia and the Philippines – all suffered from a collapse in the currency brought on by large scale outflows of financial capital.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 until this time, these currencies were held relatively fixed against the $US.  It is clear that the rapid drop in the exchange rate is a similar feature to the crises already described, but that is where the comparisons finish.</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there were those who questioned the extent of Asia’s economic miracle, it was largely unthinkable that the region would suffer the crisis that it did.  True, current account deficits were rising, but these were offset by a healthy capital accou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alance of Payments 1990-96</a:t>
            </a:r>
            <a:br>
              <a:rPr sz="3200"/>
            </a:br>
            <a:r>
              <a:rPr b="0" lang="en-GB" sz="3200" spc="-1" strike="noStrike">
                <a:solidFill>
                  <a:srgbClr val="000000"/>
                </a:solidFill>
                <a:latin typeface="Times New Roman"/>
              </a:rPr>
              <a:t>(% of GDP)</a:t>
            </a:r>
            <a:endParaRPr b="0" lang="en-US" sz="3200" spc="-1" strike="noStrike">
              <a:solidFill>
                <a:srgbClr val="000000"/>
              </a:solidFill>
              <a:latin typeface="Times New Roman"/>
            </a:endParaRPr>
          </a:p>
        </p:txBody>
      </p:sp>
      <p:sp>
        <p:nvSpPr>
          <p:cNvPr id="13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Korea  Indonesia    Malaysia</a:t>
            </a:r>
            <a:r>
              <a:rPr b="0" lang="en-GB" sz="1600" spc="-1" strike="noStrike">
                <a:solidFill>
                  <a:srgbClr val="000000"/>
                </a:solidFill>
                <a:latin typeface="Times New Roman"/>
              </a:rPr>
              <a:t>	</a:t>
            </a:r>
            <a:r>
              <a:rPr b="0" lang="en-GB" sz="1600" spc="-1" strike="noStrike">
                <a:solidFill>
                  <a:srgbClr val="000000"/>
                </a:solidFill>
                <a:latin typeface="Times New Roman"/>
              </a:rPr>
              <a:t>Philippines   Thailan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urrent</a:t>
            </a:r>
            <a:r>
              <a:rPr b="0" lang="en-GB" sz="1600" spc="-1" strike="noStrike">
                <a:solidFill>
                  <a:srgbClr val="000000"/>
                </a:solidFill>
                <a:latin typeface="Times New Roman"/>
              </a:rPr>
              <a:t>	</a:t>
            </a:r>
            <a:r>
              <a:rPr b="0" lang="en-GB" sz="1600" spc="-1" strike="noStrike">
                <a:solidFill>
                  <a:srgbClr val="000000"/>
                </a:solidFill>
                <a:latin typeface="Times New Roman"/>
              </a:rPr>
              <a:t> Account    -1.7</a:t>
            </a:r>
            <a:r>
              <a:rPr b="0" lang="en-GB" sz="1600" spc="-1" strike="noStrike">
                <a:solidFill>
                  <a:srgbClr val="000000"/>
                </a:solidFill>
                <a:latin typeface="Times New Roman"/>
              </a:rPr>
              <a:t>	</a:t>
            </a:r>
            <a:r>
              <a:rPr b="0" lang="en-GB" sz="1600" spc="-1" strike="noStrike">
                <a:solidFill>
                  <a:srgbClr val="000000"/>
                </a:solidFill>
                <a:latin typeface="Times New Roman"/>
              </a:rPr>
              <a:t>      -2.5</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5.6</a:t>
            </a:r>
            <a:r>
              <a:rPr b="0" lang="en-GB" sz="1600" spc="-1" strike="noStrike">
                <a:solidFill>
                  <a:srgbClr val="000000"/>
                </a:solidFill>
                <a:latin typeface="Times New Roman"/>
              </a:rPr>
              <a:t>	</a:t>
            </a:r>
            <a:r>
              <a:rPr b="0" lang="en-GB" sz="1600" spc="-1" strike="noStrike">
                <a:solidFill>
                  <a:srgbClr val="000000"/>
                </a:solidFill>
                <a:latin typeface="Times New Roman"/>
              </a:rPr>
              <a:t>-3.3</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6.8</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apital Account       2.5</a:t>
            </a:r>
            <a:r>
              <a:rPr b="0" lang="en-GB" sz="1600" spc="-1" strike="noStrike">
                <a:solidFill>
                  <a:srgbClr val="000000"/>
                </a:solidFill>
                <a:latin typeface="Times New Roman"/>
              </a:rPr>
              <a:t>	</a:t>
            </a:r>
            <a:r>
              <a:rPr b="0" lang="en-GB" sz="1600" spc="-1" strike="noStrike">
                <a:solidFill>
                  <a:srgbClr val="000000"/>
                </a:solidFill>
                <a:latin typeface="Times New Roman"/>
              </a:rPr>
              <a:t>       4.1</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9.6</a:t>
            </a:r>
            <a:r>
              <a:rPr b="0" lang="en-GB" sz="1600" spc="-1" strike="noStrike">
                <a:solidFill>
                  <a:srgbClr val="000000"/>
                </a:solidFill>
                <a:latin typeface="Times New Roman"/>
              </a:rPr>
              <a:t>	</a:t>
            </a:r>
            <a:r>
              <a:rPr b="0" lang="en-GB" sz="1600" spc="-1" strike="noStrike">
                <a:solidFill>
                  <a:srgbClr val="000000"/>
                </a:solidFill>
                <a:latin typeface="Times New Roman"/>
              </a:rPr>
              <a:t>5.5</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10.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count Reserve    -0.6</a:t>
            </a:r>
            <a:r>
              <a:rPr b="0" lang="en-GB" sz="1600" spc="-1" strike="noStrike">
                <a:solidFill>
                  <a:srgbClr val="000000"/>
                </a:solidFill>
                <a:latin typeface="Times New Roman"/>
              </a:rPr>
              <a:t>	</a:t>
            </a:r>
            <a:r>
              <a:rPr b="0" lang="en-GB" sz="1600" spc="-1" strike="noStrike">
                <a:solidFill>
                  <a:srgbClr val="000000"/>
                </a:solidFill>
                <a:latin typeface="Times New Roman"/>
              </a:rPr>
              <a:t>      -1.1</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5.0</a:t>
            </a:r>
            <a:r>
              <a:rPr b="0" lang="en-GB" sz="1600" spc="-1" strike="noStrike">
                <a:solidFill>
                  <a:srgbClr val="000000"/>
                </a:solidFill>
                <a:latin typeface="Times New Roman"/>
              </a:rPr>
              <a:t>	</a:t>
            </a:r>
            <a:r>
              <a:rPr b="0" lang="en-GB" sz="1600" spc="-1" strike="noStrike">
                <a:solidFill>
                  <a:srgbClr val="000000"/>
                </a:solidFill>
                <a:latin typeface="Times New Roman"/>
              </a:rPr>
              <a:t>-1.8</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3.6</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sset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ource: IM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sian Crises, 1997-98</a:t>
            </a:r>
            <a:endParaRPr b="0" lang="en-US" sz="4400" spc="-1" strike="noStrike">
              <a:solidFill>
                <a:srgbClr val="000000"/>
              </a:solidFill>
              <a:latin typeface="Times New Roman"/>
            </a:endParaRPr>
          </a:p>
        </p:txBody>
      </p:sp>
      <p:sp>
        <p:nvSpPr>
          <p:cNvPr id="13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ppeared to be no reason for the crisis that could be explained by conventional first and second generation models.  On the eve of the crisis, inflation was low and there was no excessive fiscal defici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 of five Asian economies were also considered as the model for emerging economies to follow.  Terms such as tiger economies or the Asian miracle were readily applie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ading up to the crisis, these economies had posted impressively large and sustained economic growth figures.  The growing economy and low unemployment suggested that there was no real incentive to abandon the fixed ra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sian Crises, 1997-98</a:t>
            </a:r>
            <a:endParaRPr b="0" lang="en-US" sz="4400" spc="-1" strike="noStrike">
              <a:solidFill>
                <a:srgbClr val="000000"/>
              </a:solidFill>
              <a:latin typeface="Times New Roman"/>
            </a:endParaRPr>
          </a:p>
        </p:txBody>
      </p:sp>
      <p:sp>
        <p:nvSpPr>
          <p:cNvPr id="13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ddition, the crisis was relatively unpredicted.  Most risk assessments of the area in mid 1996 showed no expectation of what was to come in the following month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ventional (1st and 2nd generation) currency crisis models tend to fit the Asian experience badly because the currency crisis was simply part of a larger financial crisis.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apses in the currency were joined with collapses in asset prices and bank failures.  The crisis also spread infectiously across the entire region, the MIT (Malaysia, Indonesia, and Thailand) economies were strongly linked by trade, but South Korea was not and still suffered.</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sian Crises, 1997-98</a:t>
            </a:r>
            <a:endParaRPr b="0" lang="en-US" sz="4400" spc="-1" strike="noStrike">
              <a:solidFill>
                <a:srgbClr val="000000"/>
              </a:solidFill>
              <a:latin typeface="Times New Roman"/>
            </a:endParaRPr>
          </a:p>
        </p:txBody>
      </p:sp>
      <p:sp>
        <p:nvSpPr>
          <p:cNvPr id="140" name="PlaceHolder 2"/>
          <p:cNvSpPr>
            <a:spLocks noGrp="1"/>
          </p:cNvSpPr>
          <p:nvPr>
            <p:ph/>
          </p:nvPr>
        </p:nvSpPr>
        <p:spPr>
          <a:xfrm>
            <a:off x="628560" y="1295280"/>
            <a:ext cx="7886880" cy="472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analysis of the crisis appears to go along these lin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merging markets in Asia in the proceeding years had received large inflows of capital, much of which had been loaned to Asian banks who were poorly regulated and had invested badly in speculative real estate, amongst other things.  This led to an asset price bubbl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the impressive growth figures masked deep underlying fragilities.  This was particularly true in the banking system where the bubble in domestic asset prices and over exposure to foreign creditors made the economy vulnerable to a financial panic.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general terms, a panic arises when short term debts exceed short term assets.  If a run starts, investors know that there are insufficient funds to pay all creditors.  This encourages quick liquidation in order to avoid los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Currency Crises</a:t>
            </a:r>
            <a:endParaRPr b="0" lang="en-US" sz="4400" spc="-1" strike="noStrike">
              <a:solidFill>
                <a:srgbClr val="000000"/>
              </a:solidFill>
              <a:latin typeface="Times New Roman"/>
            </a:endParaRPr>
          </a:p>
        </p:txBody>
      </p:sp>
      <p:sp>
        <p:nvSpPr>
          <p:cNvPr id="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uring the last decades, there have been various episodes of high volatility in currency marke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urrency crisis arises when a currency comes under huge selling pressure forcing a very large and dramatic devalua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veloping and transition countries have traditionally been the victims, especially in Latin America and more recently in Asi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e collapse of the Exchange Rate Mechanism (ERM) in the early 1990s aptly demonstrates that developed nations can also be prone to these cri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sian Crises, 1997-98</a:t>
            </a:r>
            <a:endParaRPr b="0" lang="en-US" sz="4400" spc="-1" strike="noStrike">
              <a:solidFill>
                <a:srgbClr val="000000"/>
              </a:solidFill>
              <a:latin typeface="Times New Roman"/>
            </a:endParaRPr>
          </a:p>
        </p:txBody>
      </p:sp>
      <p:sp>
        <p:nvSpPr>
          <p:cNvPr id="1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veral triggering factors led to a quick withdrawal of investor funds in the region.  The main element of the currency crisis was the sudden reversal of the large private capital flows that had previously flowed into the region.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roblem with such panics is that they may involve some degree of </a:t>
            </a:r>
            <a:r>
              <a:rPr b="0" i="1" lang="en-GB" sz="2800" spc="-1" strike="noStrike">
                <a:solidFill>
                  <a:srgbClr val="000000"/>
                </a:solidFill>
                <a:latin typeface="Times New Roman"/>
              </a:rPr>
              <a:t>disorderly workout</a:t>
            </a:r>
            <a:r>
              <a:rPr b="0" lang="en-GB" sz="2800" spc="-1" strike="noStrike">
                <a:solidFill>
                  <a:srgbClr val="000000"/>
                </a:solidFill>
                <a:latin typeface="Times New Roman"/>
              </a:rPr>
              <a:t>.  This is when an insolvent or an illiquid borrower provokes a creditor grab even though the borrower is worth more as an ongoing enterprise.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apital Flows into and out of the Asian 5</a:t>
            </a:r>
            <a:endParaRPr b="0" lang="en-US" sz="4000" spc="-1" strike="noStrike">
              <a:solidFill>
                <a:srgbClr val="000000"/>
              </a:solidFill>
              <a:latin typeface="Times New Roman"/>
            </a:endParaRPr>
          </a:p>
        </p:txBody>
      </p:sp>
      <p:sp>
        <p:nvSpPr>
          <p:cNvPr id="144" name="PlaceHolder 2"/>
          <p:cNvSpPr>
            <a:spLocks noGrp="1"/>
          </p:cNvSpPr>
          <p:nvPr>
            <p:ph/>
          </p:nvPr>
        </p:nvSpPr>
        <p:spPr>
          <a:xfrm>
            <a:off x="628560" y="1218960"/>
            <a:ext cx="7886880" cy="47242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1996, private net flows into these economies were $93 billion.  The majority of this (92%) was accounted for by private creditors and portfolio investment.  Direct physical investment (factories, etc.) made up a very small part of the inflow. </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large scale inflows were encouraged by several factors:</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inuing and high economic growth gave confidence to foreign investors.</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de-ranging deregulation enabled banks and domestic corporations to tap into foreign finance for domestic investments.</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minal exchange rates were pegged to the $US and hence the removal of exchange rate uncertainty encouraged inward investment.</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overnments gave special incentives that encouraged foreign borrowing, e.g., no reserve requirements for foreign exchange rate loan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apital Flows into and out of the Asian 5</a:t>
            </a:r>
            <a:endParaRPr b="0" lang="en-US" sz="4000" spc="-1" strike="noStrike">
              <a:solidFill>
                <a:srgbClr val="000000"/>
              </a:solidFill>
              <a:latin typeface="Times New Roman"/>
            </a:endParaRPr>
          </a:p>
        </p:txBody>
      </p:sp>
      <p:sp>
        <p:nvSpPr>
          <p:cNvPr id="1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risis was brought on by the sudden reversal of a long and sustained period of inflows.  In 1997, net inflows into the Asian five (Indonesia, Korea, Malaysia, Philippines and Thailand) dropped from $93 billion to -$12 billion, a swing of $105 billion which is about 11% of collective GDP.  Foreign direct investment remained constant at about $7 billion, so most of the decline came from these private short-term paper money flows or “hot mone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why did this sudden reversal take place?  This involves an analysis of how the large inflows led to increasingly fragility, and then the triggering factors that resulted in financial panic and large outflo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oral Hazard and Increasing Economic Risk</a:t>
            </a:r>
            <a:endParaRPr b="0" lang="en-US" sz="4000" spc="-1" strike="noStrike">
              <a:solidFill>
                <a:srgbClr val="000000"/>
              </a:solidFill>
              <a:latin typeface="Times New Roman"/>
            </a:endParaRPr>
          </a:p>
        </p:txBody>
      </p:sp>
      <p:sp>
        <p:nvSpPr>
          <p:cNvPr id="1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n the boom-bust behaviour in asset prices and the general banking collapse which were striking features of the Asian crisis, financial intermediaries may have been central players.  In Thailand, finance companies borrowed short-term money (often in $US) and then lent to long term speculative investors, particularly in real estate.  The problem with these intermediaries, though, was that they were seen to have a government guarantee, a problem known as </a:t>
            </a:r>
            <a:r>
              <a:rPr b="0" i="1" lang="en-GB" sz="2400" spc="-1" strike="noStrike">
                <a:solidFill>
                  <a:srgbClr val="000000"/>
                </a:solidFill>
                <a:latin typeface="Times New Roman"/>
              </a:rPr>
              <a:t>moral hazard</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anking system in many Asian countries was somewhat murky.  Although there were no explicit government guarantees, most banks had strong political connections and there was a belief that if there was a default, the government would bail them out to prevent a banking collapse. Such a system is likely to lead to risky investmen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ogic of moral hazard</a:t>
            </a:r>
            <a:endParaRPr b="0" lang="en-US" sz="4400" spc="-1" strike="noStrike">
              <a:solidFill>
                <a:srgbClr val="000000"/>
              </a:solidFill>
              <a:latin typeface="Times New Roman"/>
            </a:endParaRPr>
          </a:p>
        </p:txBody>
      </p:sp>
      <p:sp>
        <p:nvSpPr>
          <p:cNvPr id="1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Safe</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Risk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turn in good state</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107</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12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turn in bad state</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107</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8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pected return</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107</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1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pected return to owner</a:t>
            </a:r>
            <a:r>
              <a:rPr b="0" lang="en-GB" sz="3200" spc="-1" strike="noStrike">
                <a:solidFill>
                  <a:srgbClr val="000000"/>
                </a:solidFill>
                <a:latin typeface="Times New Roman"/>
              </a:rPr>
              <a:t>	</a:t>
            </a:r>
            <a:r>
              <a:rPr b="0" lang="en-GB" sz="3200" spc="-1" strike="noStrike">
                <a:solidFill>
                  <a:srgbClr val="000000"/>
                </a:solidFill>
                <a:latin typeface="Times New Roman"/>
              </a:rPr>
              <a:t>   7</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ogic of moral hazard</a:t>
            </a:r>
            <a:endParaRPr b="0" lang="en-US" sz="4400" spc="-1" strike="noStrike">
              <a:solidFill>
                <a:srgbClr val="000000"/>
              </a:solidFill>
              <a:latin typeface="Times New Roman"/>
            </a:endParaRPr>
          </a:p>
        </p:txBody>
      </p:sp>
      <p:sp>
        <p:nvSpPr>
          <p:cNvPr id="1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able shows the options facing the owner of a financial intermediary who raised $100 million from creditors.  No capital of his own needs to have been put up, and bankruptcy has no personal cos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wo investments options: one yields a certain outcome of $107 million, whereas the other yields a 50:50 gamble between £120 million and $80 million, depending on whether conditions are good or bad.  The risky investment has expected returns of $100 mill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nancial intermediary sees these options and knows that if the good state arises, then the investment will yield a $20 million profit.  However, in the bad state, it isn’t the case that a $20 million loss is made, as the intermediary can just walk away without any cost – the return is hence just $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ogic of moral hazard</a:t>
            </a:r>
            <a:endParaRPr b="0" lang="en-US" sz="4400" spc="-1" strike="noStrike">
              <a:solidFill>
                <a:srgbClr val="000000"/>
              </a:solidFill>
              <a:latin typeface="Times New Roman"/>
            </a:endParaRPr>
          </a:p>
        </p:txBody>
      </p:sp>
      <p:sp>
        <p:nvSpPr>
          <p:cNvPr id="1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Given this state of affairs, the risky investment yields an expected return of $10 million, whereas the safe investment delivers just $7 million.  </a:t>
            </a:r>
            <a:endParaRPr b="0" lang="en-US" sz="3600" spc="-1" strike="noStrike">
              <a:solidFill>
                <a:srgbClr val="000000"/>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refore, moral hazard leads to a distortion in investment.  Riskier projects are undertaken, and the inefficient choice is taken. </a:t>
            </a:r>
            <a:endParaRPr b="0" lang="en-US" sz="3600" spc="-1" strike="noStrike">
              <a:solidFill>
                <a:srgbClr val="000000"/>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oral Hazard and Increasing Economic Risk</a:t>
            </a:r>
            <a:endParaRPr b="0" lang="en-US" sz="4000" spc="-1" strike="noStrike">
              <a:solidFill>
                <a:srgbClr val="000000"/>
              </a:solidFill>
              <a:latin typeface="Times New Roman"/>
            </a:endParaRPr>
          </a:p>
        </p:txBody>
      </p:sp>
      <p:sp>
        <p:nvSpPr>
          <p:cNvPr id="15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isky bank lending led to an asset price boom, particularly in real estate and share prices.  High asset prices and high equity values meant that property companies and the corporate sector could use these highly valued assets as collateral on further loan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the banking system was prepared to borrow from overseas and provide further loans.  The extent of bank lending meant that the real estate and corporate sectors became increasingly indebted to banks who were themselves increasingly indebted to foreign creditors.  However, the fragility was masked by these high asset prices giving a sense that all loans were collateralised and that even if anything did go wrong there would be a government rescue pac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oral Hazard and Increasing Economic Risk</a:t>
            </a:r>
            <a:endParaRPr b="0" lang="en-US" sz="4000" spc="-1" strike="noStrike">
              <a:solidFill>
                <a:srgbClr val="000000"/>
              </a:solidFill>
              <a:latin typeface="Times New Roman"/>
            </a:endParaRPr>
          </a:p>
        </p:txBody>
      </p:sp>
      <p:sp>
        <p:nvSpPr>
          <p:cNvPr id="15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ragility of the banking sector became apparent with the bursting of the asset price bubble. Banks had advanced many loans on what they perceived to be good collateral, but with falling prices, this meant that the collateral disappeared and banks ended up holding loans with little security.  These banks had also borrowed substantially from overseas, so the reserves to short-term debt ratio had ris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w everything was set up for a potential crisi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foreign investors had a loss of confidence, they would call in the loans made to Asian bank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oral Hazard and Increasing Economic Risk</a:t>
            </a:r>
            <a:endParaRPr b="0" lang="en-US" sz="4000" spc="-1" strike="noStrike">
              <a:solidFill>
                <a:srgbClr val="000000"/>
              </a:solidFill>
              <a:latin typeface="Times New Roman"/>
            </a:endParaRPr>
          </a:p>
        </p:txBody>
      </p:sp>
      <p:sp>
        <p:nvSpPr>
          <p:cNvPr id="16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short-term debt being relatively high compared to reserves, the banking sector would have to liquidate some of its loans but the security supporting these loans no longer existe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any attempt by the banking sector to liquidate firm assets would lead to a succession of corporate bankruptcies and non performing loans (as the value of these loans is greater than the collateral/assets used to secure them).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ried that loans may be defaulted upon, foreign creditors would panic and attempt to salvage as much as possible by withdrawing as quickly as possible – an action which would then lead to a quick downward spiral of bankruptcies, default and further panic.</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Currency Crises</a:t>
            </a:r>
            <a:endParaRPr b="0" lang="en-US" sz="4400" spc="-1" strike="noStrike">
              <a:solidFill>
                <a:srgbClr val="000000"/>
              </a:solidFill>
              <a:latin typeface="Times New Roman"/>
            </a:endParaRPr>
          </a:p>
        </p:txBody>
      </p:sp>
      <p:sp>
        <p:nvSpPr>
          <p:cNvPr id="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rrency crises can be extremely damaging to developing and transition economies.  Increasing openness has meant that shocks that happen in one country can quickly spread around the worl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cess by which shocks can be transmitted across countries is known as </a:t>
            </a:r>
            <a:r>
              <a:rPr b="0" i="1" lang="en-GB" sz="2400" spc="-1" strike="noStrike">
                <a:solidFill>
                  <a:srgbClr val="000000"/>
                </a:solidFill>
                <a:latin typeface="Times New Roman"/>
              </a:rPr>
              <a:t>contagion</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solution would be to reimpose capital controls, but this would also make the advantages of international financial markets unattainabl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policy makers have become increasingly concerned about designing the international financial architecture to maintain high capital mobility, but to also to deal with these instabilit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iggering Events</a:t>
            </a:r>
            <a:endParaRPr b="0" lang="en-US" sz="4400" spc="-1" strike="noStrike">
              <a:solidFill>
                <a:srgbClr val="000000"/>
              </a:solidFill>
              <a:latin typeface="Times New Roman"/>
            </a:endParaRPr>
          </a:p>
        </p:txBody>
      </p:sp>
      <p:sp>
        <p:nvSpPr>
          <p:cNvPr id="16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iggering events are factors that would lead to a loss of confidence in foreign investor confidence, which when combined with the fragile economic conditions will lead to panic and large outflow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may be several examples of specific triggering factor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Korea, it appeared to be increasing incidents of corporate failur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Thailand, Samprasong Land missed payments on its foreign debts, signalling the demise of the property market and the beginning of the end for the Thai finance companies that lent heavily to property investor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addition, there was political uncertainty with elections in Korea, Thailand and the Philippine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ftermath: Contagion, Bankruptices and Growth</a:t>
            </a:r>
            <a:endParaRPr b="0" lang="en-US" sz="4000" spc="-1" strike="noStrike">
              <a:solidFill>
                <a:srgbClr val="000000"/>
              </a:solidFill>
              <a:latin typeface="Times New Roman"/>
            </a:endParaRPr>
          </a:p>
        </p:txBody>
      </p:sp>
      <p:sp>
        <p:nvSpPr>
          <p:cNvPr id="164" name="PlaceHolder 2"/>
          <p:cNvSpPr>
            <a:spLocks noGrp="1"/>
          </p:cNvSpPr>
          <p:nvPr>
            <p:ph/>
          </p:nvPr>
        </p:nvSpPr>
        <p:spPr>
          <a:xfrm>
            <a:off x="628560" y="1295280"/>
            <a:ext cx="7886880" cy="47246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sian crisis also shows a substantial degree of contagion.  Creditors appeared to treat the region as a whole, which meant that the collapse of the Thai bath was the spark for the crisis in Malaysia, Philippines and Indonesia.</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clear that the financial crisis had a stinging effect on growth in 1998.  Much of this demise came through a very large number of bankruptcies. It is also clear that a lack of bankruptcy laws created disorderly workout problems.  In the panic to salvage bad loans, many viable firms were probably forced to close.</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e crisis was certainly V-shaped, in that from 1999, positive growth re-emerged. The large currency depreciations increased the export competitiveness of these nations, and therefore generated large improvements in the current account following the cri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Global Applications 15.6</a:t>
            </a:r>
            <a:endParaRPr b="0" lang="en-US" sz="4400" spc="-1" strike="noStrike">
              <a:solidFill>
                <a:srgbClr val="000000"/>
              </a:solidFill>
              <a:latin typeface="Times New Roman"/>
            </a:endParaRPr>
          </a:p>
        </p:txBody>
      </p:sp>
      <p:sp>
        <p:nvSpPr>
          <p:cNvPr id="166"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ag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ontagion</a:t>
            </a:r>
            <a:r>
              <a:rPr b="0" lang="en-GB" sz="2400" spc="-1" strike="noStrike">
                <a:solidFill>
                  <a:srgbClr val="000000"/>
                </a:solidFill>
                <a:latin typeface="Times New Roman"/>
              </a:rPr>
              <a:t> refers to the process whereby a shock or a crisis that originates in one country can spread to other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es risk aversion contribute to contagion?</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4645080" y="1944720"/>
            <a:ext cx="3870360" cy="37288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ng Currency Crises </a:t>
            </a:r>
            <a:endParaRPr b="0" lang="en-US" sz="4400" spc="-1" strike="noStrike">
              <a:solidFill>
                <a:srgbClr val="000000"/>
              </a:solidFill>
              <a:latin typeface="Times New Roman"/>
            </a:endParaRPr>
          </a:p>
        </p:txBody>
      </p:sp>
      <p:sp>
        <p:nvSpPr>
          <p:cNvPr id="16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he Lender of Last Resor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ll three generations of currency crisis model, a speculative attack on a fixed exchange rate will occur when the policy maker has few reserves to defend the currency. When the currency comes under selling pressure, the policy maker finds it either impossible or just too costly to defend the parity.  If there were, though, a cheap and plentiful source of currency reserves that could be mobilised to the defence, then the high reserve game should always be the outcome. This source of reserves could come from an international lender of last resor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ere are issues that need to be considered, including moral hazard and good collateral.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ng Currency Crises</a:t>
            </a:r>
            <a:endParaRPr b="0" lang="en-US" sz="4400" spc="-1" strike="noStrike">
              <a:solidFill>
                <a:srgbClr val="000000"/>
              </a:solidFill>
              <a:latin typeface="Times New Roman"/>
            </a:endParaRPr>
          </a:p>
        </p:txBody>
      </p:sp>
      <p:sp>
        <p:nvSpPr>
          <p:cNvPr id="17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apital Control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pital controls could rule out the bad equilibrium the high reserve game by force majeur.  Extensive capital controls would prevent large flows of hot mone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both pros and cons of re-establishing capital control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 the pro side, they would prevent instability brought on by hot money flows and exert more control over domestic monetary policy, and a greater ability to set interest rat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 the con side, interrupting the flow of international capital could result in problems and inefficiencies, such as dealing with current account shocks, and result in a sub-optimal worldwide allocation of capital.</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ng Currency Crises</a:t>
            </a:r>
            <a:endParaRPr b="0" lang="en-US" sz="4400" spc="-1" strike="noStrike">
              <a:solidFill>
                <a:srgbClr val="000000"/>
              </a:solidFill>
              <a:latin typeface="Times New Roman"/>
            </a:endParaRPr>
          </a:p>
        </p:txBody>
      </p:sp>
      <p:sp>
        <p:nvSpPr>
          <p:cNvPr id="17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Tobin Tax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bin argued that short term capital movements (hot money) is the main culprit in injecting volatility into foreign exchange market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ng-term capital movements are less volatil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olution, to reduce hot money flows without unduly affecting longer term foreign direct investment, is a tax on any short-term international transactions.  This would discourage active speculation against a currency.</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edium Reserve Game: Revised</a:t>
            </a:r>
            <a:endParaRPr b="0" lang="en-US" sz="4000" spc="-1" strike="noStrike">
              <a:solidFill>
                <a:srgbClr val="000000"/>
              </a:solidFill>
              <a:latin typeface="Times New Roman"/>
            </a:endParaRPr>
          </a:p>
        </p:txBody>
      </p:sp>
      <p:pic>
        <p:nvPicPr>
          <p:cNvPr id="175" name="" descr=""/>
          <p:cNvPicPr/>
          <p:nvPr/>
        </p:nvPicPr>
        <p:blipFill>
          <a:blip r:embed="rId1"/>
          <a:stretch/>
        </p:blipFill>
        <p:spPr>
          <a:xfrm>
            <a:off x="1187280" y="1413000"/>
            <a:ext cx="6120000" cy="4464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ng Currency Crises</a:t>
            </a:r>
            <a:endParaRPr b="0" lang="en-US" sz="4400" spc="-1" strike="noStrike">
              <a:solidFill>
                <a:srgbClr val="000000"/>
              </a:solidFill>
              <a:latin typeface="Times New Roman"/>
            </a:endParaRPr>
          </a:p>
        </p:txBody>
      </p:sp>
      <p:sp>
        <p:nvSpPr>
          <p:cNvPr id="17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see why, reconsider the revised game.  This time, making a transaction again costs 1 unit, but is now also subject to a tax of 2 units.  Therefore, selling costs a total of 3 units whereas holding continues to be fr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clear that the only solution to this game is now for both traders to hold.  Previously, a speculative attack would have worked if coordinated, but this simple tax is sufficient to now rule out this possibil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a:t>
            </a:r>
            <a:r>
              <a:rPr b="1" lang="en-GB" sz="2400" spc="-1" strike="noStrike">
                <a:solidFill>
                  <a:srgbClr val="000000"/>
                </a:solidFill>
                <a:latin typeface="Times New Roman"/>
              </a:rPr>
              <a:t>Tobin tax</a:t>
            </a:r>
            <a:r>
              <a:rPr b="0" lang="en-GB" sz="2400" spc="-1" strike="noStrike">
                <a:solidFill>
                  <a:srgbClr val="000000"/>
                </a:solidFill>
                <a:latin typeface="Times New Roman"/>
              </a:rPr>
              <a:t> seems like a simple effective solution to the increasing volatility of international foreign exchange markets without adversely affecting foreign direct capital.  However, there are problems with its implementation, which has led many to believe that it could never work in pract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ng Currency Crises</a:t>
            </a:r>
            <a:endParaRPr b="0" lang="en-US" sz="4400" spc="-1" strike="noStrike">
              <a:solidFill>
                <a:srgbClr val="000000"/>
              </a:solidFill>
              <a:latin typeface="Times New Roman"/>
            </a:endParaRPr>
          </a:p>
        </p:txBody>
      </p:sp>
      <p:sp>
        <p:nvSpPr>
          <p:cNvPr id="17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Exchange Rate Regim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fixed exchange rate regime is regarded by many as being ultimately unsustainable.  As speculators are offered a one-way bet, an attack is always an eventual outcome.  In this respect, there are two alternatives for policy maker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Floating exchange rate regimes: Obviously the exchange rate is market determined, hence the opportunities for speculators to mount an attack is diminished.  The floating vs. fixed debate, though, then aris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 Monetary union: If fixed rates are irrevocably unworkable, then full monetary union would see a single currency and the abolition of exchange rates.  The overall debate must be analysed in the context of optimal currency area the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ng Currency Crises</a:t>
            </a:r>
            <a:endParaRPr b="0" lang="en-US" sz="4400" spc="-1" strike="noStrike">
              <a:solidFill>
                <a:srgbClr val="000000"/>
              </a:solidFill>
              <a:latin typeface="Times New Roman"/>
            </a:endParaRPr>
          </a:p>
        </p:txBody>
      </p:sp>
      <p:sp>
        <p:nvSpPr>
          <p:cNvPr id="18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Banking Regula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sible Solutions: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rve requirement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der of last resor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pital requirements and asset restric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nking supervis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posit insuranc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iculties in regulating international banking,e.g., Basel Committee (1974), Currency boards, </a:t>
            </a:r>
            <a:r>
              <a:rPr b="1" lang="en-GB" sz="2400" spc="-1" strike="noStrike">
                <a:solidFill>
                  <a:srgbClr val="000000"/>
                </a:solidFill>
                <a:latin typeface="Times New Roman"/>
              </a:rPr>
              <a:t>Global Applications 15.7 The Pros and Cons of Dollar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Internationalisation of Financial Markets </a:t>
            </a:r>
            <a:endParaRPr b="0" lang="en-US" sz="4000" spc="-1" strike="noStrike">
              <a:solidFill>
                <a:srgbClr val="000000"/>
              </a:solidFill>
              <a:latin typeface="Times New Roman"/>
            </a:endParaRPr>
          </a:p>
        </p:txBody>
      </p:sp>
      <p:sp>
        <p:nvSpPr>
          <p:cNvPr id="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national capital mobility has increased substantially.  Since the 1970s, the growth in international financial transactions has far outstripped that of GDP.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three main reasons which have promoted the development of the international financial market: the historical change in exchange rate regimes; the growth in offshore banking and currency trading; and a change in ideolo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8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 have seen how a dramatic reduction in exchange controls throughout the world has led to a large rise in international capital mobility.  The consequence is that financial markets in different countries have become increasingly interlinked, given rise to what can be described as an international financial marke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ddition, the scale of international trading has risen dramatically.  The majority of this is short term and highly liquid, known as “hot money,” which can move quickly in and out of different markets in different countr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8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reviewed various episodes of high volatility in currency markets, where developing and transition countries have traditionally been the victims, especially in Latin America and more recently in Asia.  However, the collapse of the Exchange Rate Mechanism (ERM) in the early 1990s demonstrates that developed nations can also be prone to these cri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reasing openness has meant that shocks that happen in one country can quickly spread around the world, so the economic progress of one country can be adversely affected by a development in another country. We learned that the process by which shocks can be transmitted across countries is known as </a:t>
            </a:r>
            <a:r>
              <a:rPr b="0" i="1" lang="en-GB" sz="2400" spc="-1" strike="noStrike">
                <a:solidFill>
                  <a:srgbClr val="000000"/>
                </a:solidFill>
                <a:latin typeface="Times New Roman"/>
              </a:rPr>
              <a:t>contagion</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8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investigated solutions, such as imposing capital controls, but this would also make the advantages of international financial markets unattainabl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policy makers have become increasingly concerned about designing the international financial architecture to maintain high capital mobility and also to deal with these instabilitie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hanging Exchange Rate Regimes</a:t>
            </a:r>
            <a:endParaRPr b="0" lang="en-US" sz="4000" spc="-1" strike="noStrike">
              <a:solidFill>
                <a:srgbClr val="000000"/>
              </a:solidFill>
              <a:latin typeface="Times New Roman"/>
            </a:endParaRPr>
          </a:p>
        </p:txBody>
      </p:sp>
      <p:sp>
        <p:nvSpPr>
          <p:cNvPr id="54"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Trilemma of policy: </a:t>
            </a:r>
            <a:r>
              <a:rPr b="0" lang="en-GB" sz="2800" spc="-1" strike="noStrike">
                <a:solidFill>
                  <a:srgbClr val="000000"/>
                </a:solidFill>
                <a:latin typeface="Times New Roman"/>
              </a:rPr>
              <a:t>The government can only choose two of the following: fixed exchange rates, control of monetary policy, and capital mobility.</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4645080" y="2682720"/>
            <a:ext cx="3870360" cy="22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Offshore Banking and Currency Trading</a:t>
            </a:r>
            <a:endParaRPr b="0" lang="en-US" sz="4000" spc="-1" strike="noStrike">
              <a:solidFill>
                <a:srgbClr val="000000"/>
              </a:solidFill>
              <a:latin typeface="Times New Roman"/>
            </a:endParaRPr>
          </a:p>
        </p:txBody>
      </p:sp>
      <p:sp>
        <p:nvSpPr>
          <p:cNvPr id="5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ffshore banking refers to the business that banks undertake in their foreign offices.  Offshore currency trading has grown hand-in-hand with this, enabling people to trade a nation’s currency outside of that country.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has steadily reduced the effectiveness of exchange controls and has also been an important factor in accounting for their demise.  If capital controls can be easily circumvented, then they become essentially useles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lobal Applications 15.1 Eurocurrency Marke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09:22:48Z</dcterms:created>
  <dc:creator>Emily Gibson</dc:creator>
  <dc:description/>
  <dc:language>en-US</dc:language>
  <cp:lastModifiedBy>Cengage learning</cp:lastModifiedBy>
  <dcterms:modified xsi:type="dcterms:W3CDTF">2008-10-30T15:57:46Z</dcterms:modified>
  <cp:revision>6</cp:revision>
  <dc:subject/>
  <dc:title>Macroeconomics Chamberlin and Yueh</dc:title>
</cp:coreProperties>
</file>