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135E4-832F-422E-B21B-DCEA459DA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596C-047F-434F-985B-051FE72B3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8182E-8BCF-4193-9A7C-E696C39FB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7E7F-3638-44CC-9809-93EF6EF179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3EF6-EB03-441A-8082-47EF016350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E5B2-4E79-478E-8800-DEA674F9E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8F00-86D8-43C7-9341-507899C26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AC74-2855-4904-89B4-6256E1DA2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A86D-3648-4BFB-93DF-87E8F0F14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72D1-7429-41D8-BB90-3CA1EA24D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4B74-E02C-4DD2-A5AF-7DBAC0327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77AC-8E0B-4B6F-A62E-51CFA70ED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7076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11880"/>
            <a:ext cx="91440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   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Jon Curwin and Roger Slater,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 QUANTITATIVE METHODS: A SHORT COURSE   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ISBN 1-86152-991-0    © Thomson Learning 2004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529040" y="6372360"/>
            <a:ext cx="114300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18/</a:t>
            </a:r>
            <a:fld id="{1D60B7BC-ED5B-4BDF-AF91-90734DB62CE5}" type="slidenum">
              <a:rPr b="1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1447920" cy="41904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0" y="6165720"/>
            <a:ext cx="9144000" cy="884520"/>
            <a:chOff x="0" y="6165720"/>
            <a:chExt cx="9144000" cy="884520"/>
          </a:xfrm>
        </p:grpSpPr>
        <p:sp>
          <p:nvSpPr>
            <p:cNvPr id="7" name=""/>
            <p:cNvSpPr/>
            <p:nvPr/>
          </p:nvSpPr>
          <p:spPr>
            <a:xfrm>
              <a:off x="0" y="6311880"/>
              <a:ext cx="91440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br>
                <a:rPr sz="1000"/>
              </a:b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Jon Curwin and Roger Slater,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QUANTITATIVE METHODS: A SHORT COURSE    </a:t>
              </a:r>
              <a:br>
                <a:rPr sz="1000"/>
              </a:b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ISBN 1-86152-991-0    © Cengage 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6165720"/>
              <a:ext cx="2343240" cy="884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hapter 3: Using Graph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alculating Break-even (2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2022480"/>
            <a:ext cx="784872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An alternative, and quicker, way to calculate break-even is to use the accounting concept o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</a:rPr>
              <a:t>contrib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First step is to find the </a:t>
            </a:r>
            <a:r>
              <a:rPr b="1" i="1" lang="en-GB" sz="2200" spc="-1" strike="noStrike">
                <a:solidFill>
                  <a:srgbClr val="000099"/>
                </a:solidFill>
                <a:latin typeface="Times New Roman"/>
              </a:rPr>
              <a:t>difference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 between the price per unit and the cost per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eg. If P = 40 and C = 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then the contribution (from each unit sold) is 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Then divide the Fixed Cost by the contrib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eg. If Fixed Cost is 3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then the break-even is 3000/15 = 2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Break-even with Non-linear func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040" y="2098800"/>
            <a:ext cx="367344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2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f the cost function is non-linear, then we can still graph the cost and revenu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2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reak-even will still be where R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2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For a quadratic cost function, there may be two break-eve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343400" y="1523880"/>
          <a:ext cx="380196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523880"/>
                    <a:ext cx="38019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 flipV="1">
            <a:off x="3886200" y="5257800"/>
            <a:ext cx="205740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886200" y="4038120"/>
            <a:ext cx="3962520" cy="129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Break-even with Non-linear functions (2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981080"/>
            <a:ext cx="3124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 alternative is to define a Profit Function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rofit = Total Revenue – Total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n graph this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reak-even is where it crosses the X-ax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(if it do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419720" y="1447920"/>
          <a:ext cx="377964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447920"/>
                    <a:ext cx="37796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 flipV="1">
            <a:off x="3200400" y="3200400"/>
            <a:ext cx="2819520" cy="190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276720" y="3124080"/>
            <a:ext cx="4572000" cy="198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Linear Programming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8160" y="1828800"/>
            <a:ext cx="664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Linear programming is a technique which seek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the optimum allocation of scarce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between competing products or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3352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t has been used in a wide range of situations in business, government and indus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2960" y="4343400"/>
            <a:ext cx="604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Examples includ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6600"/>
                </a:solidFill>
                <a:latin typeface="Times New Roman"/>
              </a:rPr>
              <a:t>optimum product 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media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800080"/>
                </a:solidFill>
                <a:latin typeface="Times New Roman"/>
              </a:rPr>
              <a:t>share portfolio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Feasible Are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752480"/>
            <a:ext cx="66294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e are trying to create a graph which show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feasible mixes of the products, media types or sh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e will limit our analysis to on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tw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tems, but you should note that the techniques will work in much more complex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876920"/>
            <a:ext cx="62481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first step is always t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formul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.e. to write out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181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An Exampl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3590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 small company (Singletons &amp; Co.) make two produ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y are asking for your advice on what mix of products to make, and have been able to provide the following infor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743200"/>
            <a:ext cx="73152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mbers requi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hour of lab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Zeonites requi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hours of lab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otal labour hours per week 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mbers requi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litres of moulding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Zeonites requi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litres of moulding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Maximum moulding fluid per week 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1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li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rofit contribution from Ambers 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£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rofit contribution from Zeonites 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£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Formulating the Problem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4800" y="1752480"/>
            <a:ext cx="39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hat are we trying to achie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4880" y="2743200"/>
            <a:ext cx="41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Times New Roman"/>
              </a:rPr>
              <a:t>Probably maximum 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4440" y="365760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here does this profit come f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9480" y="419112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Times New Roman"/>
              </a:rPr>
              <a:t>The two products we prod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1358640" cy="1433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8400" y="4952880"/>
            <a:ext cx="39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How much profit do we m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5240" y="5486400"/>
            <a:ext cx="30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66"/>
                </a:solidFill>
                <a:latin typeface="Times New Roman"/>
              </a:rPr>
              <a:t>Profit = £2A + £3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Limit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523880"/>
            <a:ext cx="7711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f there were a plentiful supply of everything we needed, then there would be no probl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Times New Roman"/>
              </a:rPr>
              <a:t>This is never the cas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4280" y="28954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Times New Roman"/>
              </a:rPr>
              <a:t>Lab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5000" y="4191120"/>
            <a:ext cx="3974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Times New Roman"/>
              </a:rPr>
              <a:t>Total hours used will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A + 2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4495680"/>
            <a:ext cx="336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ut this total must be less than or equal to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5920" y="543564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o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cc0066"/>
                </a:solidFill>
                <a:latin typeface="Times New Roman"/>
              </a:rPr>
              <a:t>A + 2Z &lt;= 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8954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e only have 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40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hours per week of labour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e know that Ambers take 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hour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d Zeonites take 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hours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What does this look like?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1406520"/>
            <a:ext cx="144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5216400"/>
            <a:ext cx="7315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460360" y="4683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57200" y="1219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8088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29400" y="5181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8360" y="5140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80880" y="1600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5720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2930400"/>
            <a:ext cx="5715000" cy="228600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057040" y="3159000"/>
            <a:ext cx="609480" cy="68580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7040" y="3311640"/>
            <a:ext cx="1066680" cy="121896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133720" y="3540240"/>
            <a:ext cx="1371600" cy="160020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742840" y="3692520"/>
            <a:ext cx="1219320" cy="15238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04960" y="3921120"/>
            <a:ext cx="990360" cy="12952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266720" y="4149720"/>
            <a:ext cx="762120" cy="10666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028840" y="4378320"/>
            <a:ext cx="609480" cy="8380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867280" y="4606920"/>
            <a:ext cx="457200" cy="533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477120" y="4835520"/>
            <a:ext cx="304560" cy="3808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057040" y="3006720"/>
            <a:ext cx="228600" cy="3049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83080" y="25401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A + 2Z = 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800600" y="3006720"/>
            <a:ext cx="457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99840" y="5500800"/>
            <a:ext cx="21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Feasibl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581280" y="4682880"/>
            <a:ext cx="1800" cy="87948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500"/>
                            </p:stCondLst>
                            <p:childTnLst>
                              <p:par>
                                <p:cTn id="6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6500"/>
                            </p:stCondLst>
                            <p:childTnLst>
                              <p:par>
                                <p:cTn id="6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8000"/>
                            </p:stCondLst>
                            <p:childTnLst>
                              <p:par>
                                <p:cTn id="6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9500"/>
                            </p:stCondLst>
                            <p:childTnLst>
                              <p:par>
                                <p:cTn id="6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More Limit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480" y="182880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Times New Roman"/>
              </a:rPr>
              <a:t>Moulding Flu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236232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e only have 150 litres per week of moulding fluid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e know that Ambers take 6 litres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d Zeonites take 5 litres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4040" y="4156200"/>
            <a:ext cx="395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Times New Roman"/>
              </a:rPr>
              <a:t>Total Fluid used will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6A + 5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41148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ut this must be less than or equal to 150 li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86000" y="552780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o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6A + 5Z &lt;=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Create graphs of times series data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Illustrate break-even analysi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Show a feasible area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Solve two variable linear programming problem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The Graph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15588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369040"/>
            <a:ext cx="7315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60360" y="4835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57200" y="1371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0880" y="2819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2940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8360" y="529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0880" y="175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57200" y="403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2016000"/>
            <a:ext cx="3886200" cy="33530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057400" y="2854440"/>
            <a:ext cx="990720" cy="11430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057400" y="3235320"/>
            <a:ext cx="1295280" cy="1447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133360" y="3463920"/>
            <a:ext cx="1600200" cy="18288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743200" y="3768840"/>
            <a:ext cx="1295280" cy="16002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505320" y="4149720"/>
            <a:ext cx="914400" cy="12193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267080" y="4454640"/>
            <a:ext cx="609840" cy="9144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029200" y="4911840"/>
            <a:ext cx="380880" cy="4572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2397240"/>
            <a:ext cx="380880" cy="380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057040" y="2625840"/>
            <a:ext cx="685800" cy="838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82360" y="269244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6A + 5Z =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343400" y="3159000"/>
            <a:ext cx="9907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99840" y="5715000"/>
            <a:ext cx="21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Feasibl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581280" y="4835160"/>
            <a:ext cx="0" cy="87948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35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65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80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95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An Assumptio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16765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e assume that it is only possible to get answers which are either zero or are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560" y="2895480"/>
            <a:ext cx="37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is means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A &gt;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Z &gt;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5878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n terms of a graph, this means that we work in the first quad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.e.  The one where both variables are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Output Comb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67652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e need to find combinations of outputs which are feasible und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.e. those which use no more than th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6600"/>
                </a:solidFill>
                <a:latin typeface="Times New Roman"/>
              </a:rPr>
              <a:t>labou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vail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d no more than th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6600"/>
                </a:solidFill>
                <a:latin typeface="Times New Roman"/>
              </a:rPr>
              <a:t>moulding flu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9625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ince we have graphs of each constraint, we can bring these together to 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The feasible area for the whol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Feasible Solu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18288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5638680"/>
            <a:ext cx="7315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460360" y="5105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1523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80880" y="3089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29400" y="5603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836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80880" y="202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57200" y="430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3352680"/>
            <a:ext cx="5715000" cy="228600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057040" y="3581280"/>
            <a:ext cx="609480" cy="68580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057040" y="3733920"/>
            <a:ext cx="1066680" cy="121896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133720" y="3962520"/>
            <a:ext cx="1371600" cy="160020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742840" y="4114800"/>
            <a:ext cx="1219320" cy="15238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504960" y="4343400"/>
            <a:ext cx="990360" cy="12952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266720" y="4572000"/>
            <a:ext cx="762120" cy="10666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028840" y="4800600"/>
            <a:ext cx="609480" cy="8380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67280" y="5029200"/>
            <a:ext cx="457200" cy="533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477120" y="5257800"/>
            <a:ext cx="304560" cy="3808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057040" y="3429000"/>
            <a:ext cx="228600" cy="3049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82720" y="21337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 + 2Z =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124080" y="2514600"/>
            <a:ext cx="6098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2286000"/>
            <a:ext cx="3886200" cy="335268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057040" y="3276720"/>
            <a:ext cx="1143000" cy="1295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057400" y="3657600"/>
            <a:ext cx="1447920" cy="16765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361960" y="3886200"/>
            <a:ext cx="1523880" cy="16765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047760" y="4191120"/>
            <a:ext cx="1143000" cy="1447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733920" y="4495680"/>
            <a:ext cx="914400" cy="11430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495680" y="4876920"/>
            <a:ext cx="533520" cy="7617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333760" y="5334120"/>
            <a:ext cx="228600" cy="304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400" y="2666880"/>
            <a:ext cx="457200" cy="4572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057040" y="2971800"/>
            <a:ext cx="762120" cy="99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49960" y="388620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6A + 5Z =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562720" y="4343400"/>
            <a:ext cx="12189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3352680"/>
            <a:ext cx="2286000" cy="9144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4267080"/>
            <a:ext cx="1523880" cy="12956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3352680"/>
            <a:ext cx="0" cy="22860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7400" y="5638680"/>
            <a:ext cx="3886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57400" y="3809880"/>
            <a:ext cx="10666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4114800"/>
            <a:ext cx="18288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4419720"/>
            <a:ext cx="25146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4724280"/>
            <a:ext cx="2743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5029200"/>
            <a:ext cx="3124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57400" y="5334120"/>
            <a:ext cx="350532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62880" y="2733840"/>
            <a:ext cx="22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Feasibl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038120" y="3124080"/>
            <a:ext cx="1676520" cy="1447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3500"/>
                            </p:stCondLst>
                            <p:childTnLst>
                              <p:par>
                                <p:cTn id="9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0"/>
                            </p:stCondLst>
                            <p:childTnLst>
                              <p:par>
                                <p:cTn id="9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6500"/>
                            </p:stCondLst>
                            <p:childTnLst>
                              <p:par>
                                <p:cTn id="9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8000"/>
                            </p:stCondLst>
                            <p:childTnLst>
                              <p:par>
                                <p:cTn id="9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9500"/>
                            </p:stCondLst>
                            <p:childTnLst>
                              <p:par>
                                <p:cTn id="9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9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How many do we produce?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523880"/>
            <a:ext cx="79250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n the graph, the feasible area has several “</a:t>
            </a:r>
            <a:r>
              <a:rPr b="1" lang="en-GB" sz="2800" spc="-1" strike="noStrike">
                <a:solidFill>
                  <a:srgbClr val="800080"/>
                </a:solidFill>
                <a:latin typeface="Times New Roman"/>
              </a:rPr>
              <a:t>corners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ne where we produ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Times New Roman"/>
              </a:rPr>
              <a:t>on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Zeonites (0,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ne where we produ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Times New Roman"/>
              </a:rPr>
              <a:t>on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mbers (25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d one where we produc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Times New Roman"/>
              </a:rPr>
              <a:t>combin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f the 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here the two constraints cro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8320" y="3657600"/>
            <a:ext cx="19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6A + 5Z =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GB" sz="2400" spc="-1" strike="noStrike" u="sng">
                <a:solidFill>
                  <a:srgbClr val="000099"/>
                </a:solidFill>
                <a:uFillTx/>
                <a:latin typeface="Times New Roman"/>
              </a:rPr>
              <a:t>A + 2Z =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520" y="449568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Multiply by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6040" y="449568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6A + 12Z = 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37040" y="4842000"/>
            <a:ext cx="382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ubtract the first equation from this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5880" y="4876920"/>
            <a:ext cx="1776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7Z =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66"/>
                </a:solidFill>
                <a:latin typeface="Times New Roman"/>
              </a:rPr>
              <a:t>Z = 12.8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6120" y="57913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ubstituting g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14800" y="5715000"/>
            <a:ext cx="19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66"/>
                </a:solidFill>
                <a:latin typeface="Times New Roman"/>
              </a:rPr>
              <a:t>A = 14.28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Profit Level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280" y="1676520"/>
            <a:ext cx="763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e can evaluate the profit contribution at each “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corner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” of the feasibl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523880" y="3733920"/>
          <a:ext cx="6324840" cy="1295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260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0,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25, 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14.29,12.8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2590920" y="2743200"/>
            <a:ext cx="41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Times New Roman"/>
              </a:rPr>
              <a:t>Profit Contribution = 2A + 3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20280" y="579132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High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629400" y="4800240"/>
            <a:ext cx="0" cy="10666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0" y="4419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4419720"/>
            <a:ext cx="6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920" y="441972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67.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LP - Minimisatio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2362320"/>
            <a:ext cx="8076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previous example tried to maximise profit 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ut the technique can also be used for fi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800080"/>
                </a:solidFill>
                <a:latin typeface="Times New Roman"/>
              </a:rPr>
              <a:t>minimum cost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LP – Minimisation (2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21337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ompany has 2 machines, A &amp; B which can each produce either the MINI or MAXI version of their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an produce 5 MINI or 1 MAXI per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 can produce 2 MINI or 3 MAXI per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cts dictate that the minimum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MINI’s must  b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MAXI’s must be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ost of running machine A is £1000 per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ost of running machine B is £2000 per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the minimum cost number of sessions for each mach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9720" y="152388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8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Formulatio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74400" y="1600200"/>
            <a:ext cx="49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We can construct equations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79080" y="2286000"/>
            <a:ext cx="5452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Number of MINI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5A + 2B &gt;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Number of MAXI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 + 3B &gt;=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, B &gt;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Cos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Minimise    1000A + 2000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65080" y="54864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gain we can use a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9760" y="6854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Graphical Representatio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18288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5638680"/>
            <a:ext cx="7315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46036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57560" y="1641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7080" y="3276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29400" y="5603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588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80880" y="202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7400" y="3657600"/>
            <a:ext cx="5715000" cy="198108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2209680"/>
            <a:ext cx="1371600" cy="342900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133720" y="1676160"/>
            <a:ext cx="5410080" cy="68580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286000" y="2133360"/>
            <a:ext cx="5410080" cy="68580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514600" y="2590560"/>
            <a:ext cx="5410080" cy="68580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666880" y="2971440"/>
            <a:ext cx="5410440" cy="68580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819520" y="3428640"/>
            <a:ext cx="5486400" cy="68580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971800" y="3809520"/>
            <a:ext cx="5486400" cy="68580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124080" y="4114440"/>
            <a:ext cx="5410440" cy="68580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276720" y="4495320"/>
            <a:ext cx="5410080" cy="68580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429000" y="4952520"/>
            <a:ext cx="5105520" cy="68580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248520" y="5334120"/>
            <a:ext cx="2209680" cy="30456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33720" y="1752480"/>
            <a:ext cx="533160" cy="19051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514600" y="1752120"/>
            <a:ext cx="609480" cy="20574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971800" y="1752120"/>
            <a:ext cx="609480" cy="2210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429000" y="1676160"/>
            <a:ext cx="762120" cy="2438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886200" y="1676520"/>
            <a:ext cx="762120" cy="2590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343400" y="1676520"/>
            <a:ext cx="762120" cy="27432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800600" y="1676160"/>
            <a:ext cx="838080" cy="29718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334120" y="1523880"/>
            <a:ext cx="914400" cy="3276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867280" y="1599840"/>
            <a:ext cx="914400" cy="3352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400800" y="1600200"/>
            <a:ext cx="1066680" cy="3581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934320" y="2133720"/>
            <a:ext cx="914400" cy="32004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467480" y="2819520"/>
            <a:ext cx="762120" cy="266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8001000" y="3733560"/>
            <a:ext cx="533520" cy="19047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84400" y="2784600"/>
            <a:ext cx="1867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easibl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500"/>
                            </p:stCondLst>
                            <p:childTnLst>
                              <p:par>
                                <p:cTn id="12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2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500"/>
                            </p:stCondLst>
                            <p:childTnLst>
                              <p:par>
                                <p:cTn id="1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Time Seri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Probably the most common graph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Very simple to construc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y han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y compute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Very simple to understan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Works for annual, quarterly, monthly weekly, daily or even hourly data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orners &amp; Solutio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67680" y="1447920"/>
            <a:ext cx="485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corners of the feasible area are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 = 0, B =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 = 90, B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d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 = 9.23, B = 2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523880" y="3733920"/>
          <a:ext cx="6324840" cy="1295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260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0,5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90, 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9.23,26.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1064880" y="31240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 cost function is:  1000A + 2000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82880" y="449568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£1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3960" y="449568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£9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45040" y="449568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£63,0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29560" y="55278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553080" y="4952880"/>
            <a:ext cx="0" cy="5335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080" y="1523880"/>
            <a:ext cx="739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Linear programming provides a method of solution for a wide range of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t is not limited to two items and a few constraints, as in ou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6633"/>
                </a:solidFill>
                <a:latin typeface="Times New Roman"/>
              </a:rPr>
              <a:t>Computer bas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olutions are easily avail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- for small problems you can use an add-in to 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- for large problems there is specialist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4267080"/>
            <a:ext cx="769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t provides a short to medium term                                                                              solution ,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n the long run, managers need to address th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resource constrai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mselves if they wish to increase production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Annual Dat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828800"/>
            <a:ext cx="335304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2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Graph has years on X-ax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2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Data values on the y-ax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2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Annual data smooths out short-term eff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2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Often used to consider long-term trends in th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2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If they ex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038480" y="1676520"/>
          <a:ext cx="4800600" cy="35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76520"/>
                    <a:ext cx="48006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429000" y="5486400"/>
            <a:ext cx="571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Data used by kind permission of the National Gallery, New Media Department: http://www.nationalgallery.org.uk/default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Quarterly Dat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7680" y="2098800"/>
            <a:ext cx="2987640" cy="26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1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Quarterly data will show seasonal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1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Many of these are obvious, eg. coat s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1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Knowledge of patterns helps in planning for the busi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9880" y="2133720"/>
          <a:ext cx="4932360" cy="32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133720"/>
                    <a:ext cx="493236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Short time period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Break-even Analysi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133720"/>
            <a:ext cx="80326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5200" indent="-565200">
              <a:lnSpc>
                <a:spcPct val="12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ries to answers the fundamental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2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How many do we have to make/serve to cover our costs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2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Any business which cannot do this will, in the long run,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2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Not to mention the cash flow problems in the short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2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For a single product company, the calculation i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2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Much more difficult of a large, multi-product company since you then need to address the accounting question of allocation of overhe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Graphing Break-eve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360" y="2174760"/>
            <a:ext cx="321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Firstly we need to identify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hen rev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n the simplest case, both of these will be linea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05000" y="4689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1981080"/>
            <a:ext cx="0" cy="32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0076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724280" y="2286000"/>
            <a:ext cx="2895840" cy="228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52360" y="17175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Rev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24280" y="3200040"/>
            <a:ext cx="2819520" cy="7621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05720" y="29368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3657600"/>
            <a:ext cx="0" cy="914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18280" y="491796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reak-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7280" y="5715000"/>
            <a:ext cx="55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reak-even is where the two functions cr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9760" y="38088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imes New Roman"/>
              </a:rPr>
              <a:t>Calculating Break-eve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523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It will usually be easier, and more convenient, to calculate the break-even fig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514600"/>
            <a:ext cx="306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To do this we use X for the output and set up cost and revenue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4114800"/>
            <a:ext cx="329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Now put them equal to each other to find the X-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243828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If we sell the product at £5, then the Revenue function is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</a:rPr>
              <a:t>5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If the fixed cost is 120 and unit cost is 2, then the Cost function is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</a:rPr>
              <a:t>120 + 2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7240" y="4062240"/>
            <a:ext cx="19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Revenue =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5X = 120 + 2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3X = 1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</a:rPr>
              <a:t>X = 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94760" y="5662440"/>
            <a:ext cx="474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This is the break-even production figu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0:31:40Z</dcterms:created>
  <dc:creator>dwnusr38</dc:creator>
  <dc:description/>
  <dc:language>en-US</dc:language>
  <cp:lastModifiedBy>Administrator</cp:lastModifiedBy>
  <dcterms:modified xsi:type="dcterms:W3CDTF">2007-12-07T16:07:53Z</dcterms:modified>
  <cp:revision>64</cp:revision>
  <dc:subject/>
  <dc:title>Basic Sums</dc:title>
</cp:coreProperties>
</file>