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11880"/>
            <a:ext cx="91440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 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Jon Curwin and Roger Slater,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QUANTITATIVE METHODS: A SHORT COURSE   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ISBN 1-86152-991-0    © Thomson Learning 2004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0" y="6165720"/>
            <a:ext cx="9144000" cy="884520"/>
            <a:chOff x="0" y="6165720"/>
            <a:chExt cx="9144000" cy="884520"/>
          </a:xfrm>
        </p:grpSpPr>
        <p:sp>
          <p:nvSpPr>
            <p:cNvPr id="5" name=""/>
            <p:cNvSpPr/>
            <p:nvPr/>
          </p:nvSpPr>
          <p:spPr>
            <a:xfrm>
              <a:off x="0" y="6311880"/>
              <a:ext cx="91440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br>
                <a:rPr sz="1000"/>
              </a:b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Jon Curwin and Roger Slater,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QUANTITATIVE METHODS: A SHORT COURSE    </a:t>
              </a:r>
              <a:br>
                <a:rPr sz="1000"/>
              </a:b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ISBN 1-86152-991-0    © Cengage 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0" y="6165720"/>
              <a:ext cx="2343240" cy="884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homsonlearning.co.uk/curwin3/ppts/ts1.xls" TargetMode="External"/><Relationship Id="rId2" Type="http://schemas.openxmlformats.org/officeDocument/2006/relationships/hyperlink" Target="http://www.thomsonlearning.co.uk/curwin3/ppts/ts2.xls" TargetMode="External"/><Relationship Id="rId3" Type="http://schemas.openxmlformats.org/officeDocument/2006/relationships/hyperlink" Target="http://www.thomsonlearning.co.uk/curwin3/ppts/ts2.xls" TargetMode="External"/><Relationship Id="rId4" Type="http://schemas.openxmlformats.org/officeDocument/2006/relationships/hyperlink" Target="http://www.thomsonlearning.co.uk/curwin3/ppts/ts3.xls" TargetMode="Externa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90640" y="2209680"/>
            <a:ext cx="556272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Chapter 9: Projecting the Futur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403848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Please note: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there are 3 Excel handouts that go with this presentation (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imeseries1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Timeseries2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nd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Timeseries3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21337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.  The Additiv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31240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Y = T + S +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41911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.  The Multiplicativ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51055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Y = T </a:t>
            </a: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S </a:t>
            </a: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R</a:t>
            </a:r>
            <a:r>
              <a:rPr b="0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858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We will consider the use of two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828800" y="53352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The Additive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9040" y="1905120"/>
            <a:ext cx="83059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elements of interest 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dded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average value of the residual is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ssumed to be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variations around the trend 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predictable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and roughly of th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same order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of magn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09760" y="5468760"/>
            <a:ext cx="68580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638360" y="1429920"/>
            <a:ext cx="144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29680" y="56214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95560" y="5468760"/>
            <a:ext cx="1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52760" y="5468760"/>
            <a:ext cx="1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33640" y="5468760"/>
            <a:ext cx="1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90840" y="5468760"/>
            <a:ext cx="1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48040" y="5468760"/>
            <a:ext cx="1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05240" y="5468760"/>
            <a:ext cx="1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219280" y="5468760"/>
            <a:ext cx="1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62440" y="5468760"/>
            <a:ext cx="1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00880" y="5468760"/>
            <a:ext cx="1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15280" y="5468760"/>
            <a:ext cx="1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71880" y="55450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ea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72080" y="55450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ea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48240" y="5545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ea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28880" y="11253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14680" y="16588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66960" y="1658880"/>
            <a:ext cx="5029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90640" y="1506600"/>
            <a:ext cx="5562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                                                                               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58080" y="5468760"/>
            <a:ext cx="1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72480" y="546876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 typical scatter of points for the additiv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542448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371600" y="138564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557676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54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54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54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54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54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54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54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54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54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54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5500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ea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5500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ea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5500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ea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10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16146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1614600"/>
            <a:ext cx="5029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1461960"/>
            <a:ext cx="5562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                                                                               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54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5424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828800" y="3290400"/>
            <a:ext cx="3808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209680" y="29858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2986200"/>
            <a:ext cx="38088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124080" y="382428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657600" y="2376360"/>
            <a:ext cx="3049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962520" y="21474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2147760"/>
            <a:ext cx="38088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029200" y="3214440"/>
            <a:ext cx="3808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410080" y="1919160"/>
            <a:ext cx="3812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91320" y="161460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1614600"/>
            <a:ext cx="53352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4572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The pattern becomes clearer as we join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54864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371600" y="14475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62920" y="56386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55627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ea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55627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ea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5562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ea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1676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1676520"/>
            <a:ext cx="5029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1523880"/>
            <a:ext cx="5562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                                                                               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5486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828800" y="3352320"/>
            <a:ext cx="3808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209680" y="30477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3048120"/>
            <a:ext cx="38088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124080" y="388620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657600" y="2438280"/>
            <a:ext cx="3049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962520" y="22093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2209680"/>
            <a:ext cx="38088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029200" y="3276360"/>
            <a:ext cx="3808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410080" y="1981080"/>
            <a:ext cx="3812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791320" y="16765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1676520"/>
            <a:ext cx="53352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2590920"/>
            <a:ext cx="4800600" cy="1600200"/>
          </a:xfrm>
          <a:custGeom>
            <a:avLst/>
            <a:gdLst/>
            <a:ahLst/>
            <a:rect l="l" t="t" r="r" b="b"/>
            <a:pathLst>
              <a:path w="3024" h="1008">
                <a:moveTo>
                  <a:pt x="0" y="1008"/>
                </a:moveTo>
                <a:cubicBezTo>
                  <a:pt x="132" y="916"/>
                  <a:pt x="264" y="824"/>
                  <a:pt x="384" y="768"/>
                </a:cubicBezTo>
                <a:cubicBezTo>
                  <a:pt x="504" y="712"/>
                  <a:pt x="560" y="736"/>
                  <a:pt x="720" y="672"/>
                </a:cubicBezTo>
                <a:cubicBezTo>
                  <a:pt x="880" y="608"/>
                  <a:pt x="1192" y="448"/>
                  <a:pt x="1344" y="384"/>
                </a:cubicBezTo>
                <a:cubicBezTo>
                  <a:pt x="1496" y="320"/>
                  <a:pt x="1520" y="328"/>
                  <a:pt x="1632" y="288"/>
                </a:cubicBezTo>
                <a:cubicBezTo>
                  <a:pt x="1744" y="248"/>
                  <a:pt x="1872" y="184"/>
                  <a:pt x="2016" y="144"/>
                </a:cubicBezTo>
                <a:cubicBezTo>
                  <a:pt x="2160" y="104"/>
                  <a:pt x="2384" y="64"/>
                  <a:pt x="2496" y="48"/>
                </a:cubicBezTo>
                <a:cubicBezTo>
                  <a:pt x="2608" y="32"/>
                  <a:pt x="2600" y="56"/>
                  <a:pt x="2688" y="48"/>
                </a:cubicBezTo>
                <a:cubicBezTo>
                  <a:pt x="2776" y="40"/>
                  <a:pt x="2968" y="8"/>
                  <a:pt x="30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705720" y="2514600"/>
            <a:ext cx="1218960" cy="76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3049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We are interested in (additive) variation around the tr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95280" y="6094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The Multiplicative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7640" y="1752480"/>
            <a:ext cx="78487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elements of interest 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multiplied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effects of the residual are assumed to cancel out and the residual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ssumed to b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variations around the trend 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predictable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proportionate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to the tr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43000" y="556272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371600" y="1523880"/>
            <a:ext cx="0" cy="426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62920" y="57913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5562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5562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5562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5562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5562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5562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5562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5562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5562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5562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5715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ea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5715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ea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5715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ea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17524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1752480"/>
            <a:ext cx="5029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1600200"/>
            <a:ext cx="55627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                             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                                                                       *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                                 *                                          *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5562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3049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A typical scatter of points for the multiplicativ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54864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371600" y="14475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62920" y="56386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485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5120" y="55627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ea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05320" y="55627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ea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81480" y="5562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ea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1143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1676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1676520"/>
            <a:ext cx="5029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1523880"/>
            <a:ext cx="55627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                             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                                                                       *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                                 *                                          *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913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5486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828800" y="441936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286000" y="35053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35053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809880" y="3276360"/>
            <a:ext cx="3812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191120" y="27432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74320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562720" y="2743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019920" y="1676160"/>
            <a:ext cx="3808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00800" y="1676520"/>
            <a:ext cx="38088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276720" y="38095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181480" y="35809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The pattern becomes clearer if we join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3000" y="556272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71600" y="1523880"/>
            <a:ext cx="0" cy="426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5715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562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5562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5562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5562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1280" y="5562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5562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5562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95680" y="5562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4120" y="5562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48520" y="5562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05120" y="5638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ea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05320" y="5638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ea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5638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ea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17524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1752480"/>
            <a:ext cx="5029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3880" y="1600200"/>
            <a:ext cx="55627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                             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                                                                       *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                                 *                                          *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91320" y="5562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0572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828800" y="44956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86000" y="35809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35812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809880" y="33526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191120" y="281916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281952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562720" y="2819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019920" y="1752480"/>
            <a:ext cx="38088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00800" y="1752480"/>
            <a:ext cx="38088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276720" y="38858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81480" y="365724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0" y="2743200"/>
            <a:ext cx="4572000" cy="1828800"/>
          </a:xfrm>
          <a:custGeom>
            <a:avLst/>
            <a:gdLst/>
            <a:ahLst/>
            <a:rect l="l" t="t" r="r" b="b"/>
            <a:pathLst>
              <a:path w="2880" h="1152">
                <a:moveTo>
                  <a:pt x="0" y="1152"/>
                </a:moveTo>
                <a:cubicBezTo>
                  <a:pt x="96" y="1048"/>
                  <a:pt x="192" y="944"/>
                  <a:pt x="288" y="864"/>
                </a:cubicBezTo>
                <a:cubicBezTo>
                  <a:pt x="384" y="784"/>
                  <a:pt x="416" y="736"/>
                  <a:pt x="576" y="672"/>
                </a:cubicBezTo>
                <a:cubicBezTo>
                  <a:pt x="736" y="608"/>
                  <a:pt x="1032" y="536"/>
                  <a:pt x="1248" y="480"/>
                </a:cubicBezTo>
                <a:cubicBezTo>
                  <a:pt x="1464" y="424"/>
                  <a:pt x="1696" y="384"/>
                  <a:pt x="1872" y="336"/>
                </a:cubicBezTo>
                <a:cubicBezTo>
                  <a:pt x="2048" y="288"/>
                  <a:pt x="2136" y="248"/>
                  <a:pt x="2304" y="192"/>
                </a:cubicBezTo>
                <a:cubicBezTo>
                  <a:pt x="2472" y="136"/>
                  <a:pt x="2784" y="32"/>
                  <a:pt x="28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934320" y="259056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05720" y="16765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29000" y="4724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creased spread within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3049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We are interested in the (proportionate) variation around the tr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1090440" y="2041560"/>
          <a:ext cx="6959880" cy="359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2041560"/>
                    <a:ext cx="695988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571680" y="6094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Consider an example (in this case the volume consumption of a commod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00400" y="6094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1676520"/>
            <a:ext cx="8153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Be able to work with data collected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Use linear regression where appropr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Model the trend and seasonal var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Make predictions using an appropriat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43080" y="6094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The Determination of Tr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16905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Whichever model we use, we do need to find tr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3960" y="2666880"/>
            <a:ext cx="7696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Essentially we smooth out the var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In this case the variations are over the 4 seasons of the year (quarter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We use the method of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moving a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819000" y="609480"/>
            <a:ext cx="75060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To find the moving aver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We take the first four quarterly values and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We then divide by four to get an a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We then move along one place, take the next four values (3 old values + 1 new one) and divide by 4 to get next a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Repeat the process to end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1066680" y="1523880"/>
          <a:ext cx="7010640" cy="414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701064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457200" y="5335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Finding a 4 quarter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57200" y="6094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However, there is a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3080" y="17524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If we are dealing with even numbers, the moving average does not align with the original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680" y="34290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We need to add an additional step, where we average pairs – see follow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838080" y="1600200"/>
          <a:ext cx="7391520" cy="437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39152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609480" y="609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Finding a 4 quarter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19040" y="712800"/>
            <a:ext cx="830592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Handout 1 sh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use of a spreadsheet to determine the 4 quarter moving total, the 4 quarter moving average and the determination of trend by ‘centring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Plot of the sales of the commodity and tr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495360" y="36504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The determination of the seasonal effect and making a prediction using the additive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38080" y="25146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See handou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429000"/>
            <a:ext cx="76197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Handout 2 sh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determination of trend (as bef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difference between the actual values and the trend values Y-T (using the additiv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990720" y="1676520"/>
          <a:ext cx="7162560" cy="42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16256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609480" y="5335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Differences from the trend using Y-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09480" y="666720"/>
            <a:ext cx="7620120" cy="31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Handout 2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also sh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 table that finds the average quarterly difference (giving the estimated seasonal eff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predictions for year 4 using values from the extended trend line and the adjustment for seasonal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95360" y="5461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imes New Roman"/>
              </a:rPr>
              <a:t>The determination of the seasonal effect and making a prediction using the multiplicativ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3520" y="2514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See handout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3429000"/>
            <a:ext cx="800100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Handout 3 sh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determination of trend (as bef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difference between the actual values and the trend values Y/T (using the multiplicativ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6094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Much of the data of interest to us is collected over time.  We are likely to be interested in the actual values, the trend and the predictable vari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362320"/>
            <a:ext cx="8229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xample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Employment and 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Sales (particularly seasonal vari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Energy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ravel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1270080" y="1806480"/>
          <a:ext cx="6603840" cy="390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080" y="1806480"/>
                    <a:ext cx="660384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609480" y="5335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Differences from the trend using Y/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47640" y="762120"/>
            <a:ext cx="7848720" cy="31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Handout 3 also sh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 table that finds the average quarterly difference (giving the estimated seasonal eff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predictions for year 4 using values from the extended trend line and the adjustment for seasonal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057400" y="38088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A note of pred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1627200"/>
            <a:ext cx="83822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It is necessary to project the trend line forward using regression or some other method (in our examples we have used linear regres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We need to be aware of the assumptions being made by such extension of the trend line e.g. the the present trend is contin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95360" y="838080"/>
            <a:ext cx="8153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Having extended the trend line forward we adjust our forecast according to the estimated seasonal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Different models (additive and multiplicative in this case) are likely to give different 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19040" y="53352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A note on number of periods being used for the calculation of the tr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3080" y="2208240"/>
            <a:ext cx="84582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In our example we used a 4 quarter moving average (that we then needed t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entre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) because the natural variation was over 4 quarters/seasons of the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However, if we were looking at sales over 7 working days, then we would use a 7 point moving a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04920" y="99072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If 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we are using an odd number (5 or 7 working days for example) then the moving average is centred and we don’t need the additional averaging stage (you will see examples in the text boo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476440" y="6094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1566720"/>
            <a:ext cx="80769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Much of the data we work with is collected over time e.g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We can use a number of forecasting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In particular, we need to think about the trend and seasonal var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answers we get will depend on the quality of data collected and model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28880" y="5335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Using a linear (regression)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5238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It might be the case, that our data of interest could be described by a straight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74320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Suppose we have the following sales figures for the last 5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86080" y="3962520"/>
          <a:ext cx="6172200" cy="193824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94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60948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We typically work with years of 1, 2, 3 and so on rather than 2000, 2001, 2002 just because it can make the number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895480"/>
            <a:ext cx="7467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It is always useful to graph the data and comment on the relationship.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00280" y="3808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It can be seen from the graph that sales have fallen steadily over the last 5 years and can reasonably be described by a straight l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409760" y="2057400"/>
          <a:ext cx="6324480" cy="37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2057400"/>
                    <a:ext cx="6324480" cy="37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38080" y="609480"/>
            <a:ext cx="74678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Using Excel, we can get the following valu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correlation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-0.9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intercept 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182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gradient (slope)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-4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4880" y="4038480"/>
            <a:ext cx="773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correlation is close to -1 suggesting a strong negative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53352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equation of the lin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= 182.8 - 4.8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640" y="2133720"/>
            <a:ext cx="727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If we want to forecast the coming year (using this methodology), let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=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4290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= 182.8 – 4.8 x 6 = 15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464832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is assumes the continuation of the observed linear relatio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14680" y="5335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imes New Roman"/>
              </a:rPr>
              <a:t>Modelling a Time Se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600200"/>
            <a:ext cx="83822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We typically expect to see the following over ti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rend (T) – this is the general movement in the data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Seasonal factors (S) – predictable var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Residual factors (R) – the variations we cannot ex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8:21:59Z</dcterms:created>
  <dc:creator>id000258</dc:creator>
  <dc:description/>
  <dc:language>en-US</dc:language>
  <cp:lastModifiedBy>Administrator</cp:lastModifiedBy>
  <dcterms:modified xsi:type="dcterms:W3CDTF">2007-12-07T16:11:40Z</dcterms:modified>
  <cp:revision>44</cp:revision>
  <dc:subject/>
  <dc:title>Business and Management Research</dc:title>
</cp:coreProperties>
</file>