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5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25909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hapter 13: Other Sources of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5335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828800"/>
            <a:ext cx="80769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worth clarifying the purpose of you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re is plenty of data out there but you also need to be sure about its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condary data and primary data can be 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8628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94040"/>
            <a:ext cx="7467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dentify useful sources of 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anage the process of searching f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reciate the availability of information from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lue the contribution of 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38280" y="53352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Making a 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1674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ather than just using the information sources you have used before it is worth looking around just to see what you can f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429000"/>
            <a:ext cx="701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ry brow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Newspapers, journals, book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Publishe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533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Improved understanding of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85880"/>
            <a:ext cx="76197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larification the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o we know we are working on the right problem (not just the sympt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o has an interest on the problem and the solution (we can talk about stakeholders, viewpoints and a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an we encourage more creative solu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280" y="730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Brainstorming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– can be used at any stage of the problem solv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0280" y="25290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n important part of being more imaginative is the generation of ideas.  Brainstorming is a means of encouraging ideas.  One important principle is to defer jud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3720" y="5335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fficial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7208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ry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he office of National Statistics web site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statistics.gov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4290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ou will find information on many aspects of social and economic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6240" y="685800"/>
            <a:ext cx="7391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Government publicati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Annual Abstract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Monthly Digest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Financi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conomic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ocial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5335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Data from th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uild up your own library of web si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ons.gov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bbc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762120"/>
            <a:ext cx="7925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ke a search using one of the popular search eng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goog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lycos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ccff"/>
                </a:solidFill>
                <a:uFillTx/>
                <a:latin typeface="Times New Roman"/>
              </a:rPr>
              <a:t>www.yahoo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9:40:08Z</dcterms:created>
  <dc:creator>JON CURWIN.</dc:creator>
  <dc:description/>
  <dc:language>en-US</dc:language>
  <cp:lastModifiedBy>Administrator</cp:lastModifiedBy>
  <dcterms:modified xsi:type="dcterms:W3CDTF">2007-12-07T16:17:39Z</dcterms:modified>
  <cp:revision>9</cp:revision>
  <dc:subject/>
  <dc:title>PowerPoint Presentation</dc:title>
</cp:coreProperties>
</file>