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07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6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hapter 11: Probability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cision Tre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523880"/>
            <a:ext cx="76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is a way of illustrating the consequences of decisions and the outcomes of events for which we can assign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s a visual medium, it can help communicate ideas to other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t can also help you to think through a problem, making sure that you have considered every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240" y="4419720"/>
            <a:ext cx="74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n using decision trees we are usually dealing with monetary outcomes, so rather than expected values, we usually tal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ected Monetar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24160" y="4572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cision Tree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523880"/>
            <a:ext cx="76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Think about the following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company is deciding whether or not to exp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y expand, at a cost of £50,000 and the market also expands, their expected increase in profit is £100,000 per year. Expansion without an increase in the market might give increased profits of £20,000 per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y do not expand and the market grows, they will still increase their profits by £20,000 per year, but if the market does not grow, then there is no foreseeable increase in pro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probability the market grows as predicted is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2920" y="533520"/>
            <a:ext cx="5257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cision Trees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121932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the expand company option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3526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76520" y="2895480"/>
            <a:ext cx="2666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120" y="23623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exp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26668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16765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xpected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657600"/>
            <a:ext cx="2590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2960" y="43434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doesn’t exp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=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2670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7080" y="263196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00,000*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£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4440" y="40798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0,000*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£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533412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overall expected profit increase is £25,000 + £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£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47840" y="3808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cision Trees (4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1840" y="12193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the do not expand company option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3526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2895480"/>
            <a:ext cx="2666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120" y="23623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exp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6668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6360" y="16765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xpected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657600"/>
            <a:ext cx="2590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960" y="43434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doesn’t exp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=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6720" y="2631960"/>
            <a:ext cx="21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0,000*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£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407988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0*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£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20" y="533412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overall expected profit increase is £5,000 + £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£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cision Trees (5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840" y="1066680"/>
            <a:ext cx="57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Putting the two diagrams together, we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7339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133720" y="2971440"/>
            <a:ext cx="2057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840" y="243828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=£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038480"/>
            <a:ext cx="2057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61040" y="4537080"/>
            <a:ext cx="18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’t 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= £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74320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64832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72000" y="228564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80560" y="20224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g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981080"/>
            <a:ext cx="3812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6560" y="12952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xpected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0800" y="194616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4280" y="316548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12408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9718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2960" y="31240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572000" y="44197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4114800"/>
            <a:ext cx="3812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6400" y="40384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g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77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952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518148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0800" y="5146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0120" y="52578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3808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cision Trees (6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74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ooking at the overall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 company expands the cost is £50,000 and the expected increase in profit is £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 net expected cost of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£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 company does not expand, the cost is £0 and the expected increase in profit is £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 net expected profit of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£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66040" y="4800600"/>
            <a:ext cx="68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You would recommend the company not to 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inomial Probabiliti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280" y="17524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A binomial model will apply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(a)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chance of success (however defined) is constant from event to event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(b)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re are two outcomes (or at least, the outcomes can be classified into just two) – success and failure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30480" y="472428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inomial models have proved useful in solving many problems and are fairly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inomial Resul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9960" y="12952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If there are two trials, where the probability of success is 0.4, then there are 4 possible results: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2438280"/>
          <a:ext cx="7620120" cy="3597120"/>
        </p:xfrm>
        <a:graphic>
          <a:graphicData uri="http://schemas.openxmlformats.org/drawingml/2006/table">
            <a:tbl>
              <a:tblPr/>
              <a:tblGrid>
                <a:gridCol w="3809880"/>
                <a:gridCol w="1905120"/>
                <a:gridCol w="190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wo succes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4 x 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Success on the first trial and failure on the se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4 x 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Failure on the first trial and success on the 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6 x 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wo fail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6 x 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6204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mbining Resul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34316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ooking at the last table, you can see that the middle two results are the same, except for the order in which the event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ince order doesn’t matter, we can combine these to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90720" y="3548160"/>
          <a:ext cx="7086600" cy="2395440"/>
        </p:xfrm>
        <a:graphic>
          <a:graphicData uri="http://schemas.openxmlformats.org/drawingml/2006/table">
            <a:tbl>
              <a:tblPr/>
              <a:tblGrid>
                <a:gridCol w="3047760"/>
                <a:gridCol w="2057400"/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wo succes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4 x 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ne succ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 x 0.4 x 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Zero succ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6 x 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inomial Formul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3276720"/>
                <a:ext cx="5562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 successes  in n trials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055520" y="1600200"/>
            <a:ext cx="70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can derive a general formula for binomial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n = number of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p = probability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r = number of su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240" y="4495680"/>
            <a:ext cx="80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number of different ways of getting r successes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505320" y="5105520"/>
                <a:ext cx="2133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-28260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Define probabilit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69960" indent="-28260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Work with mutually exclusive ev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69960" indent="-28260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Work with independent ev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69960" indent="-28260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Work with dependent ev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69960" indent="-28260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Calculate expected monetary valu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69960" indent="-28260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Recognise and calculate binomial probabilities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inomial Examp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0020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we pick 4 items at random from a production process where we know that the probability of a faulty item is constant at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at is the probability of getting 2 faulty items in the s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0200" y="2971800"/>
            <a:ext cx="693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 this case we can identify that p = 0.1, n = 5 and r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tting these into our formula g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962520" y="3962520"/>
                <a:ext cx="35049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351800" y="491796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probability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3880" y="5562720"/>
                <a:ext cx="64771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2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0600" y="1889280"/>
            <a:ext cx="710280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Probability provides a very useful means of looking at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It highlights the fact that little is absolutely certain and that alternative outcomes have some chance of happe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Learning to think using probability will help you to consider areas such as contingency planning and risk analysis.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fining Probability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1560" y="17524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Most commonly used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26668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Event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3360" y="2514600"/>
            <a:ext cx="42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9"/>
                </a:solidFill>
                <a:uFillTx/>
                <a:latin typeface="Times New Roman"/>
              </a:rPr>
              <a:t>Number of ways event can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umber of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5520" y="4724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46483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problem is that not all outcomes are necessarily equally lik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r equally 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(Think of a biased d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4360" y="358128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xample, a coin has 2 sid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probability of a Head is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More Defini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1880" y="175248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Frequency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4382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Event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240" y="2209680"/>
            <a:ext cx="38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9"/>
                </a:solidFill>
                <a:uFillTx/>
                <a:latin typeface="Times New Roman"/>
              </a:rPr>
              <a:t>Number of times even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umber of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7480" y="354636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Subjective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60800" y="423216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sk a series of “experts” to estimate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use feedback to refine th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4880" y="52228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Axiomatic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95760" y="571500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et up axioms and derive probability results from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Mutually Exclusive Eve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495680"/>
            <a:ext cx="6629400" cy="1176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ule 1: Where A and B are mutually exclusive, 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(A or B) = P(A) + P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70440" y="1752480"/>
            <a:ext cx="700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wo (or more) events cannot happen at the same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y are called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mutually exclusive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could be different scores on a d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ince only one face can show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 this case we can just add the probabilities 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1) + P(2) = 1/6 + 1/6 = 1/3 = P(1 or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Non-Mutually Exclusive Eve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038480" y="2743200"/>
          <a:ext cx="533412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743200"/>
                    <a:ext cx="533412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29640" y="175248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me items or events have more than one characte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you think of a pack of cards, each card has a valu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and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a s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495680"/>
            <a:ext cx="4952880" cy="1481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Rule 2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: Where A and B are not mutually exclusive, 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(A or B) = P(A) + P(B) – P(A and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8640" y="29718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Sample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Independent Eve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103720"/>
            <a:ext cx="56390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Rule 3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Where A and B are independent, t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P(A &amp; B) = P(A) x P(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82880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 outcome of one event does not affect the outcome of some other event, then the 2 events are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8320" y="281952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xample, if two coins are tossed, the result on the first coin has no effect on the result on the second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we can multiply the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H on 1st)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H on 2nd) = ½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½=¼ = P(H on both co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Dependent Eve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the outcome of one event affects the outcome of a second event, the second event is called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dependent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For example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, if we have a small group of people consisting of 3 men and 4 women and want to find probabilities relating to selecting 2 people, then the probability relating to the second person will depend on who was selected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480" y="4495680"/>
            <a:ext cx="22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rst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Man) = 3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Woman) = 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4956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2nd person if 1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Man) = 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Woman) = 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4956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2nd person if 1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Man) = 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(Woman) = 3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Expected Valu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371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obability is a useful concept, but many people find it a little difficult, unless they are doing a course such a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y will want to know what the effect or outcome is, and we can help by talking about what is expected to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expectation is a sort of “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verage in the long run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we find it by multiplying the effect by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, if we have a lottery ticket which might win £1,000 with a probability of 0.001, but win nothing otherwise, then we have the expected value of the ticket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£1,000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0.001 + £0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0.999 = £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Don’t think this is what will happen – it can’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It is the average value of the ticket, so don’t pay £2 for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1:40Z</dcterms:created>
  <dc:creator>dwnusr38</dc:creator>
  <dc:description/>
  <dc:language>en-US</dc:language>
  <cp:lastModifiedBy>Administrator</cp:lastModifiedBy>
  <dcterms:modified xsi:type="dcterms:W3CDTF">2007-12-07T16:16:54Z</dcterms:modified>
  <cp:revision>68</cp:revision>
  <dc:subject/>
  <dc:title>Basic Sums</dc:title>
</cp:coreProperties>
</file>