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5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272736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Chapter 12: Collecting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6094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Some other sampl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887480"/>
            <a:ext cx="79250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uster sampling – distinct groups are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ulti-stage –we work through various levels i.e select constituencies, select wards with constituencies, select people within w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Quota sampling – interviewer selects (non-random) respondents from given qu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19520" y="5335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Sample s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0280" y="1644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determination of sample size can become a very technical exerc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2967120"/>
            <a:ext cx="7010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Factors to consi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ccuracy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ariability within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information required i.e. by sub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6094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The questionn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746360"/>
            <a:ext cx="76197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The design and structure of the questionnaire will depend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purpose of the survey (object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vailability of respo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Likely response to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nformation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1066680"/>
            <a:ext cx="8076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Questionnaires are use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tructured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elephone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Postal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dapted for the internet (email profor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Used as check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95360" y="831960"/>
            <a:ext cx="81532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Types of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Open-ended i.e. ‘What would you say …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osed i.e. ‘Which of the following …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anking i.e. ‘Rank the following in order of importance …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cale i.e. ‘On a scale of 1 to 5 …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5335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Framing th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82880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void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void jarg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void ambiguous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Keep questions short and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void questions with neg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6094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Framing th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600200"/>
            <a:ext cx="830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676520"/>
            <a:ext cx="6705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void hypothetic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Use filters to avoid irrelevant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ake it easy for respondent to give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09680" y="5335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639800"/>
            <a:ext cx="7010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ny research is likely to use both secondary and prim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t is important to clarify research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t is important to carefully define the population and sample selec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quality of the data will depend on the quality of the sample design and questionnair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5335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76520"/>
            <a:ext cx="73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dentify the important issues of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arify the purpose of prim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escribe various techniques of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ritically consider questionnair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09680" y="6094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The need for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981080"/>
            <a:ext cx="7010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ata is collected in a variety of ways to inform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ata we collect is referred to as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prim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ata others have collected is referred to as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second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91440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l those collected facts and figures are referred to as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data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.  When data can inform the user it is calle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information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90920" y="4572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Important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779480"/>
            <a:ext cx="82296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Population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– all those people or items of interest to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Sampl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– a selection from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Sampling fram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– a listing of all those in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andom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– gives each individual a calculable chance (typically equal chance) of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14600" y="5335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Sample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6240" y="1625760"/>
            <a:ext cx="73915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design should allow the efficient and effective collection of data from the chosen respo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ost sample designs will retain some element of randomness to ensure fair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n exception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purposeful sampl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selected on the basis of our knowledge to serve a clear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609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Simple random sampling (S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76240" y="1828800"/>
            <a:ext cx="7391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l possible respondents given an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qual chanc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of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ome form of lottery method used e.g. computer generated random numbers (look at Excel), random number tables or try your calc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6094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Stratified sam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27200"/>
            <a:ext cx="77724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ttempts to use our knowledge of the population to improve the representation of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elevant groups or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strata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re identified and a fair selection made from each i.e. if 60% of your population own a car and this is a relevant factor then 60% of your sample should own a 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Systematic sam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523880"/>
            <a:ext cx="77724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f the sampling frame provides a convenient numbering, respondents can be selected at intervals – syste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uppose we wanted to select 6 from a numbered list 00 to 59.  We need every 10</a:t>
            </a:r>
            <a:r>
              <a:rPr b="0" lang="en-GB" sz="28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person.  Taking a random number to start, say 7, we would select the 7</a:t>
            </a:r>
            <a:r>
              <a:rPr b="0" lang="en-GB" sz="28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, 17</a:t>
            </a:r>
            <a:r>
              <a:rPr b="0" lang="en-GB" sz="28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nd so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20:20:27Z</dcterms:created>
  <dc:creator>JON CURWIN.</dc:creator>
  <dc:description/>
  <dc:language>en-US</dc:language>
  <cp:lastModifiedBy>Administrator</cp:lastModifiedBy>
  <dcterms:modified xsi:type="dcterms:W3CDTF">2007-12-07T16:17:15Z</dcterms:modified>
  <cp:revision>8</cp:revision>
  <dc:subject/>
  <dc:title>PowerPoint Presentation</dc:title>
</cp:coreProperties>
</file>