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4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4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4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440" y="685800"/>
            <a:ext cx="80773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4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9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7070760" y="650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6311880"/>
            <a:ext cx="9144000" cy="5335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Arial"/>
              </a:rPr>
              <a:t>     </a:t>
            </a:r>
            <a:br>
              <a:rPr sz="1000"/>
            </a:br>
            <a:r>
              <a:rPr b="1" lang="en-GB" sz="1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Jon Curwin and Roger Slater,</a:t>
            </a:r>
            <a:r>
              <a:rPr b="1" lang="en-GB" sz="1000" spc="-1" strike="noStrike">
                <a:solidFill>
                  <a:srgbClr val="ffffff"/>
                </a:solidFill>
                <a:latin typeface="Arial"/>
              </a:rPr>
              <a:t> QUANTITATIVE METHODS: A SHORT COURSE    </a:t>
            </a:r>
            <a:br>
              <a:rPr sz="1000"/>
            </a:br>
            <a:r>
              <a:rPr b="1" lang="en-GB" sz="1000" spc="-1" strike="noStrike">
                <a:solidFill>
                  <a:srgbClr val="ffffff"/>
                </a:solidFill>
                <a:latin typeface="Arial"/>
              </a:rPr>
              <a:t>ISBN 1-86152-991-0    © Thomson Learning 2004 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52280" y="6362640"/>
            <a:ext cx="1447920" cy="419040"/>
          </a:xfrm>
          <a:prstGeom prst="rect">
            <a:avLst/>
          </a:prstGeom>
          <a:ln w="0">
            <a:noFill/>
          </a:ln>
        </p:spPr>
      </p:pic>
      <p:grpSp>
        <p:nvGrpSpPr>
          <p:cNvPr id="5" name=""/>
          <p:cNvGrpSpPr/>
          <p:nvPr/>
        </p:nvGrpSpPr>
        <p:grpSpPr>
          <a:xfrm>
            <a:off x="0" y="6165720"/>
            <a:ext cx="9144000" cy="884520"/>
            <a:chOff x="0" y="6165720"/>
            <a:chExt cx="9144000" cy="884520"/>
          </a:xfrm>
        </p:grpSpPr>
        <p:sp>
          <p:nvSpPr>
            <p:cNvPr id="6" name=""/>
            <p:cNvSpPr/>
            <p:nvPr/>
          </p:nvSpPr>
          <p:spPr>
            <a:xfrm>
              <a:off x="0" y="6311880"/>
              <a:ext cx="9144000" cy="53352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ffffff"/>
                  </a:solidFill>
                  <a:latin typeface="Arial"/>
                </a:rPr>
                <a:t>     </a:t>
              </a:r>
              <a:br>
                <a:rPr sz="1000"/>
              </a:br>
              <a:r>
                <a:rPr b="1" lang="en-GB" sz="10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en-GB" sz="1000" spc="-1" strike="noStrike">
                  <a:solidFill>
                    <a:srgbClr val="ffffff"/>
                  </a:solidFill>
                  <a:latin typeface="Arial"/>
                </a:rPr>
                <a:t>Jon Curwin and Roger Slater,</a:t>
              </a:r>
              <a:r>
                <a:rPr b="1" lang="en-GB" sz="1000" spc="-1" strike="noStrike">
                  <a:solidFill>
                    <a:srgbClr val="ffffff"/>
                  </a:solidFill>
                  <a:latin typeface="Arial"/>
                </a:rPr>
                <a:t> QUANTITATIVE METHODS: A SHORT COURSE    </a:t>
              </a:r>
              <a:br>
                <a:rPr sz="1000"/>
              </a:br>
              <a:r>
                <a:rPr b="1" lang="en-GB" sz="1000" spc="-1" strike="noStrike">
                  <a:solidFill>
                    <a:srgbClr val="ffffff"/>
                  </a:solidFill>
                  <a:latin typeface="Arial"/>
                </a:rPr>
                <a:t>ISBN 1-86152-991-0    © Cengage </a:t>
              </a:r>
              <a:br>
                <a:rPr sz="1000"/>
              </a:b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" name="" descr=""/>
            <p:cNvPicPr/>
            <p:nvPr/>
          </p:nvPicPr>
          <p:blipFill>
            <a:blip r:embed="rId3"/>
            <a:stretch/>
          </p:blipFill>
          <p:spPr>
            <a:xfrm>
              <a:off x="0" y="6165720"/>
              <a:ext cx="2343240" cy="88452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http://www.statistics.gov.uk/" TargetMode="External"/><Relationship Id="rId3" Type="http://schemas.openxmlformats.org/officeDocument/2006/relationships/hyperlink" Target="http://www.statistics.gov.uk/" TargetMode="External"/><Relationship Id="rId4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99"/>
                </a:solidFill>
                <a:latin typeface="Times New Roman"/>
              </a:rPr>
              <a:t>Chapter 7: Index Numbers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33520" y="685800"/>
            <a:ext cx="8076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99"/>
                </a:solidFill>
                <a:latin typeface="Times New Roman"/>
              </a:rPr>
              <a:t>Base-weighted Indices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1676520" y="3809880"/>
            <a:ext cx="5719320" cy="1873440"/>
            <a:chOff x="1676520" y="3809880"/>
            <a:chExt cx="5719320" cy="1873440"/>
          </a:xfrm>
        </p:grpSpPr>
        <p:grpSp>
          <p:nvGrpSpPr>
            <p:cNvPr id="204" name=""/>
            <p:cNvGrpSpPr/>
            <p:nvPr/>
          </p:nvGrpSpPr>
          <p:grpSpPr>
            <a:xfrm>
              <a:off x="1681200" y="3813120"/>
              <a:ext cx="5709240" cy="1866600"/>
              <a:chOff x="1681200" y="3813120"/>
              <a:chExt cx="5709240" cy="1866600"/>
            </a:xfrm>
          </p:grpSpPr>
          <p:grpSp>
            <p:nvGrpSpPr>
              <p:cNvPr id="205" name=""/>
              <p:cNvGrpSpPr/>
              <p:nvPr/>
            </p:nvGrpSpPr>
            <p:grpSpPr>
              <a:xfrm>
                <a:off x="1681200" y="3813120"/>
                <a:ext cx="1127880" cy="554760"/>
                <a:chOff x="1681200" y="3813120"/>
                <a:chExt cx="1127880" cy="55476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1750320" y="3813120"/>
                  <a:ext cx="989640" cy="55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r" pos="457200"/>
                      <a:tab algn="ctr" pos="2637000"/>
                      <a:tab algn="r" pos="527364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Item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r" pos="457200"/>
                      <a:tab algn="ctr" pos="2637000"/>
                      <a:tab algn="r" pos="527364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1681200" y="3813120"/>
                  <a:ext cx="1127880" cy="554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8" name=""/>
              <p:cNvGrpSpPr/>
              <p:nvPr/>
            </p:nvGrpSpPr>
            <p:grpSpPr>
              <a:xfrm>
                <a:off x="2809440" y="3813120"/>
                <a:ext cx="1135440" cy="554760"/>
                <a:chOff x="2809440" y="3813120"/>
                <a:chExt cx="1135440" cy="554760"/>
              </a:xfrm>
            </p:grpSpPr>
            <p:sp>
              <p:nvSpPr>
                <p:cNvPr id="209" name=""/>
                <p:cNvSpPr/>
                <p:nvPr/>
              </p:nvSpPr>
              <p:spPr>
                <a:xfrm>
                  <a:off x="2878200" y="3813120"/>
                  <a:ext cx="997920" cy="55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r" pos="457200"/>
                      <a:tab algn="ctr" pos="2637000"/>
                      <a:tab algn="r" pos="527364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Price (Yr1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r" pos="457200"/>
                      <a:tab algn="ctr" pos="2637000"/>
                      <a:tab algn="r" pos="527364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2809440" y="3813120"/>
                  <a:ext cx="1135440" cy="554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1" name=""/>
              <p:cNvGrpSpPr/>
              <p:nvPr/>
            </p:nvGrpSpPr>
            <p:grpSpPr>
              <a:xfrm>
                <a:off x="3945240" y="3813120"/>
                <a:ext cx="1227240" cy="554760"/>
                <a:chOff x="3945240" y="3813120"/>
                <a:chExt cx="1227240" cy="554760"/>
              </a:xfrm>
            </p:grpSpPr>
            <p:sp>
              <p:nvSpPr>
                <p:cNvPr id="212" name=""/>
                <p:cNvSpPr/>
                <p:nvPr/>
              </p:nvSpPr>
              <p:spPr>
                <a:xfrm>
                  <a:off x="4014360" y="3813120"/>
                  <a:ext cx="1089360" cy="55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r" pos="457200"/>
                      <a:tab algn="ctr" pos="2637000"/>
                      <a:tab algn="r" pos="527364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Quantity (Yr1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3945240" y="3813120"/>
                  <a:ext cx="1227240" cy="554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4" name=""/>
              <p:cNvGrpSpPr/>
              <p:nvPr/>
            </p:nvGrpSpPr>
            <p:grpSpPr>
              <a:xfrm>
                <a:off x="5173200" y="3813120"/>
                <a:ext cx="1081080" cy="554760"/>
                <a:chOff x="5173200" y="3813120"/>
                <a:chExt cx="1081080" cy="554760"/>
              </a:xfrm>
            </p:grpSpPr>
            <p:sp>
              <p:nvSpPr>
                <p:cNvPr id="215" name=""/>
                <p:cNvSpPr/>
                <p:nvPr/>
              </p:nvSpPr>
              <p:spPr>
                <a:xfrm>
                  <a:off x="5242320" y="3813120"/>
                  <a:ext cx="942840" cy="55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r" pos="457200"/>
                      <a:tab algn="ctr" pos="2637000"/>
                      <a:tab algn="r" pos="527364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Price (Yr2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r" pos="457200"/>
                      <a:tab algn="ctr" pos="2637000"/>
                      <a:tab algn="r" pos="527364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5173200" y="3813120"/>
                  <a:ext cx="1081080" cy="554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7" name=""/>
              <p:cNvGrpSpPr/>
              <p:nvPr/>
            </p:nvGrpSpPr>
            <p:grpSpPr>
              <a:xfrm>
                <a:off x="6254640" y="3813120"/>
                <a:ext cx="1135800" cy="554760"/>
                <a:chOff x="6254640" y="3813120"/>
                <a:chExt cx="1135800" cy="554760"/>
              </a:xfrm>
            </p:grpSpPr>
            <p:sp>
              <p:nvSpPr>
                <p:cNvPr id="218" name=""/>
                <p:cNvSpPr/>
                <p:nvPr/>
              </p:nvSpPr>
              <p:spPr>
                <a:xfrm>
                  <a:off x="6323760" y="3813120"/>
                  <a:ext cx="997560" cy="55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r" pos="457200"/>
                      <a:tab algn="ctr" pos="2637000"/>
                      <a:tab algn="r" pos="527364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Price (Yr3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r" pos="457200"/>
                      <a:tab algn="ctr" pos="2637000"/>
                      <a:tab algn="r" pos="527364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6254640" y="3813120"/>
                  <a:ext cx="1135800" cy="554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0" name=""/>
              <p:cNvGrpSpPr/>
              <p:nvPr/>
            </p:nvGrpSpPr>
            <p:grpSpPr>
              <a:xfrm>
                <a:off x="1681200" y="4367880"/>
                <a:ext cx="1127880" cy="437040"/>
                <a:chOff x="1681200" y="4367880"/>
                <a:chExt cx="1127880" cy="437040"/>
              </a:xfrm>
            </p:grpSpPr>
            <p:sp>
              <p:nvSpPr>
                <p:cNvPr id="221" name=""/>
                <p:cNvSpPr/>
                <p:nvPr/>
              </p:nvSpPr>
              <p:spPr>
                <a:xfrm>
                  <a:off x="1750320" y="4367880"/>
                  <a:ext cx="989640" cy="437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457200"/>
                      <a:tab algn="ctr" pos="2637000"/>
                      <a:tab algn="r" pos="527364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Chip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457200"/>
                      <a:tab algn="ctr" pos="2637000"/>
                      <a:tab algn="r" pos="527364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1681200" y="4367880"/>
                  <a:ext cx="1127880" cy="437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3" name=""/>
              <p:cNvGrpSpPr/>
              <p:nvPr/>
            </p:nvGrpSpPr>
            <p:grpSpPr>
              <a:xfrm>
                <a:off x="2809440" y="4367880"/>
                <a:ext cx="1135440" cy="437040"/>
                <a:chOff x="2809440" y="4367880"/>
                <a:chExt cx="1135440" cy="437040"/>
              </a:xfrm>
            </p:grpSpPr>
            <p:sp>
              <p:nvSpPr>
                <p:cNvPr id="224" name=""/>
                <p:cNvSpPr/>
                <p:nvPr/>
              </p:nvSpPr>
              <p:spPr>
                <a:xfrm>
                  <a:off x="2878200" y="4367880"/>
                  <a:ext cx="997920" cy="437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r" pos="457200"/>
                      <a:tab algn="ctr" pos="2637000"/>
                      <a:tab algn="r" pos="527364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r" pos="457200"/>
                      <a:tab algn="ctr" pos="2637000"/>
                      <a:tab algn="r" pos="527364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2809440" y="4367880"/>
                  <a:ext cx="1135440" cy="437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6" name=""/>
              <p:cNvGrpSpPr/>
              <p:nvPr/>
            </p:nvGrpSpPr>
            <p:grpSpPr>
              <a:xfrm>
                <a:off x="3945240" y="4367880"/>
                <a:ext cx="1227240" cy="437040"/>
                <a:chOff x="3945240" y="4367880"/>
                <a:chExt cx="1227240" cy="43704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4014360" y="4367880"/>
                  <a:ext cx="1089360" cy="437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r" pos="457200"/>
                      <a:tab algn="ctr" pos="2637000"/>
                      <a:tab algn="r" pos="527364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7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r" pos="457200"/>
                      <a:tab algn="ctr" pos="2637000"/>
                      <a:tab algn="r" pos="527364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945240" y="4367880"/>
                  <a:ext cx="1227240" cy="437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9" name=""/>
              <p:cNvGrpSpPr/>
              <p:nvPr/>
            </p:nvGrpSpPr>
            <p:grpSpPr>
              <a:xfrm>
                <a:off x="5173200" y="4367880"/>
                <a:ext cx="1081080" cy="437040"/>
                <a:chOff x="5173200" y="4367880"/>
                <a:chExt cx="1081080" cy="437040"/>
              </a:xfrm>
            </p:grpSpPr>
            <p:sp>
              <p:nvSpPr>
                <p:cNvPr id="230" name=""/>
                <p:cNvSpPr/>
                <p:nvPr/>
              </p:nvSpPr>
              <p:spPr>
                <a:xfrm>
                  <a:off x="5242320" y="4367880"/>
                  <a:ext cx="942840" cy="437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r" pos="457200"/>
                      <a:tab algn="ctr" pos="2637000"/>
                      <a:tab algn="r" pos="527364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2.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r" pos="457200"/>
                      <a:tab algn="ctr" pos="2637000"/>
                      <a:tab algn="r" pos="527364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173200" y="4367880"/>
                  <a:ext cx="1081080" cy="437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2" name=""/>
              <p:cNvGrpSpPr/>
              <p:nvPr/>
            </p:nvGrpSpPr>
            <p:grpSpPr>
              <a:xfrm>
                <a:off x="6254640" y="4367880"/>
                <a:ext cx="1135800" cy="437040"/>
                <a:chOff x="6254640" y="4367880"/>
                <a:chExt cx="1135800" cy="437040"/>
              </a:xfrm>
            </p:grpSpPr>
            <p:sp>
              <p:nvSpPr>
                <p:cNvPr id="233" name=""/>
                <p:cNvSpPr/>
                <p:nvPr/>
              </p:nvSpPr>
              <p:spPr>
                <a:xfrm>
                  <a:off x="6323760" y="4367880"/>
                  <a:ext cx="997560" cy="437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r" pos="457200"/>
                      <a:tab algn="ctr" pos="2637000"/>
                      <a:tab algn="r" pos="527364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2.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r" pos="457200"/>
                      <a:tab algn="ctr" pos="2637000"/>
                      <a:tab algn="r" pos="527364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6254640" y="4367880"/>
                  <a:ext cx="1135800" cy="437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5" name=""/>
              <p:cNvGrpSpPr/>
              <p:nvPr/>
            </p:nvGrpSpPr>
            <p:grpSpPr>
              <a:xfrm>
                <a:off x="1681200" y="4805280"/>
                <a:ext cx="1127880" cy="437400"/>
                <a:chOff x="1681200" y="4805280"/>
                <a:chExt cx="1127880" cy="43740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1750320" y="4805280"/>
                  <a:ext cx="989640" cy="43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457200"/>
                      <a:tab algn="ctr" pos="2637000"/>
                      <a:tab algn="r" pos="527364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Beer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457200"/>
                      <a:tab algn="ctr" pos="2637000"/>
                      <a:tab algn="r" pos="527364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1681200" y="4805280"/>
                  <a:ext cx="1127880" cy="437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2809440" y="4805280"/>
                <a:ext cx="1135440" cy="437400"/>
                <a:chOff x="2809440" y="4805280"/>
                <a:chExt cx="1135440" cy="437400"/>
              </a:xfrm>
            </p:grpSpPr>
            <p:sp>
              <p:nvSpPr>
                <p:cNvPr id="239" name=""/>
                <p:cNvSpPr/>
                <p:nvPr/>
              </p:nvSpPr>
              <p:spPr>
                <a:xfrm>
                  <a:off x="2878200" y="4805280"/>
                  <a:ext cx="997920" cy="43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r" pos="457200"/>
                      <a:tab algn="ctr" pos="2637000"/>
                      <a:tab algn="r" pos="527364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4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r" pos="457200"/>
                      <a:tab algn="ctr" pos="2637000"/>
                      <a:tab algn="r" pos="527364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2809440" y="4805280"/>
                  <a:ext cx="1135440" cy="437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1" name=""/>
              <p:cNvGrpSpPr/>
              <p:nvPr/>
            </p:nvGrpSpPr>
            <p:grpSpPr>
              <a:xfrm>
                <a:off x="3945240" y="4805280"/>
                <a:ext cx="1227240" cy="437400"/>
                <a:chOff x="3945240" y="4805280"/>
                <a:chExt cx="1227240" cy="43740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4014360" y="4805280"/>
                  <a:ext cx="1089360" cy="43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r" pos="457200"/>
                      <a:tab algn="ctr" pos="2637000"/>
                      <a:tab algn="r" pos="527364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2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r" pos="457200"/>
                      <a:tab algn="ctr" pos="2637000"/>
                      <a:tab algn="r" pos="527364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3945240" y="4805280"/>
                  <a:ext cx="1227240" cy="437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4" name=""/>
              <p:cNvGrpSpPr/>
              <p:nvPr/>
            </p:nvGrpSpPr>
            <p:grpSpPr>
              <a:xfrm>
                <a:off x="5173200" y="4805280"/>
                <a:ext cx="1081080" cy="437400"/>
                <a:chOff x="5173200" y="4805280"/>
                <a:chExt cx="1081080" cy="437400"/>
              </a:xfrm>
            </p:grpSpPr>
            <p:sp>
              <p:nvSpPr>
                <p:cNvPr id="245" name=""/>
                <p:cNvSpPr/>
                <p:nvPr/>
              </p:nvSpPr>
              <p:spPr>
                <a:xfrm>
                  <a:off x="5242320" y="4805280"/>
                  <a:ext cx="942840" cy="43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r" pos="457200"/>
                      <a:tab algn="ctr" pos="2637000"/>
                      <a:tab algn="r" pos="527364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4.6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r" pos="457200"/>
                      <a:tab algn="ctr" pos="2637000"/>
                      <a:tab algn="r" pos="527364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5173200" y="4805280"/>
                  <a:ext cx="1081080" cy="437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254640" y="4805280"/>
                <a:ext cx="1135800" cy="437400"/>
                <a:chOff x="6254640" y="4805280"/>
                <a:chExt cx="1135800" cy="43740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6323760" y="4805280"/>
                  <a:ext cx="997560" cy="43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r" pos="457200"/>
                      <a:tab algn="ctr" pos="2637000"/>
                      <a:tab algn="r" pos="527364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4.9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r" pos="457200"/>
                      <a:tab algn="ctr" pos="2637000"/>
                      <a:tab algn="r" pos="527364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6254640" y="4805280"/>
                  <a:ext cx="1135800" cy="437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0" name=""/>
              <p:cNvGrpSpPr/>
              <p:nvPr/>
            </p:nvGrpSpPr>
            <p:grpSpPr>
              <a:xfrm>
                <a:off x="1681200" y="5242680"/>
                <a:ext cx="1127880" cy="437040"/>
                <a:chOff x="1681200" y="5242680"/>
                <a:chExt cx="1127880" cy="437040"/>
              </a:xfrm>
            </p:grpSpPr>
            <p:sp>
              <p:nvSpPr>
                <p:cNvPr id="251" name=""/>
                <p:cNvSpPr/>
                <p:nvPr/>
              </p:nvSpPr>
              <p:spPr>
                <a:xfrm>
                  <a:off x="1750320" y="5242680"/>
                  <a:ext cx="989640" cy="437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457200"/>
                      <a:tab algn="ctr" pos="2637000"/>
                      <a:tab algn="r" pos="527364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Cigg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457200"/>
                      <a:tab algn="ctr" pos="2637000"/>
                      <a:tab algn="r" pos="527364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1681200" y="5242680"/>
                  <a:ext cx="1127880" cy="437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3" name=""/>
              <p:cNvGrpSpPr/>
              <p:nvPr/>
            </p:nvGrpSpPr>
            <p:grpSpPr>
              <a:xfrm>
                <a:off x="2809440" y="5242680"/>
                <a:ext cx="1135440" cy="437040"/>
                <a:chOff x="2809440" y="5242680"/>
                <a:chExt cx="1135440" cy="437040"/>
              </a:xfrm>
            </p:grpSpPr>
            <p:sp>
              <p:nvSpPr>
                <p:cNvPr id="254" name=""/>
                <p:cNvSpPr/>
                <p:nvPr/>
              </p:nvSpPr>
              <p:spPr>
                <a:xfrm>
                  <a:off x="2878200" y="5242680"/>
                  <a:ext cx="997920" cy="437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r" pos="457200"/>
                      <a:tab algn="ctr" pos="2637000"/>
                      <a:tab algn="r" pos="527364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8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r" pos="457200"/>
                      <a:tab algn="ctr" pos="2637000"/>
                      <a:tab algn="r" pos="527364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>
                  <a:off x="2809440" y="5242680"/>
                  <a:ext cx="1135440" cy="437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3945240" y="5242680"/>
                <a:ext cx="1227240" cy="437040"/>
                <a:chOff x="3945240" y="5242680"/>
                <a:chExt cx="1227240" cy="43704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4014360" y="5242680"/>
                  <a:ext cx="1089360" cy="437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r" pos="457200"/>
                      <a:tab algn="ctr" pos="2637000"/>
                      <a:tab algn="r" pos="527364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4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r" pos="457200"/>
                      <a:tab algn="ctr" pos="2637000"/>
                      <a:tab algn="r" pos="527364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3945240" y="5242680"/>
                  <a:ext cx="1227240" cy="437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9" name=""/>
              <p:cNvGrpSpPr/>
              <p:nvPr/>
            </p:nvGrpSpPr>
            <p:grpSpPr>
              <a:xfrm>
                <a:off x="5173200" y="5242680"/>
                <a:ext cx="1081080" cy="437040"/>
                <a:chOff x="5173200" y="5242680"/>
                <a:chExt cx="1081080" cy="437040"/>
              </a:xfrm>
            </p:grpSpPr>
            <p:sp>
              <p:nvSpPr>
                <p:cNvPr id="260" name=""/>
                <p:cNvSpPr/>
                <p:nvPr/>
              </p:nvSpPr>
              <p:spPr>
                <a:xfrm>
                  <a:off x="5242320" y="5242680"/>
                  <a:ext cx="942840" cy="437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r" pos="457200"/>
                      <a:tab algn="ctr" pos="2637000"/>
                      <a:tab algn="r" pos="527364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9.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r" pos="457200"/>
                      <a:tab algn="ctr" pos="2637000"/>
                      <a:tab algn="r" pos="527364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5173200" y="5242680"/>
                  <a:ext cx="1081080" cy="437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2" name=""/>
              <p:cNvGrpSpPr/>
              <p:nvPr/>
            </p:nvGrpSpPr>
            <p:grpSpPr>
              <a:xfrm>
                <a:off x="6254640" y="5242680"/>
                <a:ext cx="1135800" cy="437040"/>
                <a:chOff x="6254640" y="5242680"/>
                <a:chExt cx="1135800" cy="43704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6323760" y="5242680"/>
                  <a:ext cx="997560" cy="437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r" pos="457200"/>
                      <a:tab algn="ctr" pos="2637000"/>
                      <a:tab algn="r" pos="527364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10.5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r" pos="457200"/>
                      <a:tab algn="ctr" pos="2637000"/>
                      <a:tab algn="r" pos="527364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6254640" y="5242680"/>
                  <a:ext cx="1135800" cy="437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5" name=""/>
            <p:cNvSpPr/>
            <p:nvPr/>
          </p:nvSpPr>
          <p:spPr>
            <a:xfrm>
              <a:off x="1676520" y="3809880"/>
              <a:ext cx="5719320" cy="187344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6" name=""/>
          <p:cNvSpPr/>
          <p:nvPr/>
        </p:nvSpPr>
        <p:spPr>
          <a:xfrm>
            <a:off x="533520" y="1447920"/>
            <a:ext cx="80168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An advantage of base-weighting is that less data needs to be collected than other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This makes it cheaper  to construct sincewe only need price and quantity information for a single ye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For 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33520" y="685800"/>
            <a:ext cx="80769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99"/>
                </a:solidFill>
                <a:latin typeface="Times New Roman"/>
              </a:rPr>
              <a:t>Base-weighted Indices (2)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0880" y="1600200"/>
            <a:ext cx="2438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To take account of relative importance of items, we can multiply the Prices by the Quantit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This can be done on a spreadshe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9" name=""/>
          <p:cNvGraphicFramePr/>
          <p:nvPr/>
        </p:nvGraphicFramePr>
        <p:xfrm>
          <a:off x="2924280" y="1523880"/>
          <a:ext cx="5591160" cy="4349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24280" y="1523880"/>
                    <a:ext cx="5591160" cy="434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1" name=""/>
          <p:cNvSpPr/>
          <p:nvPr/>
        </p:nvSpPr>
        <p:spPr>
          <a:xfrm>
            <a:off x="1957320" y="5410080"/>
            <a:ext cx="6836040" cy="4597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Note that we create 3 extra columns, one for each y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99"/>
                </a:solidFill>
                <a:latin typeface="Times New Roman"/>
              </a:rPr>
              <a:t>Base-weighted Indices (3)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098360" y="1981080"/>
            <a:ext cx="6945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A base-weighted index is also called a Laspeyres Ind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The formula to help you remember what to do 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4" name=""/>
              <p:cNvSpPr txBox="1"/>
              <p:nvPr/>
            </p:nvSpPr>
            <p:spPr>
              <a:xfrm>
                <a:off x="3581280" y="2971800"/>
                <a:ext cx="426744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aspeyres Index </m:t>
                    </m:r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</m:d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</m:d>
                          </m:e>
                        </m:nary>
                      </m:den>
                    </m:f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5" name=""/>
          <p:cNvSpPr/>
          <p:nvPr/>
        </p:nvSpPr>
        <p:spPr>
          <a:xfrm>
            <a:off x="1355760" y="4267080"/>
            <a:ext cx="5129280" cy="12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Where P</a:t>
            </a:r>
            <a:r>
              <a:rPr b="0" lang="en-GB" sz="2400" spc="-1" strike="noStrike" baseline="-25000">
                <a:solidFill>
                  <a:srgbClr val="000099"/>
                </a:solidFill>
                <a:latin typeface="Times New Roman"/>
              </a:rPr>
              <a:t>n</a:t>
            </a: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 is the price in the current year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and P</a:t>
            </a:r>
            <a:r>
              <a:rPr b="0" lang="en-GB" sz="2400" spc="-1" strike="noStrike" baseline="-25000">
                <a:solidFill>
                  <a:srgbClr val="000099"/>
                </a:solidFill>
                <a:latin typeface="Times New Roman"/>
              </a:rPr>
              <a:t>1</a:t>
            </a: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 is the price in the base y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(Similarly for the quantit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80769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99"/>
                </a:solidFill>
                <a:latin typeface="Times New Roman"/>
              </a:rPr>
              <a:t>Current Weighted Indices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85800" y="1523880"/>
            <a:ext cx="7711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Whilst base-weighted are simple, they cannot take account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changes in amounts bought over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To do this we need to get both price and quantity information for every y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1219320" y="3657600"/>
            <a:ext cx="6781320" cy="1905120"/>
            <a:chOff x="1219320" y="3657600"/>
            <a:chExt cx="6781320" cy="1905120"/>
          </a:xfrm>
        </p:grpSpPr>
        <p:grpSp>
          <p:nvGrpSpPr>
            <p:cNvPr id="279" name=""/>
            <p:cNvGrpSpPr/>
            <p:nvPr/>
          </p:nvGrpSpPr>
          <p:grpSpPr>
            <a:xfrm>
              <a:off x="1224360" y="3660840"/>
              <a:ext cx="6770160" cy="1897920"/>
              <a:chOff x="1224360" y="3660840"/>
              <a:chExt cx="6770160" cy="1897920"/>
            </a:xfrm>
          </p:grpSpPr>
          <p:grpSp>
            <p:nvGrpSpPr>
              <p:cNvPr id="280" name=""/>
              <p:cNvGrpSpPr/>
              <p:nvPr/>
            </p:nvGrpSpPr>
            <p:grpSpPr>
              <a:xfrm>
                <a:off x="1224360" y="3660840"/>
                <a:ext cx="870120" cy="564120"/>
                <a:chOff x="1224360" y="3660840"/>
                <a:chExt cx="870120" cy="564120"/>
              </a:xfrm>
            </p:grpSpPr>
            <p:sp>
              <p:nvSpPr>
                <p:cNvPr id="281" name=""/>
                <p:cNvSpPr/>
                <p:nvPr/>
              </p:nvSpPr>
              <p:spPr>
                <a:xfrm>
                  <a:off x="1302480" y="3660840"/>
                  <a:ext cx="713880" cy="56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r" pos="457200"/>
                      <a:tab algn="ctr" pos="2637000"/>
                      <a:tab algn="r" pos="527364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4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Item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1224360" y="3660840"/>
                  <a:ext cx="870120" cy="564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3" name=""/>
              <p:cNvGrpSpPr/>
              <p:nvPr/>
            </p:nvGrpSpPr>
            <p:grpSpPr>
              <a:xfrm>
                <a:off x="2094840" y="3660840"/>
                <a:ext cx="822960" cy="564120"/>
                <a:chOff x="2094840" y="3660840"/>
                <a:chExt cx="822960" cy="564120"/>
              </a:xfrm>
            </p:grpSpPr>
            <p:sp>
              <p:nvSpPr>
                <p:cNvPr id="284" name=""/>
                <p:cNvSpPr/>
                <p:nvPr/>
              </p:nvSpPr>
              <p:spPr>
                <a:xfrm>
                  <a:off x="2172960" y="3660840"/>
                  <a:ext cx="666360" cy="56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r" pos="457200"/>
                      <a:tab algn="ctr" pos="2637000"/>
                      <a:tab algn="r" pos="527364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4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Price (Yr1)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2094840" y="3660840"/>
                  <a:ext cx="822960" cy="564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6" name=""/>
              <p:cNvGrpSpPr/>
              <p:nvPr/>
            </p:nvGrpSpPr>
            <p:grpSpPr>
              <a:xfrm>
                <a:off x="2918160" y="3660840"/>
                <a:ext cx="1082880" cy="564120"/>
                <a:chOff x="2918160" y="3660840"/>
                <a:chExt cx="1082880" cy="564120"/>
              </a:xfrm>
            </p:grpSpPr>
            <p:sp>
              <p:nvSpPr>
                <p:cNvPr id="287" name=""/>
                <p:cNvSpPr/>
                <p:nvPr/>
              </p:nvSpPr>
              <p:spPr>
                <a:xfrm>
                  <a:off x="2995920" y="3660840"/>
                  <a:ext cx="926640" cy="56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r" pos="457200"/>
                      <a:tab algn="ctr" pos="2637000"/>
                      <a:tab algn="r" pos="527364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4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Quantity (Yr1)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2918160" y="3660840"/>
                  <a:ext cx="1082880" cy="564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001760" y="3660840"/>
                <a:ext cx="888120" cy="564120"/>
                <a:chOff x="4001760" y="3660840"/>
                <a:chExt cx="888120" cy="564120"/>
              </a:xfrm>
            </p:grpSpPr>
            <p:sp>
              <p:nvSpPr>
                <p:cNvPr id="290" name=""/>
                <p:cNvSpPr/>
                <p:nvPr/>
              </p:nvSpPr>
              <p:spPr>
                <a:xfrm>
                  <a:off x="4079880" y="3660840"/>
                  <a:ext cx="732240" cy="56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r" pos="457200"/>
                      <a:tab algn="ctr" pos="2637000"/>
                      <a:tab algn="r" pos="527364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4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Price (Yr2)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>
                  <a:off x="4001760" y="3660840"/>
                  <a:ext cx="888120" cy="564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2" name=""/>
              <p:cNvGrpSpPr/>
              <p:nvPr/>
            </p:nvGrpSpPr>
            <p:grpSpPr>
              <a:xfrm>
                <a:off x="4890240" y="3660840"/>
                <a:ext cx="1057680" cy="564120"/>
                <a:chOff x="4890240" y="3660840"/>
                <a:chExt cx="1057680" cy="564120"/>
              </a:xfrm>
            </p:grpSpPr>
            <p:sp>
              <p:nvSpPr>
                <p:cNvPr id="293" name=""/>
                <p:cNvSpPr/>
                <p:nvPr/>
              </p:nvSpPr>
              <p:spPr>
                <a:xfrm>
                  <a:off x="4968360" y="3660840"/>
                  <a:ext cx="901080" cy="56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r" pos="457200"/>
                      <a:tab algn="ctr" pos="2637000"/>
                      <a:tab algn="r" pos="527364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4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Quantity (Yr2)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4890240" y="3660840"/>
                  <a:ext cx="1057680" cy="564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5" name=""/>
              <p:cNvGrpSpPr/>
              <p:nvPr/>
            </p:nvGrpSpPr>
            <p:grpSpPr>
              <a:xfrm>
                <a:off x="5948280" y="3660840"/>
                <a:ext cx="1038960" cy="564120"/>
                <a:chOff x="5948280" y="3660840"/>
                <a:chExt cx="1038960" cy="564120"/>
              </a:xfrm>
            </p:grpSpPr>
            <p:sp>
              <p:nvSpPr>
                <p:cNvPr id="296" name=""/>
                <p:cNvSpPr/>
                <p:nvPr/>
              </p:nvSpPr>
              <p:spPr>
                <a:xfrm>
                  <a:off x="6026040" y="3660840"/>
                  <a:ext cx="883440" cy="56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r" pos="457200"/>
                      <a:tab algn="ctr" pos="2637000"/>
                      <a:tab algn="r" pos="527364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4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Price (Yr3)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5948280" y="3660840"/>
                  <a:ext cx="1038960" cy="564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8" name=""/>
              <p:cNvGrpSpPr/>
              <p:nvPr/>
            </p:nvGrpSpPr>
            <p:grpSpPr>
              <a:xfrm>
                <a:off x="6987960" y="3660840"/>
                <a:ext cx="1006560" cy="564120"/>
                <a:chOff x="6987960" y="3660840"/>
                <a:chExt cx="1006560" cy="564120"/>
              </a:xfrm>
            </p:grpSpPr>
            <p:sp>
              <p:nvSpPr>
                <p:cNvPr id="299" name=""/>
                <p:cNvSpPr/>
                <p:nvPr/>
              </p:nvSpPr>
              <p:spPr>
                <a:xfrm>
                  <a:off x="7066080" y="3660840"/>
                  <a:ext cx="850320" cy="56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r" pos="457200"/>
                      <a:tab algn="ctr" pos="2637000"/>
                      <a:tab algn="r" pos="527364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4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Quantity (Yr3)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6987960" y="3660840"/>
                  <a:ext cx="1006560" cy="564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1" name=""/>
              <p:cNvGrpSpPr/>
              <p:nvPr/>
            </p:nvGrpSpPr>
            <p:grpSpPr>
              <a:xfrm>
                <a:off x="1224360" y="4224960"/>
                <a:ext cx="870120" cy="444240"/>
                <a:chOff x="1224360" y="4224960"/>
                <a:chExt cx="870120" cy="444240"/>
              </a:xfrm>
            </p:grpSpPr>
            <p:sp>
              <p:nvSpPr>
                <p:cNvPr id="302" name=""/>
                <p:cNvSpPr/>
                <p:nvPr/>
              </p:nvSpPr>
              <p:spPr>
                <a:xfrm>
                  <a:off x="1302480" y="4224960"/>
                  <a:ext cx="713880" cy="44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457200"/>
                      <a:tab algn="ctr" pos="2637000"/>
                      <a:tab algn="r" pos="527364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4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Chip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457200"/>
                      <a:tab algn="ctr" pos="2637000"/>
                      <a:tab algn="r" pos="527364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1224360" y="4224960"/>
                  <a:ext cx="870120" cy="444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4" name=""/>
              <p:cNvGrpSpPr/>
              <p:nvPr/>
            </p:nvGrpSpPr>
            <p:grpSpPr>
              <a:xfrm>
                <a:off x="2094840" y="4224960"/>
                <a:ext cx="822960" cy="444240"/>
                <a:chOff x="2094840" y="4224960"/>
                <a:chExt cx="822960" cy="444240"/>
              </a:xfrm>
            </p:grpSpPr>
            <p:sp>
              <p:nvSpPr>
                <p:cNvPr id="305" name=""/>
                <p:cNvSpPr/>
                <p:nvPr/>
              </p:nvSpPr>
              <p:spPr>
                <a:xfrm>
                  <a:off x="2172960" y="4224960"/>
                  <a:ext cx="666360" cy="44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r" pos="457200"/>
                      <a:tab algn="ctr" pos="2637000"/>
                      <a:tab algn="r" pos="527364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4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2094840" y="4224960"/>
                  <a:ext cx="822960" cy="444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7" name=""/>
              <p:cNvGrpSpPr/>
              <p:nvPr/>
            </p:nvGrpSpPr>
            <p:grpSpPr>
              <a:xfrm>
                <a:off x="2918160" y="4224960"/>
                <a:ext cx="1082880" cy="444240"/>
                <a:chOff x="2918160" y="4224960"/>
                <a:chExt cx="1082880" cy="444240"/>
              </a:xfrm>
            </p:grpSpPr>
            <p:sp>
              <p:nvSpPr>
                <p:cNvPr id="308" name=""/>
                <p:cNvSpPr/>
                <p:nvPr/>
              </p:nvSpPr>
              <p:spPr>
                <a:xfrm>
                  <a:off x="2995920" y="4224960"/>
                  <a:ext cx="926640" cy="44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r" pos="457200"/>
                      <a:tab algn="ctr" pos="2637000"/>
                      <a:tab algn="r" pos="527364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4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7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>
                  <a:off x="2918160" y="4224960"/>
                  <a:ext cx="1082880" cy="444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0" name=""/>
              <p:cNvGrpSpPr/>
              <p:nvPr/>
            </p:nvGrpSpPr>
            <p:grpSpPr>
              <a:xfrm>
                <a:off x="4001760" y="4224960"/>
                <a:ext cx="888120" cy="444240"/>
                <a:chOff x="4001760" y="4224960"/>
                <a:chExt cx="888120" cy="444240"/>
              </a:xfrm>
            </p:grpSpPr>
            <p:sp>
              <p:nvSpPr>
                <p:cNvPr id="311" name=""/>
                <p:cNvSpPr/>
                <p:nvPr/>
              </p:nvSpPr>
              <p:spPr>
                <a:xfrm>
                  <a:off x="4079880" y="4224960"/>
                  <a:ext cx="732240" cy="44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r" pos="457200"/>
                      <a:tab algn="ctr" pos="2637000"/>
                      <a:tab algn="r" pos="527364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4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2.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>
                  <a:off x="4001760" y="4224960"/>
                  <a:ext cx="888120" cy="444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3" name=""/>
              <p:cNvGrpSpPr/>
              <p:nvPr/>
            </p:nvGrpSpPr>
            <p:grpSpPr>
              <a:xfrm>
                <a:off x="4890240" y="4224960"/>
                <a:ext cx="1057680" cy="444240"/>
                <a:chOff x="4890240" y="4224960"/>
                <a:chExt cx="1057680" cy="444240"/>
              </a:xfrm>
            </p:grpSpPr>
            <p:sp>
              <p:nvSpPr>
                <p:cNvPr id="314" name=""/>
                <p:cNvSpPr/>
                <p:nvPr/>
              </p:nvSpPr>
              <p:spPr>
                <a:xfrm>
                  <a:off x="4968360" y="4224960"/>
                  <a:ext cx="901080" cy="44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r" pos="457200"/>
                      <a:tab algn="ctr" pos="2637000"/>
                      <a:tab algn="r" pos="527364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4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1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4890240" y="4224960"/>
                  <a:ext cx="1057680" cy="444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6" name=""/>
              <p:cNvGrpSpPr/>
              <p:nvPr/>
            </p:nvGrpSpPr>
            <p:grpSpPr>
              <a:xfrm>
                <a:off x="5948280" y="4224960"/>
                <a:ext cx="1038960" cy="444240"/>
                <a:chOff x="5948280" y="4224960"/>
                <a:chExt cx="1038960" cy="444240"/>
              </a:xfrm>
            </p:grpSpPr>
            <p:sp>
              <p:nvSpPr>
                <p:cNvPr id="317" name=""/>
                <p:cNvSpPr/>
                <p:nvPr/>
              </p:nvSpPr>
              <p:spPr>
                <a:xfrm>
                  <a:off x="6026040" y="4224960"/>
                  <a:ext cx="883440" cy="44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r" pos="457200"/>
                      <a:tab algn="ctr" pos="2637000"/>
                      <a:tab algn="r" pos="527364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4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2.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5948280" y="4224960"/>
                  <a:ext cx="1038960" cy="444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9" name=""/>
              <p:cNvGrpSpPr/>
              <p:nvPr/>
            </p:nvGrpSpPr>
            <p:grpSpPr>
              <a:xfrm>
                <a:off x="6987960" y="4224960"/>
                <a:ext cx="1006560" cy="444240"/>
                <a:chOff x="6987960" y="4224960"/>
                <a:chExt cx="1006560" cy="444240"/>
              </a:xfrm>
            </p:grpSpPr>
            <p:sp>
              <p:nvSpPr>
                <p:cNvPr id="320" name=""/>
                <p:cNvSpPr/>
                <p:nvPr/>
              </p:nvSpPr>
              <p:spPr>
                <a:xfrm>
                  <a:off x="7066080" y="4224960"/>
                  <a:ext cx="850320" cy="44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r" pos="457200"/>
                      <a:tab algn="ctr" pos="2637000"/>
                      <a:tab algn="r" pos="527364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4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1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>
                  <a:off x="6987960" y="4224960"/>
                  <a:ext cx="1006560" cy="444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2" name=""/>
              <p:cNvGrpSpPr/>
              <p:nvPr/>
            </p:nvGrpSpPr>
            <p:grpSpPr>
              <a:xfrm>
                <a:off x="1224360" y="4669560"/>
                <a:ext cx="870120" cy="444600"/>
                <a:chOff x="1224360" y="4669560"/>
                <a:chExt cx="870120" cy="444600"/>
              </a:xfrm>
            </p:grpSpPr>
            <p:sp>
              <p:nvSpPr>
                <p:cNvPr id="323" name=""/>
                <p:cNvSpPr/>
                <p:nvPr/>
              </p:nvSpPr>
              <p:spPr>
                <a:xfrm>
                  <a:off x="1302480" y="4669560"/>
                  <a:ext cx="713880" cy="44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457200"/>
                      <a:tab algn="ctr" pos="2637000"/>
                      <a:tab algn="r" pos="527364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4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Be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457200"/>
                      <a:tab algn="ctr" pos="2637000"/>
                      <a:tab algn="r" pos="527364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1224360" y="4669560"/>
                  <a:ext cx="870120" cy="44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5" name=""/>
              <p:cNvGrpSpPr/>
              <p:nvPr/>
            </p:nvGrpSpPr>
            <p:grpSpPr>
              <a:xfrm>
                <a:off x="2094840" y="4669560"/>
                <a:ext cx="822960" cy="444600"/>
                <a:chOff x="2094840" y="4669560"/>
                <a:chExt cx="822960" cy="444600"/>
              </a:xfrm>
            </p:grpSpPr>
            <p:sp>
              <p:nvSpPr>
                <p:cNvPr id="326" name=""/>
                <p:cNvSpPr/>
                <p:nvPr/>
              </p:nvSpPr>
              <p:spPr>
                <a:xfrm>
                  <a:off x="2172960" y="4669560"/>
                  <a:ext cx="666360" cy="44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r" pos="457200"/>
                      <a:tab algn="ctr" pos="2637000"/>
                      <a:tab algn="r" pos="527364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4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4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2094840" y="4669560"/>
                  <a:ext cx="822960" cy="44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8" name=""/>
              <p:cNvGrpSpPr/>
              <p:nvPr/>
            </p:nvGrpSpPr>
            <p:grpSpPr>
              <a:xfrm>
                <a:off x="2918160" y="4669560"/>
                <a:ext cx="1082880" cy="444600"/>
                <a:chOff x="2918160" y="4669560"/>
                <a:chExt cx="1082880" cy="444600"/>
              </a:xfrm>
            </p:grpSpPr>
            <p:sp>
              <p:nvSpPr>
                <p:cNvPr id="329" name=""/>
                <p:cNvSpPr/>
                <p:nvPr/>
              </p:nvSpPr>
              <p:spPr>
                <a:xfrm>
                  <a:off x="2995920" y="4669560"/>
                  <a:ext cx="926640" cy="44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r" pos="457200"/>
                      <a:tab algn="ctr" pos="2637000"/>
                      <a:tab algn="r" pos="527364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4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2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2918160" y="4669560"/>
                  <a:ext cx="1082880" cy="44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1" name=""/>
              <p:cNvGrpSpPr/>
              <p:nvPr/>
            </p:nvGrpSpPr>
            <p:grpSpPr>
              <a:xfrm>
                <a:off x="4001760" y="4669560"/>
                <a:ext cx="888120" cy="444600"/>
                <a:chOff x="4001760" y="4669560"/>
                <a:chExt cx="888120" cy="444600"/>
              </a:xfrm>
            </p:grpSpPr>
            <p:sp>
              <p:nvSpPr>
                <p:cNvPr id="332" name=""/>
                <p:cNvSpPr/>
                <p:nvPr/>
              </p:nvSpPr>
              <p:spPr>
                <a:xfrm>
                  <a:off x="4079880" y="4669560"/>
                  <a:ext cx="732240" cy="44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r" pos="457200"/>
                      <a:tab algn="ctr" pos="2637000"/>
                      <a:tab algn="r" pos="527364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4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4.6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4001760" y="4669560"/>
                  <a:ext cx="888120" cy="44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4" name=""/>
              <p:cNvGrpSpPr/>
              <p:nvPr/>
            </p:nvGrpSpPr>
            <p:grpSpPr>
              <a:xfrm>
                <a:off x="4890240" y="4669560"/>
                <a:ext cx="1057680" cy="444600"/>
                <a:chOff x="4890240" y="4669560"/>
                <a:chExt cx="1057680" cy="444600"/>
              </a:xfrm>
            </p:grpSpPr>
            <p:sp>
              <p:nvSpPr>
                <p:cNvPr id="335" name=""/>
                <p:cNvSpPr/>
                <p:nvPr/>
              </p:nvSpPr>
              <p:spPr>
                <a:xfrm>
                  <a:off x="4968360" y="4669560"/>
                  <a:ext cx="901080" cy="44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r" pos="457200"/>
                      <a:tab algn="ctr" pos="2637000"/>
                      <a:tab algn="r" pos="527364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4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2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>
                  <a:off x="4890240" y="4669560"/>
                  <a:ext cx="1057680" cy="44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7" name=""/>
              <p:cNvGrpSpPr/>
              <p:nvPr/>
            </p:nvGrpSpPr>
            <p:grpSpPr>
              <a:xfrm>
                <a:off x="5948280" y="4669560"/>
                <a:ext cx="1038960" cy="444600"/>
                <a:chOff x="5948280" y="4669560"/>
                <a:chExt cx="1038960" cy="444600"/>
              </a:xfrm>
            </p:grpSpPr>
            <p:sp>
              <p:nvSpPr>
                <p:cNvPr id="338" name=""/>
                <p:cNvSpPr/>
                <p:nvPr/>
              </p:nvSpPr>
              <p:spPr>
                <a:xfrm>
                  <a:off x="6026040" y="4669560"/>
                  <a:ext cx="883440" cy="44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r" pos="457200"/>
                      <a:tab algn="ctr" pos="2637000"/>
                      <a:tab algn="r" pos="527364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4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4.9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>
                  <a:off x="5948280" y="4669560"/>
                  <a:ext cx="1038960" cy="44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0" name=""/>
              <p:cNvGrpSpPr/>
              <p:nvPr/>
            </p:nvGrpSpPr>
            <p:grpSpPr>
              <a:xfrm>
                <a:off x="6987960" y="4669560"/>
                <a:ext cx="1006560" cy="444600"/>
                <a:chOff x="6987960" y="4669560"/>
                <a:chExt cx="1006560" cy="444600"/>
              </a:xfrm>
            </p:grpSpPr>
            <p:sp>
              <p:nvSpPr>
                <p:cNvPr id="341" name=""/>
                <p:cNvSpPr/>
                <p:nvPr/>
              </p:nvSpPr>
              <p:spPr>
                <a:xfrm>
                  <a:off x="7066080" y="4669560"/>
                  <a:ext cx="850320" cy="44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r" pos="457200"/>
                      <a:tab algn="ctr" pos="2637000"/>
                      <a:tab algn="r" pos="527364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4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3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>
                  <a:off x="6987960" y="4669560"/>
                  <a:ext cx="1006560" cy="44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3" name=""/>
              <p:cNvGrpSpPr/>
              <p:nvPr/>
            </p:nvGrpSpPr>
            <p:grpSpPr>
              <a:xfrm>
                <a:off x="1224360" y="5114520"/>
                <a:ext cx="870120" cy="444240"/>
                <a:chOff x="1224360" y="5114520"/>
                <a:chExt cx="870120" cy="444240"/>
              </a:xfrm>
            </p:grpSpPr>
            <p:sp>
              <p:nvSpPr>
                <p:cNvPr id="344" name=""/>
                <p:cNvSpPr/>
                <p:nvPr/>
              </p:nvSpPr>
              <p:spPr>
                <a:xfrm>
                  <a:off x="1302480" y="5114520"/>
                  <a:ext cx="713880" cy="44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457200"/>
                      <a:tab algn="ctr" pos="2637000"/>
                      <a:tab algn="r" pos="527364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4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Cigg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457200"/>
                      <a:tab algn="ctr" pos="2637000"/>
                      <a:tab algn="r" pos="527364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>
                  <a:off x="1224360" y="5114520"/>
                  <a:ext cx="870120" cy="444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6" name=""/>
              <p:cNvGrpSpPr/>
              <p:nvPr/>
            </p:nvGrpSpPr>
            <p:grpSpPr>
              <a:xfrm>
                <a:off x="2094840" y="5114520"/>
                <a:ext cx="822960" cy="444240"/>
                <a:chOff x="2094840" y="5114520"/>
                <a:chExt cx="822960" cy="444240"/>
              </a:xfrm>
            </p:grpSpPr>
            <p:sp>
              <p:nvSpPr>
                <p:cNvPr id="347" name=""/>
                <p:cNvSpPr/>
                <p:nvPr/>
              </p:nvSpPr>
              <p:spPr>
                <a:xfrm>
                  <a:off x="2172960" y="5114520"/>
                  <a:ext cx="666360" cy="44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r" pos="457200"/>
                      <a:tab algn="ctr" pos="2637000"/>
                      <a:tab algn="r" pos="527364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4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8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>
                  <a:off x="2094840" y="5114520"/>
                  <a:ext cx="822960" cy="444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9" name=""/>
              <p:cNvGrpSpPr/>
              <p:nvPr/>
            </p:nvGrpSpPr>
            <p:grpSpPr>
              <a:xfrm>
                <a:off x="2918160" y="5114520"/>
                <a:ext cx="1082880" cy="444240"/>
                <a:chOff x="2918160" y="5114520"/>
                <a:chExt cx="1082880" cy="444240"/>
              </a:xfrm>
            </p:grpSpPr>
            <p:sp>
              <p:nvSpPr>
                <p:cNvPr id="350" name=""/>
                <p:cNvSpPr/>
                <p:nvPr/>
              </p:nvSpPr>
              <p:spPr>
                <a:xfrm>
                  <a:off x="2995920" y="5114520"/>
                  <a:ext cx="926640" cy="44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r" pos="457200"/>
                      <a:tab algn="ctr" pos="2637000"/>
                      <a:tab algn="r" pos="527364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4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4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>
                  <a:off x="2918160" y="5114520"/>
                  <a:ext cx="1082880" cy="444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2" name=""/>
              <p:cNvGrpSpPr/>
              <p:nvPr/>
            </p:nvGrpSpPr>
            <p:grpSpPr>
              <a:xfrm>
                <a:off x="4001760" y="5114520"/>
                <a:ext cx="888120" cy="444240"/>
                <a:chOff x="4001760" y="5114520"/>
                <a:chExt cx="888120" cy="444240"/>
              </a:xfrm>
            </p:grpSpPr>
            <p:sp>
              <p:nvSpPr>
                <p:cNvPr id="353" name=""/>
                <p:cNvSpPr/>
                <p:nvPr/>
              </p:nvSpPr>
              <p:spPr>
                <a:xfrm>
                  <a:off x="4079880" y="5114520"/>
                  <a:ext cx="732240" cy="44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r" pos="457200"/>
                      <a:tab algn="ctr" pos="2637000"/>
                      <a:tab algn="r" pos="527364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4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9.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4001760" y="5114520"/>
                  <a:ext cx="888120" cy="444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5" name=""/>
              <p:cNvGrpSpPr/>
              <p:nvPr/>
            </p:nvGrpSpPr>
            <p:grpSpPr>
              <a:xfrm>
                <a:off x="4890240" y="5114520"/>
                <a:ext cx="1057680" cy="444240"/>
                <a:chOff x="4890240" y="5114520"/>
                <a:chExt cx="1057680" cy="444240"/>
              </a:xfrm>
            </p:grpSpPr>
            <p:sp>
              <p:nvSpPr>
                <p:cNvPr id="356" name=""/>
                <p:cNvSpPr/>
                <p:nvPr/>
              </p:nvSpPr>
              <p:spPr>
                <a:xfrm>
                  <a:off x="4968360" y="5114520"/>
                  <a:ext cx="901080" cy="44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r" pos="457200"/>
                      <a:tab algn="ctr" pos="2637000"/>
                      <a:tab algn="r" pos="527364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4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>
                  <a:off x="4890240" y="5114520"/>
                  <a:ext cx="1057680" cy="444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8" name=""/>
              <p:cNvGrpSpPr/>
              <p:nvPr/>
            </p:nvGrpSpPr>
            <p:grpSpPr>
              <a:xfrm>
                <a:off x="5948280" y="5114520"/>
                <a:ext cx="1038960" cy="444240"/>
                <a:chOff x="5948280" y="5114520"/>
                <a:chExt cx="1038960" cy="444240"/>
              </a:xfrm>
            </p:grpSpPr>
            <p:sp>
              <p:nvSpPr>
                <p:cNvPr id="359" name=""/>
                <p:cNvSpPr/>
                <p:nvPr/>
              </p:nvSpPr>
              <p:spPr>
                <a:xfrm>
                  <a:off x="6026040" y="5114520"/>
                  <a:ext cx="883440" cy="44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r" pos="457200"/>
                      <a:tab algn="ctr" pos="2637000"/>
                      <a:tab algn="r" pos="527364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4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10.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>
                  <a:off x="5948280" y="5114520"/>
                  <a:ext cx="1038960" cy="444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1" name=""/>
              <p:cNvGrpSpPr/>
              <p:nvPr/>
            </p:nvGrpSpPr>
            <p:grpSpPr>
              <a:xfrm>
                <a:off x="6987960" y="5114520"/>
                <a:ext cx="1006560" cy="444240"/>
                <a:chOff x="6987960" y="5114520"/>
                <a:chExt cx="1006560" cy="444240"/>
              </a:xfrm>
            </p:grpSpPr>
            <p:sp>
              <p:nvSpPr>
                <p:cNvPr id="362" name=""/>
                <p:cNvSpPr/>
                <p:nvPr/>
              </p:nvSpPr>
              <p:spPr>
                <a:xfrm>
                  <a:off x="7066080" y="5114520"/>
                  <a:ext cx="850320" cy="44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r" pos="457200"/>
                      <a:tab algn="ctr" pos="2637000"/>
                      <a:tab algn="r" pos="527364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4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>
                  <a:off x="6987960" y="5114520"/>
                  <a:ext cx="1006560" cy="444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64" name=""/>
            <p:cNvSpPr/>
            <p:nvPr/>
          </p:nvSpPr>
          <p:spPr>
            <a:xfrm>
              <a:off x="1219320" y="3657600"/>
              <a:ext cx="6781320" cy="190512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0769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99"/>
                </a:solidFill>
                <a:latin typeface="Times New Roman"/>
              </a:rPr>
              <a:t>Current Weighted Indices (2)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366" name=""/>
          <p:cNvGrpSpPr/>
          <p:nvPr/>
        </p:nvGrpSpPr>
        <p:grpSpPr>
          <a:xfrm>
            <a:off x="5029200" y="1752480"/>
            <a:ext cx="2893320" cy="2028600"/>
            <a:chOff x="5029200" y="1752480"/>
            <a:chExt cx="2893320" cy="2028600"/>
          </a:xfrm>
        </p:grpSpPr>
        <p:sp>
          <p:nvSpPr>
            <p:cNvPr id="367" name=""/>
            <p:cNvSpPr/>
            <p:nvPr/>
          </p:nvSpPr>
          <p:spPr>
            <a:xfrm>
              <a:off x="5723280" y="2090520"/>
              <a:ext cx="73044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  <a:ea typeface="Arial"/>
                </a:rPr>
                <a:t>1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6453720" y="2090520"/>
              <a:ext cx="73476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  <a:ea typeface="Arial"/>
                </a:rPr>
                <a:t>2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7188480" y="2090520"/>
              <a:ext cx="73404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  <a:ea typeface="Arial"/>
                </a:rPr>
                <a:t>2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723280" y="2428560"/>
              <a:ext cx="73044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  <a:ea typeface="Arial"/>
                </a:rPr>
                <a:t>8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6453720" y="2428560"/>
              <a:ext cx="73476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  <a:ea typeface="Arial"/>
                </a:rPr>
                <a:t>11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7188480" y="2428560"/>
              <a:ext cx="73404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  <a:ea typeface="Arial"/>
                </a:rPr>
                <a:t>14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723280" y="2766600"/>
              <a:ext cx="73044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  <a:ea typeface="Arial"/>
                </a:rPr>
                <a:t>3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453720" y="2766600"/>
              <a:ext cx="73476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  <a:ea typeface="Arial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7188480" y="2766600"/>
              <a:ext cx="73404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  <a:ea typeface="Arial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029200" y="3105000"/>
              <a:ext cx="69408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  <a:ea typeface="Arial"/>
                </a:rPr>
                <a:t> 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5723280" y="3105000"/>
              <a:ext cx="73044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  <a:ea typeface="Arial"/>
                </a:rPr>
                <a:t> 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6453720" y="3105000"/>
              <a:ext cx="73476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  <a:ea typeface="Arial"/>
                </a:rPr>
                <a:t> 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7188480" y="3105000"/>
              <a:ext cx="73404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5029200" y="3443040"/>
              <a:ext cx="69408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  <a:ea typeface="Arial"/>
                </a:rPr>
                <a:t>Tot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723280" y="3443040"/>
              <a:ext cx="73044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  <a:ea typeface="Arial"/>
                </a:rPr>
                <a:t>12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6453720" y="3443040"/>
              <a:ext cx="73476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  <a:ea typeface="Arial"/>
                </a:rPr>
                <a:t>13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7188480" y="3443040"/>
              <a:ext cx="73404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  <a:ea typeface="Arial"/>
                </a:rPr>
                <a:t>169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4" name=""/>
            <p:cNvGrpSpPr/>
            <p:nvPr/>
          </p:nvGrpSpPr>
          <p:grpSpPr>
            <a:xfrm>
              <a:off x="5029200" y="1752480"/>
              <a:ext cx="693720" cy="338040"/>
              <a:chOff x="5029200" y="1752480"/>
              <a:chExt cx="693720" cy="338040"/>
            </a:xfrm>
          </p:grpSpPr>
          <p:sp>
            <p:nvSpPr>
              <p:cNvPr id="385" name=""/>
              <p:cNvSpPr/>
              <p:nvPr/>
            </p:nvSpPr>
            <p:spPr>
              <a:xfrm>
                <a:off x="5029200" y="1752480"/>
                <a:ext cx="693720" cy="33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  <a:ea typeface="Arial"/>
                  </a:rPr>
                  <a:t>Item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5029200" y="1752480"/>
                <a:ext cx="693720" cy="3380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7" name=""/>
            <p:cNvGrpSpPr/>
            <p:nvPr/>
          </p:nvGrpSpPr>
          <p:grpSpPr>
            <a:xfrm>
              <a:off x="5723280" y="1752480"/>
              <a:ext cx="730080" cy="338040"/>
              <a:chOff x="5723280" y="1752480"/>
              <a:chExt cx="730080" cy="338040"/>
            </a:xfrm>
          </p:grpSpPr>
          <p:sp>
            <p:nvSpPr>
              <p:cNvPr id="388" name=""/>
              <p:cNvSpPr/>
              <p:nvPr/>
            </p:nvSpPr>
            <p:spPr>
              <a:xfrm>
                <a:off x="5723280" y="1752480"/>
                <a:ext cx="730080" cy="33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  <a:ea typeface="Arial"/>
                  </a:rPr>
                  <a:t>P1Q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5723280" y="1752480"/>
                <a:ext cx="730080" cy="3380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0" name=""/>
            <p:cNvGrpSpPr/>
            <p:nvPr/>
          </p:nvGrpSpPr>
          <p:grpSpPr>
            <a:xfrm>
              <a:off x="6453720" y="1752480"/>
              <a:ext cx="734400" cy="338040"/>
              <a:chOff x="6453720" y="1752480"/>
              <a:chExt cx="734400" cy="338040"/>
            </a:xfrm>
          </p:grpSpPr>
          <p:sp>
            <p:nvSpPr>
              <p:cNvPr id="391" name=""/>
              <p:cNvSpPr/>
              <p:nvPr/>
            </p:nvSpPr>
            <p:spPr>
              <a:xfrm>
                <a:off x="6453720" y="1752480"/>
                <a:ext cx="734400" cy="33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  <a:ea typeface="Arial"/>
                  </a:rPr>
                  <a:t>P2Q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6453720" y="1752480"/>
                <a:ext cx="734400" cy="3380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3" name=""/>
            <p:cNvGrpSpPr/>
            <p:nvPr/>
          </p:nvGrpSpPr>
          <p:grpSpPr>
            <a:xfrm>
              <a:off x="7188480" y="1752480"/>
              <a:ext cx="733680" cy="338040"/>
              <a:chOff x="7188480" y="1752480"/>
              <a:chExt cx="733680" cy="338040"/>
            </a:xfrm>
          </p:grpSpPr>
          <p:sp>
            <p:nvSpPr>
              <p:cNvPr id="394" name=""/>
              <p:cNvSpPr/>
              <p:nvPr/>
            </p:nvSpPr>
            <p:spPr>
              <a:xfrm>
                <a:off x="7188480" y="1752480"/>
                <a:ext cx="733680" cy="33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  <a:ea typeface="Arial"/>
                  </a:rPr>
                  <a:t>P3Q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7188480" y="1752480"/>
                <a:ext cx="733680" cy="3380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6" name=""/>
            <p:cNvGrpSpPr/>
            <p:nvPr/>
          </p:nvGrpSpPr>
          <p:grpSpPr>
            <a:xfrm>
              <a:off x="5029200" y="2090520"/>
              <a:ext cx="693720" cy="338040"/>
              <a:chOff x="5029200" y="2090520"/>
              <a:chExt cx="693720" cy="338040"/>
            </a:xfrm>
          </p:grpSpPr>
          <p:sp>
            <p:nvSpPr>
              <p:cNvPr id="397" name=""/>
              <p:cNvSpPr/>
              <p:nvPr/>
            </p:nvSpPr>
            <p:spPr>
              <a:xfrm>
                <a:off x="5029200" y="2090520"/>
                <a:ext cx="693720" cy="33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  <a:ea typeface="Arial"/>
                  </a:rPr>
                  <a:t>Chip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5029200" y="2090520"/>
                <a:ext cx="693720" cy="3380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9" name=""/>
            <p:cNvGrpSpPr/>
            <p:nvPr/>
          </p:nvGrpSpPr>
          <p:grpSpPr>
            <a:xfrm>
              <a:off x="5029200" y="2428560"/>
              <a:ext cx="693720" cy="338040"/>
              <a:chOff x="5029200" y="2428560"/>
              <a:chExt cx="693720" cy="338040"/>
            </a:xfrm>
          </p:grpSpPr>
          <p:sp>
            <p:nvSpPr>
              <p:cNvPr id="400" name=""/>
              <p:cNvSpPr/>
              <p:nvPr/>
            </p:nvSpPr>
            <p:spPr>
              <a:xfrm>
                <a:off x="5029200" y="2428560"/>
                <a:ext cx="693720" cy="33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  <a:ea typeface="Arial"/>
                  </a:rPr>
                  <a:t>Bee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5029200" y="2428560"/>
                <a:ext cx="693720" cy="3380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2" name=""/>
            <p:cNvGrpSpPr/>
            <p:nvPr/>
          </p:nvGrpSpPr>
          <p:grpSpPr>
            <a:xfrm>
              <a:off x="5029200" y="2766600"/>
              <a:ext cx="693720" cy="338040"/>
              <a:chOff x="5029200" y="2766600"/>
              <a:chExt cx="693720" cy="338040"/>
            </a:xfrm>
          </p:grpSpPr>
          <p:sp>
            <p:nvSpPr>
              <p:cNvPr id="403" name=""/>
              <p:cNvSpPr/>
              <p:nvPr/>
            </p:nvSpPr>
            <p:spPr>
              <a:xfrm>
                <a:off x="5029200" y="2766600"/>
                <a:ext cx="693720" cy="33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  <a:ea typeface="Arial"/>
                  </a:rPr>
                  <a:t>Cigg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5029200" y="2766600"/>
                <a:ext cx="693720" cy="3380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05" name=""/>
          <p:cNvSpPr/>
          <p:nvPr/>
        </p:nvSpPr>
        <p:spPr>
          <a:xfrm>
            <a:off x="533520" y="1752480"/>
            <a:ext cx="3886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Firstly we need to find actual amounts spent in each y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Multiply Price by Quantity for each y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6" name=""/>
          <p:cNvGrpSpPr/>
          <p:nvPr/>
        </p:nvGrpSpPr>
        <p:grpSpPr>
          <a:xfrm>
            <a:off x="5181480" y="4191120"/>
            <a:ext cx="3015720" cy="1686960"/>
            <a:chOff x="5181480" y="4191120"/>
            <a:chExt cx="3015720" cy="1686960"/>
          </a:xfrm>
        </p:grpSpPr>
        <p:sp>
          <p:nvSpPr>
            <p:cNvPr id="407" name=""/>
            <p:cNvSpPr/>
            <p:nvPr/>
          </p:nvSpPr>
          <p:spPr>
            <a:xfrm>
              <a:off x="5817600" y="4191120"/>
              <a:ext cx="1214280" cy="2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  <a:ea typeface="Arial"/>
                </a:rPr>
                <a:t>P1Q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7031880" y="4191120"/>
              <a:ext cx="1165320" cy="2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  <a:ea typeface="Arial"/>
                </a:rPr>
                <a:t>P1Q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817600" y="4482360"/>
              <a:ext cx="1214280" cy="2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  <a:ea typeface="Arial"/>
                </a:rPr>
                <a:t>2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7031880" y="4482360"/>
              <a:ext cx="1165320" cy="2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  <a:ea typeface="Arial"/>
                </a:rPr>
                <a:t>2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5817600" y="4773960"/>
              <a:ext cx="1214280" cy="2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  <a:ea typeface="Arial"/>
                </a:rPr>
                <a:t>1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7031880" y="4773960"/>
              <a:ext cx="1165320" cy="2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  <a:ea typeface="Arial"/>
                </a:rPr>
                <a:t>12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5817600" y="5065560"/>
              <a:ext cx="1214280" cy="2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  <a:ea typeface="Arial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7031880" y="5065560"/>
              <a:ext cx="1165320" cy="2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  <a:ea typeface="Arial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181480" y="5357160"/>
              <a:ext cx="6361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  <a:ea typeface="Arial"/>
                </a:rPr>
                <a:t> 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817600" y="5357160"/>
              <a:ext cx="121428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  <a:ea typeface="Arial"/>
                </a:rPr>
                <a:t> 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031880" y="5357160"/>
              <a:ext cx="1165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  <a:ea typeface="Arial"/>
                </a:rPr>
                <a:t> 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5181480" y="5586840"/>
              <a:ext cx="636120" cy="2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  <a:ea typeface="Arial"/>
                </a:rPr>
                <a:t>Tot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5817600" y="5586840"/>
              <a:ext cx="1214280" cy="2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  <a:ea typeface="Arial"/>
                </a:rPr>
                <a:t>12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7031880" y="5586840"/>
              <a:ext cx="1165320" cy="2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  <a:ea typeface="Arial"/>
                </a:rPr>
                <a:t>14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1" name=""/>
            <p:cNvGrpSpPr/>
            <p:nvPr/>
          </p:nvGrpSpPr>
          <p:grpSpPr>
            <a:xfrm>
              <a:off x="5181480" y="4191120"/>
              <a:ext cx="635760" cy="291240"/>
              <a:chOff x="5181480" y="4191120"/>
              <a:chExt cx="635760" cy="291240"/>
            </a:xfrm>
          </p:grpSpPr>
          <p:sp>
            <p:nvSpPr>
              <p:cNvPr id="422" name=""/>
              <p:cNvSpPr/>
              <p:nvPr/>
            </p:nvSpPr>
            <p:spPr>
              <a:xfrm>
                <a:off x="5181480" y="4191120"/>
                <a:ext cx="635760" cy="2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  <a:ea typeface="Arial"/>
                  </a:rPr>
                  <a:t>Item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5181480" y="4191120"/>
                <a:ext cx="635760" cy="2912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4" name=""/>
            <p:cNvGrpSpPr/>
            <p:nvPr/>
          </p:nvGrpSpPr>
          <p:grpSpPr>
            <a:xfrm>
              <a:off x="5181480" y="4482360"/>
              <a:ext cx="635760" cy="291240"/>
              <a:chOff x="5181480" y="4482360"/>
              <a:chExt cx="635760" cy="291240"/>
            </a:xfrm>
          </p:grpSpPr>
          <p:sp>
            <p:nvSpPr>
              <p:cNvPr id="425" name=""/>
              <p:cNvSpPr/>
              <p:nvPr/>
            </p:nvSpPr>
            <p:spPr>
              <a:xfrm>
                <a:off x="5181480" y="4482360"/>
                <a:ext cx="635760" cy="2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  <a:ea typeface="Arial"/>
                  </a:rPr>
                  <a:t>Chip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5181480" y="4482360"/>
                <a:ext cx="635760" cy="2912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7" name=""/>
            <p:cNvGrpSpPr/>
            <p:nvPr/>
          </p:nvGrpSpPr>
          <p:grpSpPr>
            <a:xfrm>
              <a:off x="5181480" y="4773960"/>
              <a:ext cx="635760" cy="291240"/>
              <a:chOff x="5181480" y="4773960"/>
              <a:chExt cx="635760" cy="291240"/>
            </a:xfrm>
          </p:grpSpPr>
          <p:sp>
            <p:nvSpPr>
              <p:cNvPr id="428" name=""/>
              <p:cNvSpPr/>
              <p:nvPr/>
            </p:nvSpPr>
            <p:spPr>
              <a:xfrm>
                <a:off x="5181480" y="4773960"/>
                <a:ext cx="635760" cy="2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  <a:ea typeface="Arial"/>
                  </a:rPr>
                  <a:t>Bee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5181480" y="4773960"/>
                <a:ext cx="635760" cy="2912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0" name=""/>
            <p:cNvGrpSpPr/>
            <p:nvPr/>
          </p:nvGrpSpPr>
          <p:grpSpPr>
            <a:xfrm>
              <a:off x="5181480" y="5065560"/>
              <a:ext cx="635760" cy="291240"/>
              <a:chOff x="5181480" y="5065560"/>
              <a:chExt cx="635760" cy="291240"/>
            </a:xfrm>
          </p:grpSpPr>
          <p:sp>
            <p:nvSpPr>
              <p:cNvPr id="431" name=""/>
              <p:cNvSpPr/>
              <p:nvPr/>
            </p:nvSpPr>
            <p:spPr>
              <a:xfrm>
                <a:off x="5181480" y="5065560"/>
                <a:ext cx="635760" cy="2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  <a:ea typeface="Arial"/>
                  </a:rPr>
                  <a:t>Cigg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5181480" y="5065560"/>
                <a:ext cx="635760" cy="2912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33" name=""/>
          <p:cNvSpPr/>
          <p:nvPr/>
        </p:nvSpPr>
        <p:spPr>
          <a:xfrm>
            <a:off x="609480" y="3962520"/>
            <a:ext cx="39020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Then we can find how much would have been spent in each yea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using base year Prices and current year quant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4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4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533520" y="685800"/>
            <a:ext cx="8076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99"/>
                </a:solidFill>
                <a:latin typeface="Times New Roman"/>
              </a:rPr>
              <a:t>Current Weighted Indices (3)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685800" y="1600200"/>
            <a:ext cx="7711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Now we are in a position to compare the two sets of figures to create the index numb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2439000" y="2743200"/>
            <a:ext cx="158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For Year 2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7" name=""/>
              <p:cNvSpPr txBox="1"/>
              <p:nvPr/>
            </p:nvSpPr>
            <p:spPr>
              <a:xfrm>
                <a:off x="4876920" y="2590920"/>
                <a:ext cx="32526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3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</m:den>
                    </m:f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333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1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38" name=""/>
          <p:cNvSpPr/>
          <p:nvPr/>
        </p:nvSpPr>
        <p:spPr>
          <a:xfrm>
            <a:off x="2515320" y="3581280"/>
            <a:ext cx="158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For Year 3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9" name=""/>
              <p:cNvSpPr txBox="1"/>
              <p:nvPr/>
            </p:nvSpPr>
            <p:spPr>
              <a:xfrm>
                <a:off x="4876920" y="3511440"/>
                <a:ext cx="342900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6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40</m:t>
                        </m:r>
                      </m:den>
                    </m:f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071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40" name=""/>
          <p:cNvSpPr/>
          <p:nvPr/>
        </p:nvSpPr>
        <p:spPr>
          <a:xfrm>
            <a:off x="600480" y="4419720"/>
            <a:ext cx="800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A current-weighted index number is also called a Paasche ind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593640" y="5222880"/>
            <a:ext cx="2606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A formula to help you remember 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2" name=""/>
              <p:cNvSpPr txBox="1"/>
              <p:nvPr/>
            </p:nvSpPr>
            <p:spPr>
              <a:xfrm>
                <a:off x="3886200" y="5257800"/>
                <a:ext cx="4295880" cy="84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aasche</m:t>
                    </m:r>
                    <m:r>
                      <m:rPr>
                        <m:lit/>
                        <m:nor/>
                      </m:rPr>
                      <m:t xml:space="preserve">Index</m:t>
                    </m:r>
                    <m:r>
                      <m:rPr>
                        <m:lit/>
                        <m:nor/>
                      </m:rPr>
                      <m:t xml:space="preserve">Year</m:t>
                    </m:r>
                    <m:r>
                      <m:t xml:space="preserve">2</m:t>
                    </m:r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e>
                            </m:d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e>
                            </m:d>
                          </m:e>
                        </m:nary>
                      </m:den>
                    </m:f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99"/>
                </a:solidFill>
                <a:latin typeface="Times New Roman"/>
              </a:rPr>
              <a:t>Retail Prices Index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444" name="" descr=""/>
          <p:cNvPicPr/>
          <p:nvPr/>
        </p:nvPicPr>
        <p:blipFill>
          <a:blip r:embed="rId1"/>
          <a:stretch/>
        </p:blipFill>
        <p:spPr>
          <a:xfrm>
            <a:off x="3276720" y="1676520"/>
            <a:ext cx="5333760" cy="3995640"/>
          </a:xfrm>
          <a:prstGeom prst="rect">
            <a:avLst/>
          </a:prstGeom>
          <a:ln w="0">
            <a:noFill/>
          </a:ln>
        </p:spPr>
      </p:pic>
      <p:sp>
        <p:nvSpPr>
          <p:cNvPr id="445" name=""/>
          <p:cNvSpPr/>
          <p:nvPr/>
        </p:nvSpPr>
        <p:spPr>
          <a:xfrm>
            <a:off x="380880" y="1676520"/>
            <a:ext cx="25304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Probably the most widely used published ind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Monitors the prices of hundreds of i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Wide geographical sp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Details on the web s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190760" y="5715000"/>
            <a:ext cx="392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ccccff"/>
                </a:solidFill>
                <a:uFillTx/>
                <a:latin typeface="Arial"/>
                <a:ea typeface="Times New Roman"/>
                <a:hlinkClick r:id="rId2"/>
              </a:rPr>
              <a:t>http://</a:t>
            </a:r>
            <a:r>
              <a:rPr b="0" lang="en-GB" sz="2400" spc="-1" strike="noStrike" u="sng">
                <a:solidFill>
                  <a:srgbClr val="ccccff"/>
                </a:solidFill>
                <a:uFillTx/>
                <a:latin typeface="Arial"/>
                <a:ea typeface="Times New Roman"/>
                <a:hlinkClick r:id="rId3"/>
              </a:rPr>
              <a:t>www.statistics.gov.uk</a:t>
            </a:r>
            <a:r>
              <a:rPr b="0" lang="en-GB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4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4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4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4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4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4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80769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99"/>
                </a:solidFill>
                <a:latin typeface="Times New Roman"/>
              </a:rPr>
              <a:t>Conclusions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685800" y="1676520"/>
            <a:ext cx="7696080" cy="32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60240" indent="-568080">
              <a:lnSpc>
                <a:spcPct val="125000"/>
              </a:lnSpc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Times New Roman"/>
              </a:rPr>
              <a:t>Index numbers always make comparisons back to a base ye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60240" indent="-568080">
              <a:lnSpc>
                <a:spcPct val="125000"/>
              </a:lnSpc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Times New Roman"/>
              </a:rPr>
              <a:t>They help to compare large numb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60240" indent="-568080">
              <a:lnSpc>
                <a:spcPct val="125000"/>
              </a:lnSpc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Times New Roman"/>
              </a:rPr>
              <a:t>They can group items together, even if they are measured in different wa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60240" indent="-568080">
              <a:lnSpc>
                <a:spcPct val="125000"/>
              </a:lnSpc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Times New Roman"/>
              </a:rPr>
              <a:t>Often used for published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520" y="685800"/>
            <a:ext cx="80769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99"/>
                </a:solidFill>
                <a:latin typeface="Times New Roman"/>
              </a:rPr>
              <a:t>Objectives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75096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99"/>
                </a:solidFill>
                <a:latin typeface="Arial"/>
                <a:ea typeface="Arial"/>
              </a:rPr>
              <a:t>  </a:t>
            </a:r>
            <a:r>
              <a:rPr b="0" lang="en-GB" sz="2800" spc="-1" strike="noStrike">
                <a:solidFill>
                  <a:srgbClr val="000099"/>
                </a:solidFill>
                <a:latin typeface="Times New Roman"/>
                <a:ea typeface="Arial"/>
              </a:rPr>
              <a:t>Describe the concept of an index number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75096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Times New Roman"/>
                <a:ea typeface="Arial"/>
              </a:rPr>
              <a:t>  </a:t>
            </a:r>
            <a:r>
              <a:rPr b="0" lang="en-GB" sz="2800" spc="-1" strike="noStrike">
                <a:solidFill>
                  <a:srgbClr val="000099"/>
                </a:solidFill>
                <a:latin typeface="Times New Roman"/>
                <a:ea typeface="Arial"/>
              </a:rPr>
              <a:t>Explain why they are calculated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75096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Times New Roman"/>
                <a:ea typeface="Arial"/>
              </a:rPr>
              <a:t>  </a:t>
            </a:r>
            <a:r>
              <a:rPr b="0" lang="en-GB" sz="2800" spc="-1" strike="noStrike">
                <a:solidFill>
                  <a:srgbClr val="000099"/>
                </a:solidFill>
                <a:latin typeface="Times New Roman"/>
                <a:ea typeface="Arial"/>
              </a:rPr>
              <a:t>Calculate simple index numbers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75096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Times New Roman"/>
                <a:ea typeface="Arial"/>
              </a:rPr>
              <a:t>  </a:t>
            </a:r>
            <a:r>
              <a:rPr b="0" lang="en-GB" sz="2800" spc="-1" strike="noStrike">
                <a:solidFill>
                  <a:srgbClr val="000099"/>
                </a:solidFill>
                <a:latin typeface="Times New Roman"/>
                <a:ea typeface="Arial"/>
              </a:rPr>
              <a:t>Time-align index  numbers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75096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Times New Roman"/>
                <a:ea typeface="Arial"/>
              </a:rPr>
              <a:t>  </a:t>
            </a:r>
            <a:r>
              <a:rPr b="0" lang="en-GB" sz="2800" spc="-1" strike="noStrike">
                <a:solidFill>
                  <a:srgbClr val="000099"/>
                </a:solidFill>
                <a:latin typeface="Times New Roman"/>
                <a:ea typeface="Arial"/>
              </a:rPr>
              <a:t>Calculate Laspeyres indices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75096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Times New Roman"/>
                <a:ea typeface="Arial"/>
              </a:rPr>
              <a:t>  </a:t>
            </a:r>
            <a:r>
              <a:rPr b="0" lang="en-GB" sz="2800" spc="-1" strike="noStrike">
                <a:solidFill>
                  <a:srgbClr val="000099"/>
                </a:solidFill>
                <a:latin typeface="Times New Roman"/>
                <a:ea typeface="Arial"/>
              </a:rPr>
              <a:t>Calculate Paasche indices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75096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Times New Roman"/>
                <a:ea typeface="Arial"/>
              </a:rPr>
              <a:t>  </a:t>
            </a:r>
            <a:r>
              <a:rPr b="0" lang="en-GB" sz="2800" spc="-1" strike="noStrike">
                <a:solidFill>
                  <a:srgbClr val="000099"/>
                </a:solidFill>
                <a:latin typeface="Times New Roman"/>
                <a:ea typeface="Arial"/>
              </a:rPr>
              <a:t>Describe at least one published index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75096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Times New Roman"/>
                <a:ea typeface="Arial"/>
              </a:rPr>
              <a:t>  </a:t>
            </a:r>
            <a:r>
              <a:rPr b="0" lang="en-GB" sz="2800" spc="-1" strike="noStrike">
                <a:solidFill>
                  <a:srgbClr val="000099"/>
                </a:solidFill>
                <a:latin typeface="Times New Roman"/>
                <a:ea typeface="Arial"/>
              </a:rPr>
              <a:t>Find published data and series</a:t>
            </a:r>
            <a:r>
              <a:rPr b="0" lang="en-GB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0769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99"/>
                </a:solidFill>
                <a:latin typeface="Times New Roman"/>
              </a:rPr>
              <a:t>What is an Index Number?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Times New Roman"/>
              </a:rPr>
              <a:t>It is a means of making comparisons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Times New Roman"/>
              </a:rPr>
              <a:t>It is always related back to the base year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Times New Roman"/>
              </a:rPr>
              <a:t>The base year has a value of 100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Times New Roman"/>
              </a:rPr>
              <a:t>It can be used for just one set of figures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Times New Roman"/>
              </a:rPr>
              <a:t>It can also be used to amalgamate several sets of figures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Times New Roman"/>
              </a:rPr>
              <a:t>It can allow for the different relative importance of items in the index series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685800"/>
            <a:ext cx="8076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99"/>
                </a:solidFill>
                <a:latin typeface="Times New Roman"/>
              </a:rPr>
              <a:t>Why use them?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Times New Roman"/>
              </a:rPr>
              <a:t>Index numbers allow you to compare very large numbers quickly and easily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Times New Roman"/>
              </a:rPr>
              <a:t>Percentage changes from the base year can be found at a glance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Times New Roman"/>
              </a:rPr>
              <a:t>Some are well known: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99"/>
                </a:solidFill>
                <a:latin typeface="Times New Roman"/>
              </a:rPr>
              <a:t>For example, the Retail Prices Index this is linked to increases in various benefits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520" y="762120"/>
            <a:ext cx="80769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99"/>
                </a:solidFill>
                <a:latin typeface="Times New Roman"/>
              </a:rPr>
              <a:t>A Single Set of Figures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457200" y="3886200"/>
            <a:ext cx="2960280" cy="1881360"/>
            <a:chOff x="457200" y="3886200"/>
            <a:chExt cx="2960280" cy="1881360"/>
          </a:xfrm>
        </p:grpSpPr>
        <p:grpSp>
          <p:nvGrpSpPr>
            <p:cNvPr id="53" name=""/>
            <p:cNvGrpSpPr/>
            <p:nvPr/>
          </p:nvGrpSpPr>
          <p:grpSpPr>
            <a:xfrm>
              <a:off x="463680" y="3888360"/>
              <a:ext cx="2945520" cy="1876680"/>
              <a:chOff x="463680" y="3888360"/>
              <a:chExt cx="2945520" cy="1876680"/>
            </a:xfrm>
          </p:grpSpPr>
          <p:grpSp>
            <p:nvGrpSpPr>
              <p:cNvPr id="54" name=""/>
              <p:cNvGrpSpPr/>
              <p:nvPr/>
            </p:nvGrpSpPr>
            <p:grpSpPr>
              <a:xfrm>
                <a:off x="463680" y="3888360"/>
                <a:ext cx="992160" cy="312480"/>
                <a:chOff x="463680" y="3888360"/>
                <a:chExt cx="992160" cy="312480"/>
              </a:xfrm>
            </p:grpSpPr>
            <p:sp>
              <p:nvSpPr>
                <p:cNvPr id="55" name=""/>
                <p:cNvSpPr/>
                <p:nvPr/>
              </p:nvSpPr>
              <p:spPr>
                <a:xfrm>
                  <a:off x="559440" y="3888360"/>
                  <a:ext cx="800640" cy="312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Year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463680" y="3888360"/>
                  <a:ext cx="992160" cy="312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" name=""/>
              <p:cNvGrpSpPr/>
              <p:nvPr/>
            </p:nvGrpSpPr>
            <p:grpSpPr>
              <a:xfrm>
                <a:off x="1456200" y="3888360"/>
                <a:ext cx="1953000" cy="312480"/>
                <a:chOff x="1456200" y="3888360"/>
                <a:chExt cx="1953000" cy="312480"/>
              </a:xfrm>
            </p:grpSpPr>
            <p:sp>
              <p:nvSpPr>
                <p:cNvPr id="58" name=""/>
                <p:cNvSpPr/>
                <p:nvPr/>
              </p:nvSpPr>
              <p:spPr>
                <a:xfrm>
                  <a:off x="1551240" y="3888360"/>
                  <a:ext cx="1762200" cy="312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Price per bottle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" name=""/>
                <p:cNvSpPr/>
                <p:nvPr/>
              </p:nvSpPr>
              <p:spPr>
                <a:xfrm>
                  <a:off x="1456200" y="3888360"/>
                  <a:ext cx="1953000" cy="312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" name=""/>
              <p:cNvGrpSpPr/>
              <p:nvPr/>
            </p:nvGrpSpPr>
            <p:grpSpPr>
              <a:xfrm>
                <a:off x="463680" y="4200840"/>
                <a:ext cx="992160" cy="312840"/>
                <a:chOff x="463680" y="4200840"/>
                <a:chExt cx="992160" cy="31284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559440" y="4200840"/>
                  <a:ext cx="800640" cy="31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463680" y="4200840"/>
                  <a:ext cx="992160" cy="312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" name=""/>
              <p:cNvGrpSpPr/>
              <p:nvPr/>
            </p:nvGrpSpPr>
            <p:grpSpPr>
              <a:xfrm>
                <a:off x="1456200" y="4200840"/>
                <a:ext cx="1953000" cy="312840"/>
                <a:chOff x="1456200" y="4200840"/>
                <a:chExt cx="1953000" cy="312840"/>
              </a:xfrm>
            </p:grpSpPr>
            <p:sp>
              <p:nvSpPr>
                <p:cNvPr id="64" name=""/>
                <p:cNvSpPr/>
                <p:nvPr/>
              </p:nvSpPr>
              <p:spPr>
                <a:xfrm>
                  <a:off x="1551240" y="4200840"/>
                  <a:ext cx="1762200" cy="31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.5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1456200" y="4200840"/>
                  <a:ext cx="1953000" cy="312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" name=""/>
              <p:cNvGrpSpPr/>
              <p:nvPr/>
            </p:nvGrpSpPr>
            <p:grpSpPr>
              <a:xfrm>
                <a:off x="463680" y="4513680"/>
                <a:ext cx="992160" cy="312480"/>
                <a:chOff x="463680" y="4513680"/>
                <a:chExt cx="992160" cy="312480"/>
              </a:xfrm>
            </p:grpSpPr>
            <p:sp>
              <p:nvSpPr>
                <p:cNvPr id="67" name=""/>
                <p:cNvSpPr/>
                <p:nvPr/>
              </p:nvSpPr>
              <p:spPr>
                <a:xfrm>
                  <a:off x="559440" y="4513680"/>
                  <a:ext cx="800640" cy="312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>
                  <a:off x="463680" y="4513680"/>
                  <a:ext cx="992160" cy="312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" name=""/>
              <p:cNvGrpSpPr/>
              <p:nvPr/>
            </p:nvGrpSpPr>
            <p:grpSpPr>
              <a:xfrm>
                <a:off x="1456200" y="4513680"/>
                <a:ext cx="1953000" cy="312480"/>
                <a:chOff x="1456200" y="4513680"/>
                <a:chExt cx="1953000" cy="312480"/>
              </a:xfrm>
            </p:grpSpPr>
            <p:sp>
              <p:nvSpPr>
                <p:cNvPr id="70" name=""/>
                <p:cNvSpPr/>
                <p:nvPr/>
              </p:nvSpPr>
              <p:spPr>
                <a:xfrm>
                  <a:off x="1551240" y="4513680"/>
                  <a:ext cx="1762200" cy="312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.6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1456200" y="4513680"/>
                  <a:ext cx="1953000" cy="312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" name=""/>
              <p:cNvGrpSpPr/>
              <p:nvPr/>
            </p:nvGrpSpPr>
            <p:grpSpPr>
              <a:xfrm>
                <a:off x="463680" y="4826520"/>
                <a:ext cx="992160" cy="312840"/>
                <a:chOff x="463680" y="4826520"/>
                <a:chExt cx="992160" cy="312840"/>
              </a:xfrm>
            </p:grpSpPr>
            <p:sp>
              <p:nvSpPr>
                <p:cNvPr id="73" name=""/>
                <p:cNvSpPr/>
                <p:nvPr/>
              </p:nvSpPr>
              <p:spPr>
                <a:xfrm>
                  <a:off x="559440" y="4826520"/>
                  <a:ext cx="800640" cy="31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>
                  <a:off x="463680" y="4826520"/>
                  <a:ext cx="992160" cy="312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" name=""/>
              <p:cNvGrpSpPr/>
              <p:nvPr/>
            </p:nvGrpSpPr>
            <p:grpSpPr>
              <a:xfrm>
                <a:off x="1456200" y="4826520"/>
                <a:ext cx="1953000" cy="312840"/>
                <a:chOff x="1456200" y="4826520"/>
                <a:chExt cx="1953000" cy="312840"/>
              </a:xfrm>
            </p:grpSpPr>
            <p:sp>
              <p:nvSpPr>
                <p:cNvPr id="76" name=""/>
                <p:cNvSpPr/>
                <p:nvPr/>
              </p:nvSpPr>
              <p:spPr>
                <a:xfrm>
                  <a:off x="1551240" y="4826520"/>
                  <a:ext cx="1762200" cy="31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.69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1456200" y="4826520"/>
                  <a:ext cx="1953000" cy="312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" name=""/>
              <p:cNvGrpSpPr/>
              <p:nvPr/>
            </p:nvGrpSpPr>
            <p:grpSpPr>
              <a:xfrm>
                <a:off x="463680" y="5139360"/>
                <a:ext cx="992160" cy="312480"/>
                <a:chOff x="463680" y="5139360"/>
                <a:chExt cx="992160" cy="312480"/>
              </a:xfrm>
            </p:grpSpPr>
            <p:sp>
              <p:nvSpPr>
                <p:cNvPr id="79" name=""/>
                <p:cNvSpPr/>
                <p:nvPr/>
              </p:nvSpPr>
              <p:spPr>
                <a:xfrm>
                  <a:off x="559440" y="5139360"/>
                  <a:ext cx="800640" cy="312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4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" name=""/>
                <p:cNvSpPr/>
                <p:nvPr/>
              </p:nvSpPr>
              <p:spPr>
                <a:xfrm>
                  <a:off x="463680" y="5139360"/>
                  <a:ext cx="992160" cy="312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" name=""/>
              <p:cNvGrpSpPr/>
              <p:nvPr/>
            </p:nvGrpSpPr>
            <p:grpSpPr>
              <a:xfrm>
                <a:off x="1456200" y="5139360"/>
                <a:ext cx="1953000" cy="312480"/>
                <a:chOff x="1456200" y="5139360"/>
                <a:chExt cx="1953000" cy="312480"/>
              </a:xfrm>
            </p:grpSpPr>
            <p:sp>
              <p:nvSpPr>
                <p:cNvPr id="82" name=""/>
                <p:cNvSpPr/>
                <p:nvPr/>
              </p:nvSpPr>
              <p:spPr>
                <a:xfrm>
                  <a:off x="1551240" y="5139360"/>
                  <a:ext cx="1762200" cy="312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.79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>
                  <a:off x="1456200" y="5139360"/>
                  <a:ext cx="1953000" cy="312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4" name=""/>
              <p:cNvGrpSpPr/>
              <p:nvPr/>
            </p:nvGrpSpPr>
            <p:grpSpPr>
              <a:xfrm>
                <a:off x="463680" y="5452200"/>
                <a:ext cx="992160" cy="312840"/>
                <a:chOff x="463680" y="5452200"/>
                <a:chExt cx="992160" cy="312840"/>
              </a:xfrm>
            </p:grpSpPr>
            <p:sp>
              <p:nvSpPr>
                <p:cNvPr id="85" name=""/>
                <p:cNvSpPr/>
                <p:nvPr/>
              </p:nvSpPr>
              <p:spPr>
                <a:xfrm>
                  <a:off x="559440" y="5452200"/>
                  <a:ext cx="800640" cy="31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5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>
                  <a:off x="463680" y="5452200"/>
                  <a:ext cx="992160" cy="312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" name=""/>
              <p:cNvGrpSpPr/>
              <p:nvPr/>
            </p:nvGrpSpPr>
            <p:grpSpPr>
              <a:xfrm>
                <a:off x="1456200" y="5452200"/>
                <a:ext cx="1953000" cy="312840"/>
                <a:chOff x="1456200" y="5452200"/>
                <a:chExt cx="1953000" cy="312840"/>
              </a:xfrm>
            </p:grpSpPr>
            <p:sp>
              <p:nvSpPr>
                <p:cNvPr id="88" name=""/>
                <p:cNvSpPr/>
                <p:nvPr/>
              </p:nvSpPr>
              <p:spPr>
                <a:xfrm>
                  <a:off x="1551240" y="5452200"/>
                  <a:ext cx="1762200" cy="31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.05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>
                  <a:off x="1456200" y="5452200"/>
                  <a:ext cx="1953000" cy="312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90" name=""/>
            <p:cNvSpPr/>
            <p:nvPr/>
          </p:nvSpPr>
          <p:spPr>
            <a:xfrm>
              <a:off x="457200" y="3886200"/>
              <a:ext cx="2960280" cy="188136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" name=""/>
          <p:cNvSpPr/>
          <p:nvPr/>
        </p:nvSpPr>
        <p:spPr>
          <a:xfrm>
            <a:off x="609480" y="1676520"/>
            <a:ext cx="464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Suppose we have the price of bottled beer over a 5 year peri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88600" y="2835360"/>
            <a:ext cx="442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The first task is to pick a base y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Here we will choose Year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1142640" y="3657600"/>
            <a:ext cx="2133720" cy="6858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3352680" y="3886200"/>
            <a:ext cx="1403280" cy="1905120"/>
            <a:chOff x="3352680" y="3886200"/>
            <a:chExt cx="1403280" cy="1905120"/>
          </a:xfrm>
        </p:grpSpPr>
        <p:grpSp>
          <p:nvGrpSpPr>
            <p:cNvPr id="95" name=""/>
            <p:cNvGrpSpPr/>
            <p:nvPr/>
          </p:nvGrpSpPr>
          <p:grpSpPr>
            <a:xfrm>
              <a:off x="3357360" y="3888360"/>
              <a:ext cx="1393920" cy="1900440"/>
              <a:chOff x="3357360" y="3888360"/>
              <a:chExt cx="1393920" cy="1900440"/>
            </a:xfrm>
          </p:grpSpPr>
          <p:grpSp>
            <p:nvGrpSpPr>
              <p:cNvPr id="96" name=""/>
              <p:cNvGrpSpPr/>
              <p:nvPr/>
            </p:nvGrpSpPr>
            <p:grpSpPr>
              <a:xfrm>
                <a:off x="3357360" y="3888360"/>
                <a:ext cx="1393920" cy="316440"/>
                <a:chOff x="3357360" y="3888360"/>
                <a:chExt cx="1393920" cy="316440"/>
              </a:xfrm>
            </p:grpSpPr>
            <p:sp>
              <p:nvSpPr>
                <p:cNvPr id="97" name=""/>
                <p:cNvSpPr/>
                <p:nvPr/>
              </p:nvSpPr>
              <p:spPr>
                <a:xfrm>
                  <a:off x="3425760" y="3888360"/>
                  <a:ext cx="1257120" cy="316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Index Serie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>
                  <a:off x="3357360" y="3888360"/>
                  <a:ext cx="1393920" cy="316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" name=""/>
              <p:cNvGrpSpPr/>
              <p:nvPr/>
            </p:nvGrpSpPr>
            <p:grpSpPr>
              <a:xfrm>
                <a:off x="3357360" y="4204800"/>
                <a:ext cx="1393920" cy="316800"/>
                <a:chOff x="3357360" y="4204800"/>
                <a:chExt cx="1393920" cy="316800"/>
              </a:xfrm>
            </p:grpSpPr>
            <p:sp>
              <p:nvSpPr>
                <p:cNvPr id="100" name=""/>
                <p:cNvSpPr/>
                <p:nvPr/>
              </p:nvSpPr>
              <p:spPr>
                <a:xfrm>
                  <a:off x="3425760" y="4204800"/>
                  <a:ext cx="1257120" cy="316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>
                  <a:off x="3357360" y="4204800"/>
                  <a:ext cx="1393920" cy="316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2" name=""/>
              <p:cNvGrpSpPr/>
              <p:nvPr/>
            </p:nvGrpSpPr>
            <p:grpSpPr>
              <a:xfrm>
                <a:off x="3357360" y="4521600"/>
                <a:ext cx="1393920" cy="316440"/>
                <a:chOff x="3357360" y="4521600"/>
                <a:chExt cx="1393920" cy="316440"/>
              </a:xfrm>
            </p:grpSpPr>
            <p:sp>
              <p:nvSpPr>
                <p:cNvPr id="103" name=""/>
                <p:cNvSpPr/>
                <p:nvPr/>
              </p:nvSpPr>
              <p:spPr>
                <a:xfrm>
                  <a:off x="3425760" y="4521600"/>
                  <a:ext cx="1257120" cy="316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08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3357360" y="4521600"/>
                  <a:ext cx="1393920" cy="316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5" name=""/>
              <p:cNvGrpSpPr/>
              <p:nvPr/>
            </p:nvGrpSpPr>
            <p:grpSpPr>
              <a:xfrm>
                <a:off x="3357360" y="4838400"/>
                <a:ext cx="1393920" cy="316800"/>
                <a:chOff x="3357360" y="4838400"/>
                <a:chExt cx="1393920" cy="3168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425760" y="4838400"/>
                  <a:ext cx="1257120" cy="316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12.7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357360" y="4838400"/>
                  <a:ext cx="1393920" cy="316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" name=""/>
              <p:cNvGrpSpPr/>
              <p:nvPr/>
            </p:nvGrpSpPr>
            <p:grpSpPr>
              <a:xfrm>
                <a:off x="3357360" y="5155200"/>
                <a:ext cx="1393920" cy="316440"/>
                <a:chOff x="3357360" y="5155200"/>
                <a:chExt cx="1393920" cy="316440"/>
              </a:xfrm>
            </p:grpSpPr>
            <p:sp>
              <p:nvSpPr>
                <p:cNvPr id="109" name=""/>
                <p:cNvSpPr/>
                <p:nvPr/>
              </p:nvSpPr>
              <p:spPr>
                <a:xfrm>
                  <a:off x="3425760" y="5155200"/>
                  <a:ext cx="1257120" cy="316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19.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3357360" y="5155200"/>
                  <a:ext cx="1393920" cy="316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" name=""/>
              <p:cNvGrpSpPr/>
              <p:nvPr/>
            </p:nvGrpSpPr>
            <p:grpSpPr>
              <a:xfrm>
                <a:off x="3357360" y="5472000"/>
                <a:ext cx="1393920" cy="316800"/>
                <a:chOff x="3357360" y="5472000"/>
                <a:chExt cx="1393920" cy="316800"/>
              </a:xfrm>
            </p:grpSpPr>
            <p:sp>
              <p:nvSpPr>
                <p:cNvPr id="112" name=""/>
                <p:cNvSpPr/>
                <p:nvPr/>
              </p:nvSpPr>
              <p:spPr>
                <a:xfrm>
                  <a:off x="3425760" y="5472000"/>
                  <a:ext cx="1257120" cy="316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36.7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3357360" y="5472000"/>
                  <a:ext cx="1393920" cy="316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14" name=""/>
            <p:cNvSpPr/>
            <p:nvPr/>
          </p:nvSpPr>
          <p:spPr>
            <a:xfrm>
              <a:off x="3352680" y="3886200"/>
              <a:ext cx="1403280" cy="190512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4035960" y="3200400"/>
            <a:ext cx="347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this is given a value of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029200" y="3851280"/>
            <a:ext cx="3886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Other values are found by dividing the price by the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base year</a:t>
            </a: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 price and multiplying the result by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eg. Year 2 is (1.62/1.50)*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= 10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 flipV="1">
            <a:off x="4419720" y="4723920"/>
            <a:ext cx="914400" cy="11430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500"/>
                            </p:stCondLst>
                            <p:childTnLst>
                              <p:par>
                                <p:cTn id="14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500"/>
                            </p:stCondLst>
                            <p:childTnLst>
                              <p:par>
                                <p:cTn id="16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3520" y="685800"/>
            <a:ext cx="80769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99"/>
                </a:solidFill>
                <a:latin typeface="Times New Roman"/>
              </a:rPr>
              <a:t>Time-aligning Series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09480" y="1600200"/>
            <a:ext cx="7927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When we want to compare the changes in different index series, it will be much easier if they all start at the same point in 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Since this is often not he case, we need to modify a series to align it with another on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Times New Roman"/>
              </a:rPr>
              <a:t>For 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2127240" y="3733920"/>
            <a:ext cx="4959000" cy="2057400"/>
            <a:chOff x="2127240" y="3733920"/>
            <a:chExt cx="4959000" cy="2057400"/>
          </a:xfrm>
        </p:grpSpPr>
        <p:grpSp>
          <p:nvGrpSpPr>
            <p:cNvPr id="121" name=""/>
            <p:cNvGrpSpPr/>
            <p:nvPr/>
          </p:nvGrpSpPr>
          <p:grpSpPr>
            <a:xfrm>
              <a:off x="2132640" y="3735720"/>
              <a:ext cx="4947480" cy="2053080"/>
              <a:chOff x="2132640" y="3735720"/>
              <a:chExt cx="4947480" cy="2053080"/>
            </a:xfrm>
          </p:grpSpPr>
          <p:grpSp>
            <p:nvGrpSpPr>
              <p:cNvPr id="122" name=""/>
              <p:cNvGrpSpPr/>
              <p:nvPr/>
            </p:nvGrpSpPr>
            <p:grpSpPr>
              <a:xfrm>
                <a:off x="2132640" y="3735720"/>
                <a:ext cx="788760" cy="256320"/>
                <a:chOff x="2132640" y="3735720"/>
                <a:chExt cx="788760" cy="256320"/>
              </a:xfrm>
            </p:grpSpPr>
            <p:sp>
              <p:nvSpPr>
                <p:cNvPr id="123" name=""/>
                <p:cNvSpPr/>
                <p:nvPr/>
              </p:nvSpPr>
              <p:spPr>
                <a:xfrm>
                  <a:off x="2211840" y="3735720"/>
                  <a:ext cx="630360" cy="256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r" pos="457200"/>
                      <a:tab algn="ctr" pos="2637000"/>
                      <a:tab algn="r" pos="527364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Year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r" pos="457200"/>
                      <a:tab algn="ctr" pos="2637000"/>
                      <a:tab algn="r" pos="527364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2132640" y="3735720"/>
                  <a:ext cx="788760" cy="256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5" name=""/>
              <p:cNvGrpSpPr/>
              <p:nvPr/>
            </p:nvGrpSpPr>
            <p:grpSpPr>
              <a:xfrm>
                <a:off x="2921760" y="3735720"/>
                <a:ext cx="2081880" cy="256320"/>
                <a:chOff x="2921760" y="3735720"/>
                <a:chExt cx="2081880" cy="256320"/>
              </a:xfrm>
            </p:grpSpPr>
            <p:sp>
              <p:nvSpPr>
                <p:cNvPr id="126" name=""/>
                <p:cNvSpPr/>
                <p:nvPr/>
              </p:nvSpPr>
              <p:spPr>
                <a:xfrm>
                  <a:off x="3000240" y="3735720"/>
                  <a:ext cx="1923840" cy="256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r" pos="457200"/>
                      <a:tab algn="ctr" pos="2637000"/>
                      <a:tab algn="r" pos="527364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Index of Wage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r" pos="457200"/>
                      <a:tab algn="ctr" pos="2637000"/>
                      <a:tab algn="r" pos="527364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2921760" y="3735720"/>
                  <a:ext cx="2081880" cy="256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8" name=""/>
              <p:cNvGrpSpPr/>
              <p:nvPr/>
            </p:nvGrpSpPr>
            <p:grpSpPr>
              <a:xfrm>
                <a:off x="5004000" y="3735720"/>
                <a:ext cx="2076120" cy="256320"/>
                <a:chOff x="5004000" y="3735720"/>
                <a:chExt cx="2076120" cy="256320"/>
              </a:xfrm>
            </p:grpSpPr>
            <p:sp>
              <p:nvSpPr>
                <p:cNvPr id="129" name=""/>
                <p:cNvSpPr/>
                <p:nvPr/>
              </p:nvSpPr>
              <p:spPr>
                <a:xfrm>
                  <a:off x="5082480" y="3735720"/>
                  <a:ext cx="1918440" cy="256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r" pos="457200"/>
                      <a:tab algn="ctr" pos="2637000"/>
                      <a:tab algn="r" pos="527364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Index of Price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r" pos="457200"/>
                      <a:tab algn="ctr" pos="2637000"/>
                      <a:tab algn="r" pos="527364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5004000" y="3735720"/>
                  <a:ext cx="2076120" cy="256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" name=""/>
              <p:cNvGrpSpPr/>
              <p:nvPr/>
            </p:nvGrpSpPr>
            <p:grpSpPr>
              <a:xfrm>
                <a:off x="2132640" y="3992040"/>
                <a:ext cx="788760" cy="256680"/>
                <a:chOff x="2132640" y="3992040"/>
                <a:chExt cx="788760" cy="256680"/>
              </a:xfrm>
            </p:grpSpPr>
            <p:sp>
              <p:nvSpPr>
                <p:cNvPr id="132" name=""/>
                <p:cNvSpPr/>
                <p:nvPr/>
              </p:nvSpPr>
              <p:spPr>
                <a:xfrm>
                  <a:off x="2211840" y="3992040"/>
                  <a:ext cx="63036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r" pos="457200"/>
                      <a:tab algn="ctr" pos="2637000"/>
                      <a:tab algn="r" pos="527364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r" pos="457200"/>
                      <a:tab algn="ctr" pos="2637000"/>
                      <a:tab algn="r" pos="527364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2132640" y="3992040"/>
                  <a:ext cx="788760" cy="256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4" name=""/>
              <p:cNvGrpSpPr/>
              <p:nvPr/>
            </p:nvGrpSpPr>
            <p:grpSpPr>
              <a:xfrm>
                <a:off x="2921760" y="3992040"/>
                <a:ext cx="2081880" cy="256680"/>
                <a:chOff x="2921760" y="3992040"/>
                <a:chExt cx="2081880" cy="25668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3000240" y="3992040"/>
                  <a:ext cx="192384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r" pos="457200"/>
                      <a:tab algn="ctr" pos="2637000"/>
                      <a:tab algn="r" pos="527364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0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r" pos="457200"/>
                      <a:tab algn="ctr" pos="2637000"/>
                      <a:tab algn="r" pos="527364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921760" y="3992040"/>
                  <a:ext cx="2081880" cy="256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7" name=""/>
              <p:cNvGrpSpPr/>
              <p:nvPr/>
            </p:nvGrpSpPr>
            <p:grpSpPr>
              <a:xfrm>
                <a:off x="5004000" y="3992040"/>
                <a:ext cx="2076120" cy="256680"/>
                <a:chOff x="5004000" y="3992040"/>
                <a:chExt cx="2076120" cy="256680"/>
              </a:xfrm>
            </p:grpSpPr>
            <p:sp>
              <p:nvSpPr>
                <p:cNvPr id="138" name=""/>
                <p:cNvSpPr/>
                <p:nvPr/>
              </p:nvSpPr>
              <p:spPr>
                <a:xfrm>
                  <a:off x="5082480" y="3992040"/>
                  <a:ext cx="191844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r" pos="457200"/>
                      <a:tab algn="ctr" pos="2637000"/>
                      <a:tab algn="r" pos="527364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2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r" pos="457200"/>
                      <a:tab algn="ctr" pos="2637000"/>
                      <a:tab algn="r" pos="527364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5004000" y="3992040"/>
                  <a:ext cx="2076120" cy="256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0" name=""/>
              <p:cNvGrpSpPr/>
              <p:nvPr/>
            </p:nvGrpSpPr>
            <p:grpSpPr>
              <a:xfrm>
                <a:off x="2132640" y="4249080"/>
                <a:ext cx="788760" cy="256320"/>
                <a:chOff x="2132640" y="4249080"/>
                <a:chExt cx="788760" cy="25632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2211840" y="4249080"/>
                  <a:ext cx="630360" cy="256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r" pos="457200"/>
                      <a:tab algn="ctr" pos="2637000"/>
                      <a:tab algn="r" pos="527364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r" pos="457200"/>
                      <a:tab algn="ctr" pos="2637000"/>
                      <a:tab algn="r" pos="527364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2132640" y="4249080"/>
                  <a:ext cx="788760" cy="256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3" name=""/>
              <p:cNvGrpSpPr/>
              <p:nvPr/>
            </p:nvGrpSpPr>
            <p:grpSpPr>
              <a:xfrm>
                <a:off x="2921760" y="4249080"/>
                <a:ext cx="2081880" cy="256320"/>
                <a:chOff x="2921760" y="4249080"/>
                <a:chExt cx="2081880" cy="256320"/>
              </a:xfrm>
            </p:grpSpPr>
            <p:sp>
              <p:nvSpPr>
                <p:cNvPr id="144" name=""/>
                <p:cNvSpPr/>
                <p:nvPr/>
              </p:nvSpPr>
              <p:spPr>
                <a:xfrm>
                  <a:off x="3000240" y="4249080"/>
                  <a:ext cx="1923840" cy="256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r" pos="457200"/>
                      <a:tab algn="ctr" pos="2637000"/>
                      <a:tab algn="r" pos="527364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04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r" pos="457200"/>
                      <a:tab algn="ctr" pos="2637000"/>
                      <a:tab algn="r" pos="527364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2921760" y="4249080"/>
                  <a:ext cx="2081880" cy="256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6" name=""/>
              <p:cNvGrpSpPr/>
              <p:nvPr/>
            </p:nvGrpSpPr>
            <p:grpSpPr>
              <a:xfrm>
                <a:off x="5004000" y="4249080"/>
                <a:ext cx="2076120" cy="256320"/>
                <a:chOff x="5004000" y="4249080"/>
                <a:chExt cx="2076120" cy="256320"/>
              </a:xfrm>
            </p:grpSpPr>
            <p:sp>
              <p:nvSpPr>
                <p:cNvPr id="147" name=""/>
                <p:cNvSpPr/>
                <p:nvPr/>
              </p:nvSpPr>
              <p:spPr>
                <a:xfrm>
                  <a:off x="5082480" y="4249080"/>
                  <a:ext cx="1918440" cy="256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r" pos="457200"/>
                      <a:tab algn="ctr" pos="2637000"/>
                      <a:tab algn="r" pos="527364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23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r" pos="457200"/>
                      <a:tab algn="ctr" pos="2637000"/>
                      <a:tab algn="r" pos="527364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5004000" y="4249080"/>
                  <a:ext cx="2076120" cy="256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9" name=""/>
              <p:cNvGrpSpPr/>
              <p:nvPr/>
            </p:nvGrpSpPr>
            <p:grpSpPr>
              <a:xfrm>
                <a:off x="2132640" y="4505760"/>
                <a:ext cx="788760" cy="256680"/>
                <a:chOff x="2132640" y="4505760"/>
                <a:chExt cx="788760" cy="256680"/>
              </a:xfrm>
            </p:grpSpPr>
            <p:sp>
              <p:nvSpPr>
                <p:cNvPr id="150" name=""/>
                <p:cNvSpPr/>
                <p:nvPr/>
              </p:nvSpPr>
              <p:spPr>
                <a:xfrm>
                  <a:off x="2211840" y="4505760"/>
                  <a:ext cx="63036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r" pos="457200"/>
                      <a:tab algn="ctr" pos="2637000"/>
                      <a:tab algn="r" pos="527364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r" pos="457200"/>
                      <a:tab algn="ctr" pos="2637000"/>
                      <a:tab algn="r" pos="527364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2132640" y="4505760"/>
                  <a:ext cx="788760" cy="256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2" name=""/>
              <p:cNvGrpSpPr/>
              <p:nvPr/>
            </p:nvGrpSpPr>
            <p:grpSpPr>
              <a:xfrm>
                <a:off x="2921760" y="4505760"/>
                <a:ext cx="2081880" cy="256680"/>
                <a:chOff x="2921760" y="4505760"/>
                <a:chExt cx="2081880" cy="256680"/>
              </a:xfrm>
            </p:grpSpPr>
            <p:sp>
              <p:nvSpPr>
                <p:cNvPr id="153" name=""/>
                <p:cNvSpPr/>
                <p:nvPr/>
              </p:nvSpPr>
              <p:spPr>
                <a:xfrm>
                  <a:off x="3000240" y="4505760"/>
                  <a:ext cx="192384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r" pos="457200"/>
                      <a:tab algn="ctr" pos="2637000"/>
                      <a:tab algn="r" pos="527364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1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r" pos="457200"/>
                      <a:tab algn="ctr" pos="2637000"/>
                      <a:tab algn="r" pos="527364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2921760" y="4505760"/>
                  <a:ext cx="2081880" cy="256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5" name=""/>
              <p:cNvGrpSpPr/>
              <p:nvPr/>
            </p:nvGrpSpPr>
            <p:grpSpPr>
              <a:xfrm>
                <a:off x="5004000" y="4505760"/>
                <a:ext cx="2076120" cy="256680"/>
                <a:chOff x="5004000" y="4505760"/>
                <a:chExt cx="2076120" cy="256680"/>
              </a:xfrm>
            </p:grpSpPr>
            <p:sp>
              <p:nvSpPr>
                <p:cNvPr id="156" name=""/>
                <p:cNvSpPr/>
                <p:nvPr/>
              </p:nvSpPr>
              <p:spPr>
                <a:xfrm>
                  <a:off x="5082480" y="4505760"/>
                  <a:ext cx="191844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r" pos="457200"/>
                      <a:tab algn="ctr" pos="2637000"/>
                      <a:tab algn="r" pos="527364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27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r" pos="457200"/>
                      <a:tab algn="ctr" pos="2637000"/>
                      <a:tab algn="r" pos="527364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5004000" y="4505760"/>
                  <a:ext cx="2076120" cy="256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8" name=""/>
              <p:cNvGrpSpPr/>
              <p:nvPr/>
            </p:nvGrpSpPr>
            <p:grpSpPr>
              <a:xfrm>
                <a:off x="2132640" y="4762440"/>
                <a:ext cx="788760" cy="256320"/>
                <a:chOff x="2132640" y="4762440"/>
                <a:chExt cx="788760" cy="25632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2211840" y="4762440"/>
                  <a:ext cx="630360" cy="256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r" pos="457200"/>
                      <a:tab algn="ctr" pos="2637000"/>
                      <a:tab algn="r" pos="527364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4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r" pos="457200"/>
                      <a:tab algn="ctr" pos="2637000"/>
                      <a:tab algn="r" pos="527364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2132640" y="4762440"/>
                  <a:ext cx="788760" cy="256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1" name=""/>
              <p:cNvGrpSpPr/>
              <p:nvPr/>
            </p:nvGrpSpPr>
            <p:grpSpPr>
              <a:xfrm>
                <a:off x="2921760" y="4762440"/>
                <a:ext cx="2081880" cy="256320"/>
                <a:chOff x="2921760" y="4762440"/>
                <a:chExt cx="2081880" cy="256320"/>
              </a:xfrm>
            </p:grpSpPr>
            <p:sp>
              <p:nvSpPr>
                <p:cNvPr id="162" name=""/>
                <p:cNvSpPr/>
                <p:nvPr/>
              </p:nvSpPr>
              <p:spPr>
                <a:xfrm>
                  <a:off x="3000240" y="4762440"/>
                  <a:ext cx="1923840" cy="256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r" pos="457200"/>
                      <a:tab algn="ctr" pos="2637000"/>
                      <a:tab algn="r" pos="527364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17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r" pos="457200"/>
                      <a:tab algn="ctr" pos="2637000"/>
                      <a:tab algn="r" pos="527364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2921760" y="4762440"/>
                  <a:ext cx="2081880" cy="256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4" name=""/>
              <p:cNvGrpSpPr/>
              <p:nvPr/>
            </p:nvGrpSpPr>
            <p:grpSpPr>
              <a:xfrm>
                <a:off x="5004000" y="4762440"/>
                <a:ext cx="2076120" cy="256320"/>
                <a:chOff x="5004000" y="4762440"/>
                <a:chExt cx="2076120" cy="256320"/>
              </a:xfrm>
            </p:grpSpPr>
            <p:sp>
              <p:nvSpPr>
                <p:cNvPr id="165" name=""/>
                <p:cNvSpPr/>
                <p:nvPr/>
              </p:nvSpPr>
              <p:spPr>
                <a:xfrm>
                  <a:off x="5082480" y="4762440"/>
                  <a:ext cx="1918440" cy="256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r" pos="457200"/>
                      <a:tab algn="ctr" pos="2637000"/>
                      <a:tab algn="r" pos="527364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34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r" pos="457200"/>
                      <a:tab algn="ctr" pos="2637000"/>
                      <a:tab algn="r" pos="527364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5004000" y="4762440"/>
                  <a:ext cx="2076120" cy="256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7" name=""/>
              <p:cNvGrpSpPr/>
              <p:nvPr/>
            </p:nvGrpSpPr>
            <p:grpSpPr>
              <a:xfrm>
                <a:off x="2132640" y="5019120"/>
                <a:ext cx="788760" cy="256680"/>
                <a:chOff x="2132640" y="5019120"/>
                <a:chExt cx="788760" cy="25668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2211840" y="5019120"/>
                  <a:ext cx="63036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r" pos="457200"/>
                      <a:tab algn="ctr" pos="2637000"/>
                      <a:tab algn="r" pos="527364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5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r" pos="457200"/>
                      <a:tab algn="ctr" pos="2637000"/>
                      <a:tab algn="r" pos="527364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2132640" y="5019120"/>
                  <a:ext cx="788760" cy="256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0" name=""/>
              <p:cNvGrpSpPr/>
              <p:nvPr/>
            </p:nvGrpSpPr>
            <p:grpSpPr>
              <a:xfrm>
                <a:off x="2921760" y="5019120"/>
                <a:ext cx="2081880" cy="256680"/>
                <a:chOff x="2921760" y="5019120"/>
                <a:chExt cx="2081880" cy="256680"/>
              </a:xfrm>
            </p:grpSpPr>
            <p:sp>
              <p:nvSpPr>
                <p:cNvPr id="171" name=""/>
                <p:cNvSpPr/>
                <p:nvPr/>
              </p:nvSpPr>
              <p:spPr>
                <a:xfrm>
                  <a:off x="3000240" y="5019120"/>
                  <a:ext cx="192384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r" pos="457200"/>
                      <a:tab algn="ctr" pos="2637000"/>
                      <a:tab algn="r" pos="527364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2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r" pos="457200"/>
                      <a:tab algn="ctr" pos="2637000"/>
                      <a:tab algn="r" pos="527364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2921760" y="5019120"/>
                  <a:ext cx="2081880" cy="256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3" name=""/>
              <p:cNvGrpSpPr/>
              <p:nvPr/>
            </p:nvGrpSpPr>
            <p:grpSpPr>
              <a:xfrm>
                <a:off x="5004000" y="5019120"/>
                <a:ext cx="2076120" cy="256680"/>
                <a:chOff x="5004000" y="5019120"/>
                <a:chExt cx="2076120" cy="256680"/>
              </a:xfrm>
            </p:grpSpPr>
            <p:sp>
              <p:nvSpPr>
                <p:cNvPr id="174" name=""/>
                <p:cNvSpPr/>
                <p:nvPr/>
              </p:nvSpPr>
              <p:spPr>
                <a:xfrm>
                  <a:off x="5082480" y="5019120"/>
                  <a:ext cx="191844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r" pos="457200"/>
                      <a:tab algn="ctr" pos="2637000"/>
                      <a:tab algn="r" pos="527364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38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r" pos="457200"/>
                      <a:tab algn="ctr" pos="2637000"/>
                      <a:tab algn="r" pos="527364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5004000" y="5019120"/>
                  <a:ext cx="2076120" cy="256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6" name=""/>
              <p:cNvGrpSpPr/>
              <p:nvPr/>
            </p:nvGrpSpPr>
            <p:grpSpPr>
              <a:xfrm>
                <a:off x="2132640" y="5275800"/>
                <a:ext cx="788760" cy="256320"/>
                <a:chOff x="2132640" y="5275800"/>
                <a:chExt cx="788760" cy="256320"/>
              </a:xfrm>
            </p:grpSpPr>
            <p:sp>
              <p:nvSpPr>
                <p:cNvPr id="177" name=""/>
                <p:cNvSpPr/>
                <p:nvPr/>
              </p:nvSpPr>
              <p:spPr>
                <a:xfrm>
                  <a:off x="2211840" y="5275800"/>
                  <a:ext cx="630360" cy="256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r" pos="457200"/>
                      <a:tab algn="ctr" pos="2637000"/>
                      <a:tab algn="r" pos="527364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6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r" pos="457200"/>
                      <a:tab algn="ctr" pos="2637000"/>
                      <a:tab algn="r" pos="527364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2132640" y="5275800"/>
                  <a:ext cx="788760" cy="256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9" name=""/>
              <p:cNvGrpSpPr/>
              <p:nvPr/>
            </p:nvGrpSpPr>
            <p:grpSpPr>
              <a:xfrm>
                <a:off x="2921760" y="5275800"/>
                <a:ext cx="2081880" cy="256320"/>
                <a:chOff x="2921760" y="5275800"/>
                <a:chExt cx="2081880" cy="256320"/>
              </a:xfrm>
            </p:grpSpPr>
            <p:sp>
              <p:nvSpPr>
                <p:cNvPr id="180" name=""/>
                <p:cNvSpPr/>
                <p:nvPr/>
              </p:nvSpPr>
              <p:spPr>
                <a:xfrm>
                  <a:off x="3000240" y="5275800"/>
                  <a:ext cx="1923840" cy="256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r" pos="457200"/>
                      <a:tab algn="ctr" pos="2637000"/>
                      <a:tab algn="r" pos="527364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28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r" pos="457200"/>
                      <a:tab algn="ctr" pos="2637000"/>
                      <a:tab algn="r" pos="527364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2921760" y="5275800"/>
                  <a:ext cx="2081880" cy="256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2" name=""/>
              <p:cNvGrpSpPr/>
              <p:nvPr/>
            </p:nvGrpSpPr>
            <p:grpSpPr>
              <a:xfrm>
                <a:off x="5004000" y="5275800"/>
                <a:ext cx="2076120" cy="256320"/>
                <a:chOff x="5004000" y="5275800"/>
                <a:chExt cx="2076120" cy="25632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5082480" y="5275800"/>
                  <a:ext cx="1918440" cy="256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r" pos="457200"/>
                      <a:tab algn="ctr" pos="2637000"/>
                      <a:tab algn="r" pos="527364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4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r" pos="457200"/>
                      <a:tab algn="ctr" pos="2637000"/>
                      <a:tab algn="r" pos="527364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5004000" y="5275800"/>
                  <a:ext cx="2076120" cy="256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132640" y="5532480"/>
                <a:ext cx="788760" cy="256320"/>
                <a:chOff x="2132640" y="5532480"/>
                <a:chExt cx="788760" cy="25632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211840" y="5532480"/>
                  <a:ext cx="630360" cy="256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r" pos="457200"/>
                      <a:tab algn="ctr" pos="2637000"/>
                      <a:tab algn="r" pos="527364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7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r" pos="457200"/>
                      <a:tab algn="ctr" pos="2637000"/>
                      <a:tab algn="r" pos="527364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2132640" y="5532480"/>
                  <a:ext cx="788760" cy="256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8" name=""/>
              <p:cNvGrpSpPr/>
              <p:nvPr/>
            </p:nvGrpSpPr>
            <p:grpSpPr>
              <a:xfrm>
                <a:off x="2921760" y="5532480"/>
                <a:ext cx="2081880" cy="256320"/>
                <a:chOff x="2921760" y="5532480"/>
                <a:chExt cx="2081880" cy="25632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3000240" y="5532480"/>
                  <a:ext cx="1923840" cy="256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r" pos="457200"/>
                      <a:tab algn="ctr" pos="2637000"/>
                      <a:tab algn="r" pos="527364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35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r" pos="457200"/>
                      <a:tab algn="ctr" pos="2637000"/>
                      <a:tab algn="r" pos="527364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921760" y="5532480"/>
                  <a:ext cx="2081880" cy="256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1" name=""/>
              <p:cNvGrpSpPr/>
              <p:nvPr/>
            </p:nvGrpSpPr>
            <p:grpSpPr>
              <a:xfrm>
                <a:off x="5004000" y="5532480"/>
                <a:ext cx="2076120" cy="256320"/>
                <a:chOff x="5004000" y="5532480"/>
                <a:chExt cx="2076120" cy="256320"/>
              </a:xfrm>
            </p:grpSpPr>
            <p:sp>
              <p:nvSpPr>
                <p:cNvPr id="192" name=""/>
                <p:cNvSpPr/>
                <p:nvPr/>
              </p:nvSpPr>
              <p:spPr>
                <a:xfrm>
                  <a:off x="5082480" y="5532480"/>
                  <a:ext cx="1918440" cy="256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r" pos="457200"/>
                      <a:tab algn="ctr" pos="2637000"/>
                      <a:tab algn="r" pos="527364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45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r" pos="457200"/>
                      <a:tab algn="ctr" pos="2637000"/>
                      <a:tab algn="r" pos="527364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5004000" y="5532480"/>
                  <a:ext cx="2076120" cy="256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94" name=""/>
            <p:cNvSpPr/>
            <p:nvPr/>
          </p:nvSpPr>
          <p:spPr>
            <a:xfrm>
              <a:off x="2127240" y="3733920"/>
              <a:ext cx="4959000" cy="205740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33520" y="685800"/>
            <a:ext cx="80769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99"/>
                </a:solidFill>
                <a:latin typeface="Times New Roman"/>
              </a:rPr>
              <a:t>Time-aligning Series (2)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77880" y="1739880"/>
            <a:ext cx="77882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If we choose Year 1, then we need to change the 120 for Price to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We can do this by dividing by 120 (the value in the chosen base year) and multiplying by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We then divide each of the other Price index numbers by 120 and multiply be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N.B.</a:t>
            </a: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i="1" lang="en-GB" sz="2400" spc="-1" strike="noStrike">
                <a:solidFill>
                  <a:srgbClr val="000099"/>
                </a:solidFill>
                <a:latin typeface="Times New Roman"/>
              </a:rPr>
              <a:t>We use multiplication/division since the figures are relative to the base y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The simplest way to do the sums is on a spreadshe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80769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99"/>
                </a:solidFill>
                <a:latin typeface="Times New Roman"/>
              </a:rPr>
              <a:t>Time-aligning Series (3)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1876320" y="1752480"/>
          <a:ext cx="5362560" cy="401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76320" y="1752480"/>
                    <a:ext cx="5362560" cy="401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80769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99"/>
                </a:solidFill>
                <a:latin typeface="Times New Roman"/>
              </a:rPr>
              <a:t>Comparisons of Groups of Figures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914400" y="1600200"/>
            <a:ext cx="7543800" cy="36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Rarely do we consider just one set of figures, say the price of a single i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However, when we combine various items, we must make allowances for the fact that some will be more important than oth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We often use the quantities purchased to weight the prices in calculating an index num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Other systems, of course, can be devised to weight items in an index se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9T10:31:40Z</dcterms:created>
  <dc:creator>dwnusr38</dc:creator>
  <dc:description/>
  <dc:language>en-US</dc:language>
  <cp:lastModifiedBy>Administrator</cp:lastModifiedBy>
  <dcterms:modified xsi:type="dcterms:W3CDTF">2007-12-07T16:10:55Z</dcterms:modified>
  <cp:revision>56</cp:revision>
  <dc:subject/>
  <dc:title>Basic Sums</dc:title>
</cp:coreProperties>
</file>