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070760" y="65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311880"/>
            <a:ext cx="91440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   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Jon Curwin and Roger Slater,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QUANTITATIVE METHODS: A SHORT COURSE   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ISBN 1-86152-991-0    © Thomson Learning 2004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1447920" cy="41904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0" y="6165720"/>
            <a:ext cx="9144000" cy="884520"/>
            <a:chOff x="0" y="6165720"/>
            <a:chExt cx="9144000" cy="884520"/>
          </a:xfrm>
        </p:grpSpPr>
        <p:sp>
          <p:nvSpPr>
            <p:cNvPr id="6" name=""/>
            <p:cNvSpPr/>
            <p:nvPr/>
          </p:nvSpPr>
          <p:spPr>
            <a:xfrm>
              <a:off x="0" y="6311880"/>
              <a:ext cx="91440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br>
                <a:rPr sz="1000"/>
              </a:b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Jon Curwin and Roger Slater,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QUANTITATIVE METHODS: A SHORT COURSE    </a:t>
              </a:r>
              <a:br>
                <a:rPr sz="1000"/>
              </a:b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ISBN 1-86152-991-0    © Cengage 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165720"/>
              <a:ext cx="2343240" cy="884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Chapter 10: Comparing</a:t>
            </a:r>
            <a:br>
              <a:rPr sz="4000"/>
            </a:b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 Monetary Returns </a:t>
            </a:r>
            <a:br>
              <a:rPr sz="4000"/>
            </a:b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Over Tim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hoosing between Opportuniti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74880" y="1828800"/>
            <a:ext cx="710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You are offered a choice between two de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e first gives you £700 in 4 years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e second gives £850 in 6 years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he rate of interest is set at 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120" y="369252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Option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800" y="498780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Option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514600" y="3463920"/>
                <a:ext cx="17524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0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8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4557240" y="3733920"/>
            <a:ext cx="195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= 700 * 0.73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= £514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438280" y="4835520"/>
                <a:ext cx="19051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50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8</m:t>
                                </m:r>
                              </m:e>
                            </m:d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4573080" y="5064120"/>
            <a:ext cx="195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=850 * 0.63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=£535.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22440" y="57499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d60093"/>
                </a:solidFill>
                <a:latin typeface="Times New Roman"/>
              </a:rPr>
              <a:t>CHO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Investment Appraisal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200" y="1523880"/>
            <a:ext cx="761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usinesses often have several competing uses for their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y need to find a way of objectively comparing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is needs to take account of the time value of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60093"/>
                </a:solidFill>
                <a:latin typeface="Times New Roman"/>
              </a:rPr>
              <a:t>Net Present Valu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calculations meet these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8280" y="35812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2320" y="3581280"/>
            <a:ext cx="67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For each project or use of funds we need to deter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16520" y="4114800"/>
            <a:ext cx="551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nitial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ncome in each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Costs in each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n interest rate to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 projected life of the project or as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124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Example - 1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295280"/>
            <a:ext cx="800100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 company needs to invest in new manufacturing capacity and can buy either 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two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Xenion Producers at £50,000 each or one Yeoming Producer at £12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 Xenion Producer will need to be upgraded in 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year two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at a cost of £20,000 per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re are 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no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expected future costs with the Yeoming Producer during its life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ll Producers are expected to last for 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6 years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and have zero scrap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Expected revenues are given  in th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 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8% interest rate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i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327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Example - 2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62120" y="1905120"/>
          <a:ext cx="2666880" cy="4114800"/>
        </p:xfrm>
        <a:graphic>
          <a:graphicData uri="http://schemas.openxmlformats.org/drawingml/2006/table">
            <a:tbl>
              <a:tblPr/>
              <a:tblGrid>
                <a:gridCol w="552240"/>
                <a:gridCol w="971640"/>
                <a:gridCol w="1143000"/>
              </a:tblGrid>
              <a:tr h="51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Y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4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4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687600" y="137160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Expected Reven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30800" y="137160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Expected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429000" y="1905120"/>
          <a:ext cx="2209680" cy="4114440"/>
        </p:xfrm>
        <a:graphic>
          <a:graphicData uri="http://schemas.openxmlformats.org/drawingml/2006/table">
            <a:tbl>
              <a:tblPr/>
              <a:tblGrid>
                <a:gridCol w="1066680"/>
                <a:gridCol w="1143000"/>
              </a:tblGrid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-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-12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-4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6402600" y="137160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Net Reven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38680" y="1905120"/>
          <a:ext cx="3048120" cy="41144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-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-12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-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4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4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5778720" y="52380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60093"/>
                </a:solidFill>
                <a:latin typeface="Times New Roman"/>
              </a:rPr>
              <a:t>R -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990720"/>
            <a:ext cx="0" cy="144756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Tables 2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2" name="exce2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189920" cy="1581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55760" y="4384800"/>
            <a:ext cx="428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o help answer this problem we need six years of present value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2133720"/>
            <a:ext cx="76212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486400" y="3352320"/>
            <a:ext cx="1676520" cy="1600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Example - 3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62120" y="1371600"/>
          <a:ext cx="2590560" cy="403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71600"/>
                    <a:ext cx="259056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352680" y="1371600"/>
          <a:ext cx="1295640" cy="4038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1371600"/>
                    <a:ext cx="12956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648320" y="1371600"/>
          <a:ext cx="3047760" cy="4038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1371600"/>
                    <a:ext cx="304776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5869800" y="556272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d60093"/>
                </a:solidFill>
                <a:latin typeface="Times New Roman"/>
              </a:rPr>
              <a:t>CH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086600" y="5257440"/>
            <a:ext cx="0" cy="304920"/>
          </a:xfrm>
          <a:prstGeom prst="line">
            <a:avLst/>
          </a:prstGeom>
          <a:ln w="2844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3440" y="495288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-£9,418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74000" y="502920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£14,124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3808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Net Revenue times Present Valu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5120" y="685800"/>
            <a:ext cx="2666880" cy="198108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343040" y="1143000"/>
            <a:ext cx="609480" cy="137160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1143000"/>
            <a:ext cx="0" cy="144792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5613480"/>
            <a:ext cx="33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Total Net Prese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971800" y="5257800"/>
            <a:ext cx="1523880" cy="38088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Choosing r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8840" y="1473120"/>
            <a:ext cx="675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No-one publishes a specific value of r to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There are a range of alterna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96120" y="2590920"/>
            <a:ext cx="6348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>
              <a:lnSpc>
                <a:spcPct val="12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 rate of 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 rate used in the 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 rate of return on capital (from the accou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 rate available on the stock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 rate currently paid on the bond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 rate to reflect the riskiness of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Ranges of Benefit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752480"/>
            <a:ext cx="779616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e already know that the future is uncer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ut the future expected income may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ossibly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be labe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y the likelihood of it happ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nd then we could assign probabilities to the sets of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The next example considers this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3048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Ranges 2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990720"/>
            <a:ext cx="7315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A company is assessing a project and has 3 sets of projections of contribution. These are shown in the table below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371600" y="1905120"/>
            <a:ext cx="6171840" cy="3352680"/>
            <a:chOff x="1371600" y="1905120"/>
            <a:chExt cx="6171840" cy="3352680"/>
          </a:xfrm>
        </p:grpSpPr>
        <p:grpSp>
          <p:nvGrpSpPr>
            <p:cNvPr id="141" name=""/>
            <p:cNvGrpSpPr/>
            <p:nvPr/>
          </p:nvGrpSpPr>
          <p:grpSpPr>
            <a:xfrm>
              <a:off x="1378440" y="1907640"/>
              <a:ext cx="6156360" cy="3346560"/>
              <a:chOff x="1378440" y="1907640"/>
              <a:chExt cx="6156360" cy="334656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1378440" y="1907640"/>
                <a:ext cx="2212560" cy="464040"/>
                <a:chOff x="1378440" y="1907640"/>
                <a:chExt cx="2212560" cy="4640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1378440" y="1907640"/>
                  <a:ext cx="2212560" cy="46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Yea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378440" y="1907640"/>
                  <a:ext cx="2212560" cy="46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3591360" y="1907640"/>
                <a:ext cx="1167480" cy="464040"/>
                <a:chOff x="3591360" y="1907640"/>
                <a:chExt cx="1167480" cy="4640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591360" y="1907640"/>
                  <a:ext cx="1167480" cy="46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essimisti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591360" y="1907640"/>
                  <a:ext cx="1167480" cy="46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759200" y="1907640"/>
                <a:ext cx="1788840" cy="464040"/>
                <a:chOff x="4759200" y="1907640"/>
                <a:chExt cx="1788840" cy="4640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759200" y="1907640"/>
                  <a:ext cx="1788840" cy="46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ener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759200" y="1907640"/>
                  <a:ext cx="1788840" cy="46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6548760" y="1907640"/>
                <a:ext cx="986040" cy="464040"/>
                <a:chOff x="6548760" y="1907640"/>
                <a:chExt cx="986040" cy="4640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6548760" y="1907640"/>
                  <a:ext cx="986040" cy="46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timisti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548760" y="1907640"/>
                  <a:ext cx="986040" cy="46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378440" y="2371680"/>
                <a:ext cx="2212560" cy="464040"/>
                <a:chOff x="1378440" y="2371680"/>
                <a:chExt cx="2212560" cy="464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1378440" y="2371680"/>
                  <a:ext cx="2212560" cy="46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s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378440" y="2371680"/>
                  <a:ext cx="2212560" cy="46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3591360" y="2371680"/>
                <a:ext cx="1167480" cy="464040"/>
                <a:chOff x="3591360" y="2371680"/>
                <a:chExt cx="1167480" cy="46404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3591360" y="2371680"/>
                  <a:ext cx="1167480" cy="46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£1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591360" y="2371680"/>
                  <a:ext cx="1167480" cy="46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4759200" y="2371680"/>
                <a:ext cx="1788840" cy="464040"/>
                <a:chOff x="4759200" y="2371680"/>
                <a:chExt cx="1788840" cy="46404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4759200" y="2371680"/>
                  <a:ext cx="1788840" cy="46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£1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759200" y="2371680"/>
                  <a:ext cx="1788840" cy="46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6548760" y="2371680"/>
                <a:ext cx="986040" cy="464040"/>
                <a:chOff x="6548760" y="2371680"/>
                <a:chExt cx="986040" cy="4640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6548760" y="2371680"/>
                  <a:ext cx="986040" cy="46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£1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548760" y="2371680"/>
                  <a:ext cx="986040" cy="46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1378440" y="2836080"/>
                <a:ext cx="2212560" cy="483480"/>
                <a:chOff x="1378440" y="2836080"/>
                <a:chExt cx="2212560" cy="4834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1378440" y="2836080"/>
                  <a:ext cx="2212560" cy="48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xpected Contribution, Year 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378440" y="2836080"/>
                  <a:ext cx="2212560" cy="48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591360" y="2836080"/>
                <a:ext cx="1167480" cy="483480"/>
                <a:chOff x="3591360" y="2836080"/>
                <a:chExt cx="1167480" cy="483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591360" y="2836080"/>
                  <a:ext cx="1167480" cy="48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£1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591360" y="2836080"/>
                  <a:ext cx="1167480" cy="48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759200" y="2836080"/>
                <a:ext cx="1788840" cy="483480"/>
                <a:chOff x="4759200" y="2836080"/>
                <a:chExt cx="1788840" cy="4834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759200" y="2836080"/>
                  <a:ext cx="1788840" cy="48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£12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759200" y="2836080"/>
                  <a:ext cx="1788840" cy="48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548760" y="2836080"/>
                <a:ext cx="986040" cy="483480"/>
                <a:chOff x="6548760" y="2836080"/>
                <a:chExt cx="986040" cy="4834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548760" y="2836080"/>
                  <a:ext cx="986040" cy="48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£2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548760" y="2836080"/>
                  <a:ext cx="986040" cy="48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1378440" y="3319560"/>
                <a:ext cx="2212560" cy="483480"/>
                <a:chOff x="1378440" y="3319560"/>
                <a:chExt cx="2212560" cy="4834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378440" y="3319560"/>
                  <a:ext cx="2212560" cy="48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xpected Contribution, Year 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378440" y="3319560"/>
                  <a:ext cx="2212560" cy="48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3591360" y="3319560"/>
                <a:ext cx="1167480" cy="483480"/>
                <a:chOff x="3591360" y="3319560"/>
                <a:chExt cx="1167480" cy="4834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591360" y="3319560"/>
                  <a:ext cx="1167480" cy="48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£2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91360" y="3319560"/>
                  <a:ext cx="1167480" cy="48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4759200" y="3319560"/>
                <a:ext cx="1788840" cy="483480"/>
                <a:chOff x="4759200" y="3319560"/>
                <a:chExt cx="1788840" cy="4834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759200" y="3319560"/>
                  <a:ext cx="1788840" cy="48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£25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59200" y="3319560"/>
                  <a:ext cx="1788840" cy="48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6548760" y="3319560"/>
                <a:ext cx="986040" cy="483480"/>
                <a:chOff x="6548760" y="3319560"/>
                <a:chExt cx="986040" cy="4834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6548760" y="3319560"/>
                  <a:ext cx="986040" cy="48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£4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548760" y="3319560"/>
                  <a:ext cx="986040" cy="48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1378440" y="3803400"/>
                <a:ext cx="2212560" cy="483480"/>
                <a:chOff x="1378440" y="3803400"/>
                <a:chExt cx="2212560" cy="4834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1378440" y="3803400"/>
                  <a:ext cx="2212560" cy="48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xpected Contribution, Year 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378440" y="3803400"/>
                  <a:ext cx="2212560" cy="48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3591360" y="3803400"/>
                <a:ext cx="1167480" cy="483480"/>
                <a:chOff x="3591360" y="3803400"/>
                <a:chExt cx="1167480" cy="4834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3591360" y="3803400"/>
                  <a:ext cx="1167480" cy="48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£4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591360" y="3803400"/>
                  <a:ext cx="1167480" cy="48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4759200" y="3803400"/>
                <a:ext cx="1788840" cy="483480"/>
                <a:chOff x="4759200" y="3803400"/>
                <a:chExt cx="1788840" cy="4834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4759200" y="3803400"/>
                  <a:ext cx="1788840" cy="48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£5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759200" y="3803400"/>
                  <a:ext cx="1788840" cy="48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6548760" y="3803400"/>
                <a:ext cx="986040" cy="483480"/>
                <a:chOff x="6548760" y="3803400"/>
                <a:chExt cx="986040" cy="4834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6548760" y="3803400"/>
                  <a:ext cx="986040" cy="48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£7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548760" y="3803400"/>
                  <a:ext cx="986040" cy="48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1378440" y="4287240"/>
                <a:ext cx="2212560" cy="483480"/>
                <a:chOff x="1378440" y="4287240"/>
                <a:chExt cx="2212560" cy="4834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378440" y="4287240"/>
                  <a:ext cx="2212560" cy="48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xpected Contribution, Year 4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378440" y="4287240"/>
                  <a:ext cx="2212560" cy="48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591360" y="4287240"/>
                <a:ext cx="1167480" cy="483480"/>
                <a:chOff x="3591360" y="4287240"/>
                <a:chExt cx="1167480" cy="4834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591360" y="4287240"/>
                  <a:ext cx="1167480" cy="48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£25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591360" y="4287240"/>
                  <a:ext cx="1167480" cy="48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4759200" y="4287240"/>
                <a:ext cx="1788840" cy="483480"/>
                <a:chOff x="4759200" y="4287240"/>
                <a:chExt cx="1788840" cy="4834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759200" y="4287240"/>
                  <a:ext cx="1788840" cy="48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£4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759200" y="4287240"/>
                  <a:ext cx="1788840" cy="48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548760" y="4287240"/>
                <a:ext cx="986040" cy="483480"/>
                <a:chOff x="6548760" y="4287240"/>
                <a:chExt cx="986040" cy="4834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548760" y="4287240"/>
                  <a:ext cx="986040" cy="48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£6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548760" y="4287240"/>
                  <a:ext cx="986040" cy="48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1378440" y="4770720"/>
                <a:ext cx="2212560" cy="483480"/>
                <a:chOff x="1378440" y="4770720"/>
                <a:chExt cx="2212560" cy="4834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1378440" y="4770720"/>
                  <a:ext cx="2212560" cy="48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xpected Contribution, Year 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378440" y="4770720"/>
                  <a:ext cx="2212560" cy="48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3591360" y="4770720"/>
                <a:ext cx="1167480" cy="483480"/>
                <a:chOff x="3591360" y="4770720"/>
                <a:chExt cx="1167480" cy="4834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3591360" y="4770720"/>
                  <a:ext cx="1167480" cy="48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£1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591360" y="4770720"/>
                  <a:ext cx="1167480" cy="48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4759200" y="4770720"/>
                <a:ext cx="1788840" cy="483480"/>
                <a:chOff x="4759200" y="4770720"/>
                <a:chExt cx="1788840" cy="4834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759200" y="4770720"/>
                  <a:ext cx="1788840" cy="48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£2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759200" y="4770720"/>
                  <a:ext cx="1788840" cy="48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6548760" y="4770720"/>
                <a:ext cx="986040" cy="483480"/>
                <a:chOff x="6548760" y="4770720"/>
                <a:chExt cx="986040" cy="483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6548760" y="4770720"/>
                  <a:ext cx="986040" cy="48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£3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548760" y="4770720"/>
                  <a:ext cx="986040" cy="48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6" name=""/>
            <p:cNvSpPr/>
            <p:nvPr/>
          </p:nvSpPr>
          <p:spPr>
            <a:xfrm>
              <a:off x="1371600" y="1905120"/>
              <a:ext cx="6171840" cy="33526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5800" y="5410080"/>
            <a:ext cx="7924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The company uses a discount rate of 12% and you have determined the probabilities of the three scenarios as 0.2, 0.7 and 0.1 respectively.</a:t>
            </a:r>
            <a:r>
              <a:rPr b="0" lang="en-GB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Ranges 3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219320" y="1981080"/>
            <a:ext cx="6400800" cy="3962520"/>
            <a:chOff x="1219320" y="1981080"/>
            <a:chExt cx="6400800" cy="3962520"/>
          </a:xfrm>
        </p:grpSpPr>
        <p:sp>
          <p:nvSpPr>
            <p:cNvPr id="230" name=""/>
            <p:cNvSpPr/>
            <p:nvPr/>
          </p:nvSpPr>
          <p:spPr>
            <a:xfrm>
              <a:off x="1219320" y="1981080"/>
              <a:ext cx="148608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05400" y="1981080"/>
              <a:ext cx="79992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05320" y="1981080"/>
              <a:ext cx="57168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77000" y="1981080"/>
              <a:ext cx="79992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76920" y="1981080"/>
              <a:ext cx="68580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62720" y="1981080"/>
              <a:ext cx="68580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48520" y="1981080"/>
              <a:ext cx="68580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34320" y="1981080"/>
              <a:ext cx="68580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05400" y="2711880"/>
              <a:ext cx="799920" cy="4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1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05320" y="2711880"/>
              <a:ext cx="571680" cy="4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1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77000" y="2711880"/>
              <a:ext cx="799920" cy="4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1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76920" y="2711880"/>
              <a:ext cx="685800" cy="4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62720" y="2711880"/>
              <a:ext cx="685800" cy="4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£1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48520" y="2711880"/>
              <a:ext cx="685800" cy="4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£1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934320" y="2711880"/>
              <a:ext cx="685800" cy="4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£1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05400" y="3193560"/>
              <a:ext cx="7999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05320" y="3193560"/>
              <a:ext cx="5716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1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77000" y="3193560"/>
              <a:ext cx="7999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2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76920" y="3193560"/>
              <a:ext cx="685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89285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3193560"/>
              <a:ext cx="685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8,9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8520" y="3193560"/>
              <a:ext cx="685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10,7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34320" y="3193560"/>
              <a:ext cx="685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17,85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05400" y="3611880"/>
              <a:ext cx="7999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2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05320" y="3611880"/>
              <a:ext cx="5716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25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77000" y="3611880"/>
              <a:ext cx="7999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4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6920" y="3611880"/>
              <a:ext cx="685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79719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62720" y="3611880"/>
              <a:ext cx="685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15,94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48520" y="3611880"/>
              <a:ext cx="685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19,9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34320" y="3611880"/>
              <a:ext cx="685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31,88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05400" y="4030200"/>
              <a:ext cx="7999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4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05320" y="4030200"/>
              <a:ext cx="5716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77000" y="4030200"/>
              <a:ext cx="7999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7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76920" y="4030200"/>
              <a:ext cx="685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7117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2720" y="4030200"/>
              <a:ext cx="685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28,47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48520" y="4030200"/>
              <a:ext cx="685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35,58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934320" y="4030200"/>
              <a:ext cx="685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49,8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05400" y="4448160"/>
              <a:ext cx="7999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25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05320" y="4448160"/>
              <a:ext cx="5716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4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77000" y="4448160"/>
              <a:ext cx="7999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6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76920" y="4448160"/>
              <a:ext cx="685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355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62720" y="4448160"/>
              <a:ext cx="685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15,88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48520" y="4448160"/>
              <a:ext cx="685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25,4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34320" y="4448160"/>
              <a:ext cx="685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38,13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05400" y="4866480"/>
              <a:ext cx="7999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4866480"/>
              <a:ext cx="5716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2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77000" y="4866480"/>
              <a:ext cx="7999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3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76920" y="4866480"/>
              <a:ext cx="685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56742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19320" y="5284440"/>
              <a:ext cx="148608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05400" y="5284440"/>
              <a:ext cx="79992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05320" y="5284440"/>
              <a:ext cx="57168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77000" y="5284440"/>
              <a:ext cx="79992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76920" y="5284440"/>
              <a:ext cx="68580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562720" y="5284440"/>
              <a:ext cx="68580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48520" y="5284440"/>
              <a:ext cx="68580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34320" y="5284440"/>
              <a:ext cx="68580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19320" y="5614200"/>
              <a:ext cx="148608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05400" y="5614200"/>
              <a:ext cx="79992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505320" y="5614200"/>
              <a:ext cx="57168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77000" y="5614200"/>
              <a:ext cx="79992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76920" y="5614200"/>
              <a:ext cx="68580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P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62720" y="5614200"/>
              <a:ext cx="68580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£25,09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48520" y="5614200"/>
              <a:ext cx="68580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3,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934320" y="5614200"/>
              <a:ext cx="68580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54,7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1219320" y="2310480"/>
              <a:ext cx="1486080" cy="401400"/>
              <a:chOff x="1219320" y="2310480"/>
              <a:chExt cx="1486080" cy="401400"/>
            </a:xfrm>
          </p:grpSpPr>
          <p:sp>
            <p:nvSpPr>
              <p:cNvPr id="294" name=""/>
              <p:cNvSpPr/>
              <p:nvPr/>
            </p:nvSpPr>
            <p:spPr>
              <a:xfrm>
                <a:off x="1219320" y="2310480"/>
                <a:ext cx="148608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a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219320" y="2310480"/>
                <a:ext cx="1486080" cy="401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2705400" y="2310480"/>
              <a:ext cx="799920" cy="401400"/>
              <a:chOff x="2705400" y="2310480"/>
              <a:chExt cx="799920" cy="401400"/>
            </a:xfrm>
          </p:grpSpPr>
          <p:sp>
            <p:nvSpPr>
              <p:cNvPr id="297" name=""/>
              <p:cNvSpPr/>
              <p:nvPr/>
            </p:nvSpPr>
            <p:spPr>
              <a:xfrm>
                <a:off x="2705400" y="2310480"/>
                <a:ext cx="79992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ssimisti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705400" y="2310480"/>
                <a:ext cx="799920" cy="401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3505320" y="2310480"/>
              <a:ext cx="571680" cy="401400"/>
              <a:chOff x="3505320" y="2310480"/>
              <a:chExt cx="571680" cy="401400"/>
            </a:xfrm>
          </p:grpSpPr>
          <p:sp>
            <p:nvSpPr>
              <p:cNvPr id="300" name=""/>
              <p:cNvSpPr/>
              <p:nvPr/>
            </p:nvSpPr>
            <p:spPr>
              <a:xfrm>
                <a:off x="3505320" y="2310480"/>
                <a:ext cx="57168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ener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505320" y="2310480"/>
                <a:ext cx="571680" cy="401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4077000" y="2310480"/>
              <a:ext cx="799920" cy="401400"/>
              <a:chOff x="4077000" y="2310480"/>
              <a:chExt cx="799920" cy="401400"/>
            </a:xfrm>
          </p:grpSpPr>
          <p:sp>
            <p:nvSpPr>
              <p:cNvPr id="303" name=""/>
              <p:cNvSpPr/>
              <p:nvPr/>
            </p:nvSpPr>
            <p:spPr>
              <a:xfrm>
                <a:off x="4077000" y="2310480"/>
                <a:ext cx="79992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ptimisti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077000" y="2310480"/>
                <a:ext cx="799920" cy="401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876920" y="2310480"/>
              <a:ext cx="685800" cy="401400"/>
              <a:chOff x="4876920" y="2310480"/>
              <a:chExt cx="685800" cy="401400"/>
            </a:xfrm>
          </p:grpSpPr>
          <p:sp>
            <p:nvSpPr>
              <p:cNvPr id="306" name=""/>
              <p:cNvSpPr/>
              <p:nvPr/>
            </p:nvSpPr>
            <p:spPr>
              <a:xfrm>
                <a:off x="4876920" y="2310480"/>
                <a:ext cx="6858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876920" y="2310480"/>
                <a:ext cx="685800" cy="401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5562720" y="2310480"/>
              <a:ext cx="685800" cy="401400"/>
              <a:chOff x="5562720" y="2310480"/>
              <a:chExt cx="685800" cy="401400"/>
            </a:xfrm>
          </p:grpSpPr>
          <p:sp>
            <p:nvSpPr>
              <p:cNvPr id="309" name=""/>
              <p:cNvSpPr/>
              <p:nvPr/>
            </p:nvSpPr>
            <p:spPr>
              <a:xfrm>
                <a:off x="5562720" y="2310480"/>
                <a:ext cx="6858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V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562720" y="2310480"/>
                <a:ext cx="685800" cy="401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6248520" y="2310480"/>
              <a:ext cx="685800" cy="401400"/>
              <a:chOff x="6248520" y="2310480"/>
              <a:chExt cx="685800" cy="401400"/>
            </a:xfrm>
          </p:grpSpPr>
          <p:sp>
            <p:nvSpPr>
              <p:cNvPr id="312" name=""/>
              <p:cNvSpPr/>
              <p:nvPr/>
            </p:nvSpPr>
            <p:spPr>
              <a:xfrm>
                <a:off x="6248520" y="2310480"/>
                <a:ext cx="6858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V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248520" y="2310480"/>
                <a:ext cx="685800" cy="401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6934320" y="2310480"/>
              <a:ext cx="685800" cy="401400"/>
              <a:chOff x="6934320" y="2310480"/>
              <a:chExt cx="685800" cy="401400"/>
            </a:xfrm>
          </p:grpSpPr>
          <p:sp>
            <p:nvSpPr>
              <p:cNvPr id="315" name=""/>
              <p:cNvSpPr/>
              <p:nvPr/>
            </p:nvSpPr>
            <p:spPr>
              <a:xfrm>
                <a:off x="6934320" y="2310480"/>
                <a:ext cx="6858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V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934320" y="2310480"/>
                <a:ext cx="685800" cy="401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1219320" y="2711880"/>
              <a:ext cx="1486080" cy="481680"/>
              <a:chOff x="1219320" y="2711880"/>
              <a:chExt cx="1486080" cy="481680"/>
            </a:xfrm>
          </p:grpSpPr>
          <p:sp>
            <p:nvSpPr>
              <p:cNvPr id="318" name=""/>
              <p:cNvSpPr/>
              <p:nvPr/>
            </p:nvSpPr>
            <p:spPr>
              <a:xfrm>
                <a:off x="1219320" y="2711880"/>
                <a:ext cx="148608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s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219320" y="2711880"/>
                <a:ext cx="1486080" cy="481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1219320" y="3193560"/>
              <a:ext cx="1486080" cy="417960"/>
              <a:chOff x="1219320" y="3193560"/>
              <a:chExt cx="1486080" cy="417960"/>
            </a:xfrm>
          </p:grpSpPr>
          <p:sp>
            <p:nvSpPr>
              <p:cNvPr id="321" name=""/>
              <p:cNvSpPr/>
              <p:nvPr/>
            </p:nvSpPr>
            <p:spPr>
              <a:xfrm>
                <a:off x="1219320" y="3193560"/>
                <a:ext cx="1486080" cy="41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xpected Contribution, Year 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219320" y="3193560"/>
                <a:ext cx="1486080" cy="417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1219320" y="3611880"/>
              <a:ext cx="1486080" cy="417960"/>
              <a:chOff x="1219320" y="3611880"/>
              <a:chExt cx="1486080" cy="417960"/>
            </a:xfrm>
          </p:grpSpPr>
          <p:sp>
            <p:nvSpPr>
              <p:cNvPr id="324" name=""/>
              <p:cNvSpPr/>
              <p:nvPr/>
            </p:nvSpPr>
            <p:spPr>
              <a:xfrm>
                <a:off x="1219320" y="3611880"/>
                <a:ext cx="1486080" cy="41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xpected Contribution, Year 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219320" y="3611880"/>
                <a:ext cx="1486080" cy="417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1219320" y="4030200"/>
              <a:ext cx="1486080" cy="417960"/>
              <a:chOff x="1219320" y="4030200"/>
              <a:chExt cx="1486080" cy="417960"/>
            </a:xfrm>
          </p:grpSpPr>
          <p:sp>
            <p:nvSpPr>
              <p:cNvPr id="327" name=""/>
              <p:cNvSpPr/>
              <p:nvPr/>
            </p:nvSpPr>
            <p:spPr>
              <a:xfrm>
                <a:off x="1219320" y="4030200"/>
                <a:ext cx="1486080" cy="41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xpected Contribution, Year 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219320" y="4030200"/>
                <a:ext cx="1486080" cy="417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1219320" y="4448160"/>
              <a:ext cx="1486080" cy="417960"/>
              <a:chOff x="1219320" y="4448160"/>
              <a:chExt cx="1486080" cy="417960"/>
            </a:xfrm>
          </p:grpSpPr>
          <p:sp>
            <p:nvSpPr>
              <p:cNvPr id="330" name=""/>
              <p:cNvSpPr/>
              <p:nvPr/>
            </p:nvSpPr>
            <p:spPr>
              <a:xfrm>
                <a:off x="1219320" y="4448160"/>
                <a:ext cx="1486080" cy="41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xpected Contribution, Year 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219320" y="4448160"/>
                <a:ext cx="1486080" cy="417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1219320" y="4866480"/>
              <a:ext cx="1486080" cy="417960"/>
              <a:chOff x="1219320" y="4866480"/>
              <a:chExt cx="1486080" cy="417960"/>
            </a:xfrm>
          </p:grpSpPr>
          <p:sp>
            <p:nvSpPr>
              <p:cNvPr id="333" name=""/>
              <p:cNvSpPr/>
              <p:nvPr/>
            </p:nvSpPr>
            <p:spPr>
              <a:xfrm>
                <a:off x="1219320" y="4866480"/>
                <a:ext cx="1486080" cy="41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xpected Contribution, Year 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19320" y="4866480"/>
                <a:ext cx="1486080" cy="417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562720" y="4866480"/>
              <a:ext cx="685800" cy="417960"/>
              <a:chOff x="5562720" y="4866480"/>
              <a:chExt cx="685800" cy="417960"/>
            </a:xfrm>
          </p:grpSpPr>
          <p:sp>
            <p:nvSpPr>
              <p:cNvPr id="336" name=""/>
              <p:cNvSpPr/>
              <p:nvPr/>
            </p:nvSpPr>
            <p:spPr>
              <a:xfrm>
                <a:off x="5562720" y="4866480"/>
                <a:ext cx="685800" cy="41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£5,67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562720" y="4866480"/>
                <a:ext cx="685800" cy="417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248520" y="4866480"/>
              <a:ext cx="685800" cy="417960"/>
              <a:chOff x="6248520" y="4866480"/>
              <a:chExt cx="685800" cy="417960"/>
            </a:xfrm>
          </p:grpSpPr>
          <p:sp>
            <p:nvSpPr>
              <p:cNvPr id="339" name=""/>
              <p:cNvSpPr/>
              <p:nvPr/>
            </p:nvSpPr>
            <p:spPr>
              <a:xfrm>
                <a:off x="6248520" y="4866480"/>
                <a:ext cx="685800" cy="41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£11,34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248520" y="4866480"/>
                <a:ext cx="685800" cy="417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6934320" y="4866480"/>
              <a:ext cx="685800" cy="417960"/>
              <a:chOff x="6934320" y="4866480"/>
              <a:chExt cx="685800" cy="417960"/>
            </a:xfrm>
          </p:grpSpPr>
          <p:sp>
            <p:nvSpPr>
              <p:cNvPr id="342" name=""/>
              <p:cNvSpPr/>
              <p:nvPr/>
            </p:nvSpPr>
            <p:spPr>
              <a:xfrm>
                <a:off x="6934320" y="4866480"/>
                <a:ext cx="685800" cy="41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£17,02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934320" y="4866480"/>
                <a:ext cx="685800" cy="417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4" name=""/>
          <p:cNvSpPr/>
          <p:nvPr/>
        </p:nvSpPr>
        <p:spPr>
          <a:xfrm>
            <a:off x="665280" y="1565280"/>
            <a:ext cx="61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 first step is to find NPV’s in the normal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Objectiv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2073240"/>
            <a:ext cx="770616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65000" indent="-765000">
              <a:lnSpc>
                <a:spcPct val="12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Find the payback time for a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Understand the concept of time value of 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Calculate a net present value for a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Criticise th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Discuss the selection of discount factors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Expected NPV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14400" y="30481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(-£25,094 x 0.2) + (£3,002 x 0.7) + (£54,723 x 0.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= £2,555.2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74880" y="194616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You then take each NPV and multiply it by the appropriate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8080" y="4343400"/>
            <a:ext cx="763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here there are several projects competing for the same funds, this method suggests that you cho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 one with the highest expected NP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29920" y="1447920"/>
            <a:ext cx="8038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Net Present Value takes account of the </a:t>
            </a: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time value of 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Other methods are avail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2320" y="2514600"/>
            <a:ext cx="29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Discounted Cash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0" y="25146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Looks for the rate of return on the investment which gives zero NP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16440" y="380988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nternal Rate of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72360" y="38098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Accounting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23880" y="449568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ayback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1280" y="5334120"/>
            <a:ext cx="38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Ignores time value of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4495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Just counts up income until total equals the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Costs &amp; Benefit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000" y="2049480"/>
            <a:ext cx="770256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69960" indent="-669960">
              <a:lnSpc>
                <a:spcPct val="12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Costs usually come at the beginning of a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9960" indent="-669960">
              <a:lnSpc>
                <a:spcPct val="12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Their level is often known with some certain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9960" indent="-669960">
              <a:lnSpc>
                <a:spcPct val="12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Benefits come over some future time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9960" indent="-669960">
              <a:lnSpc>
                <a:spcPct val="12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They are open to considerable var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9960" indent="-669960">
              <a:lnSpc>
                <a:spcPct val="12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They are also uncer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Payback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8320" y="1523880"/>
            <a:ext cx="740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is method only takes into account how long it will take to pay back the initial investment in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nominal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f we invest 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nd get back £500 in year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nd £500 in yea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Then it takes 2 years to pay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960" y="44956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f the money back were £750 in yea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nd £750 in yea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Then it would take one and a third years to pay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Interest Calcul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67652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nterest is earned on a sum of money invested over a period of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 amount of interest depends upon the interest rate and the time peri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ut also on th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method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of interest accu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9600" y="365760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99"/>
                </a:solidFill>
                <a:latin typeface="Times New Roman"/>
              </a:rPr>
              <a:t>SIMPLE INTER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65760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Here the same amount is earned each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o if you invest £100 at 10% you 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£10 interest in yea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£10 interest in yea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nd so on 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4480" y="5257800"/>
            <a:ext cx="687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o the total interes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(the amount)x(interest rate)x(number of years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Compound Interes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6280" y="1447920"/>
            <a:ext cx="7483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ith compound interest, the money earned is left invested from year to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nd hence you get interest on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f you invest £100 at 10%, you 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£10 interest at the end of yea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n year 2, you get £10 interest on your 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lus £1 interest on the £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7840" y="4149720"/>
            <a:ext cx="81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 formula has been developed to help work out the total amou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24280" y="4606920"/>
            <a:ext cx="13302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</a:t>
            </a:r>
            <a:r>
              <a:rPr b="1" lang="en-GB" sz="2400" spc="-1" strike="noStrike" baseline="-30000">
                <a:solidFill>
                  <a:srgbClr val="ff0000"/>
                </a:solidFill>
                <a:latin typeface="Times New Roman"/>
                <a:ea typeface="Arial"/>
              </a:rPr>
              <a:t>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(1+r)</a:t>
            </a:r>
            <a:r>
              <a:rPr b="1" lang="en-GB" sz="24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5140440"/>
            <a:ext cx="8092800" cy="875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s the initial amount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s the decimal interest rate a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s the number of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Time-value of Money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18288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oney which we get in the future will not buy as much as the same amount receiv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One reason  is inf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3083040"/>
            <a:ext cx="71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o work out 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d60093"/>
                </a:solidFill>
                <a:latin typeface="Times New Roman"/>
              </a:rPr>
              <a:t>present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f a sum of money, we need to assume a rate of inte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We can then use the formu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257800" y="3692520"/>
                <a:ext cx="213372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1905120" y="453060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- star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- in t years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54450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is is just a manipulation of the compound interest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Tab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1447920"/>
            <a:ext cx="7483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You could work out the values of the present value formu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y h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or you could use a spreadshe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or you could us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excerpt" descr=""/>
          <p:cNvPicPr/>
          <p:nvPr/>
        </p:nvPicPr>
        <p:blipFill>
          <a:blip r:embed="rId1"/>
          <a:stretch/>
        </p:blipFill>
        <p:spPr>
          <a:xfrm>
            <a:off x="3657600" y="3921120"/>
            <a:ext cx="483876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44120" y="4267080"/>
            <a:ext cx="277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o find the figur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6720" y="506412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nd 6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34800" y="57499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You 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505320" y="3997440"/>
            <a:ext cx="358128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971800" y="5257440"/>
            <a:ext cx="9144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5105520"/>
            <a:ext cx="83808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276720" y="5216040"/>
            <a:ext cx="3657600" cy="838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esent Valu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144792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057400"/>
            <a:ext cx="611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How much would you need to invest now at 10% interest, to have £242 in two years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11240" y="2971800"/>
            <a:ext cx="139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= £2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2200" y="297180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 =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905120" y="3657600"/>
                <a:ext cx="29718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2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5334120" y="4114800"/>
            <a:ext cx="269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 242 * 0.8264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£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81480" y="52578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99"/>
                </a:solidFill>
                <a:latin typeface="Times New Roman"/>
              </a:rPr>
              <a:t>So invest £200 to get £242 two years from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0:31:40Z</dcterms:created>
  <dc:creator>dwnusr38</dc:creator>
  <dc:description/>
  <dc:language>en-US</dc:language>
  <cp:lastModifiedBy>Administrator</cp:lastModifiedBy>
  <dcterms:modified xsi:type="dcterms:W3CDTF">2007-12-07T16:16:28Z</dcterms:modified>
  <cp:revision>77</cp:revision>
  <dc:subject/>
  <dc:title>Basic Sums</dc:title>
</cp:coreProperties>
</file>