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5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hapter 8: Working with Possible Relationshi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0048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38080" y="1523880"/>
          <a:ext cx="7467840" cy="44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46784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38080" y="609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 correlation measure of 0 confirming 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 linear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19320" y="3048120"/>
                <a:ext cx="6705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ΣxΣ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Σx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Σy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09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Pearson’s correlation coefficient or just the correlation coefficient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28520" y="4568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Interpretation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=+1 – perfect positive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=-1 – perfect negative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= 0 – no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close to +1 – high degree of positive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close to -1 – high degree of negative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close to 0 – little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04840" y="1422360"/>
          <a:ext cx="6934320" cy="4368960"/>
        </p:xfrm>
        <a:graphic>
          <a:graphicData uri="http://schemas.openxmlformats.org/drawingml/2006/table">
            <a:tbl>
              <a:tblPr/>
              <a:tblGrid>
                <a:gridCol w="1387080"/>
                <a:gridCol w="1386000"/>
                <a:gridCol w="1387800"/>
                <a:gridCol w="1386000"/>
                <a:gridCol w="1387440"/>
              </a:tblGrid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x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x</a:t>
                      </a:r>
                      <a:r>
                        <a:rPr b="1" lang="en-GB" sz="2800" spc="-1" strike="noStrike" u="sng" baseline="30000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y</a:t>
                      </a:r>
                      <a:r>
                        <a:rPr b="1" lang="en-GB" sz="2800" spc="-1" strike="noStrike" u="sng" baseline="30000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GB" sz="28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GB" sz="28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088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data used for the scatter graphs (n=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925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summary statistics required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x = 20,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y = 400,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xy = 1,680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= 90,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= 33,000 and n =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sure that you can do these calcula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9960" y="2190600"/>
                <a:ext cx="728964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By substitution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57200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By doing the sums you will find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r = 0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We need to give some interpre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 fairly close to +1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easonably high degree of positive correl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Low values of advertising tend to be associated with low sal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High values of advertising tend to be associated with high sal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57680" y="609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Reg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17524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Having established that a relationship is likely we then attempt to describe the relationship with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360" y="304812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But we do need to be aware of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purious correlations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direct connection (third common fac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oinc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90720" y="1447920"/>
          <a:ext cx="7162560" cy="4513320"/>
        </p:xfrm>
        <a:graphic>
          <a:graphicData uri="http://schemas.openxmlformats.org/drawingml/2006/table">
            <a:tbl>
              <a:tblPr/>
              <a:tblGrid>
                <a:gridCol w="1432800"/>
                <a:gridCol w="1431720"/>
                <a:gridCol w="1433160"/>
                <a:gridCol w="1431720"/>
                <a:gridCol w="143316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x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x</a:t>
                      </a:r>
                      <a:r>
                        <a:rPr b="1" lang="en-GB" sz="2800" spc="-1" strike="noStrike" u="sng" baseline="30000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y</a:t>
                      </a:r>
                      <a:r>
                        <a:rPr b="1" lang="en-GB" sz="2800" spc="-1" strike="noStrike" u="sng" baseline="30000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GB" sz="28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GB" sz="28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4308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We again need the summary statistics (n=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summary statistics required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x = 20,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y = 400,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xy = 1,680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= 90 and n =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equation of a straight line is given b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y = a + bx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nd we need to find a and b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6094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9800" y="1523880"/>
            <a:ext cx="7124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Be able to discuss whether a possible relationship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alculate and comment on the correlation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escribe a simple relationship using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ake a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Be aware of multiple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We find a and b using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00480" y="1731960"/>
                <a:ext cx="43434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ΣxΣy</m:t>
                        </m:r>
                      </m:num>
                      <m:den>
                        <m:sSup>
                          <m:e>
                            <m:r>
                              <m:t xml:space="preserve">nΣ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29080" y="4114800"/>
                <a:ext cx="38862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095560" y="1828800"/>
                <a:ext cx="49528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93720" y="4114800"/>
                <a:ext cx="59565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8088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By substit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1905120"/>
                <a:ext cx="4724640" cy="36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71680" y="563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gain by substitution (using the value b = 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533520"/>
            <a:ext cx="8076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is gives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y = 48 + 8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 is the intercep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b is the grad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429000"/>
            <a:ext cx="807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he interpretation of b = 8, is that each unit increase advertising produces an 8 unit increase in sales.  But note – real business relationship are usually more complex than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5360" y="15235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he equation is given by y = 48 + 8x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hen advertising is £2500 (let x = 2.5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hen y = 48 + 8 x 2.5 = 68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sales forecast is £68000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533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Making a Forec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34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se figures are within the current range of the data (calle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nterpolatio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) and we would feel comfortable with such a fore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5053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se figures are outside the current range of the data (calle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xtrapolatio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) and we would have concerns about such a fore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685800"/>
            <a:ext cx="815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hen advertising is £8000 (let x =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hen y = 48 + 8 x 8 = 1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sales forecast is therefore £6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5335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Multiple Reg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1704960"/>
            <a:ext cx="8153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t is likely that the variable of interest to us e.g. sales, is best explained by a number of factors e.g. price, advertising, perceived quality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o allow for a number of factors the predictive equation would take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58920" y="4834080"/>
                <a:ext cx="4826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09800" y="838080"/>
            <a:ext cx="71244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hen building a multiple regression model two or more (2 have been shown) predictor variables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ultiple regression is available on Excel but the you do need to be careful with the interpretation of th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43200" y="533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600200"/>
            <a:ext cx="74678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orrelation provides a measure of how well a straight line will fit a scatter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egression gives the equation of a line that will best fit (using the least squares criteria)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can forecast from the regression line but need to be aware of the limitations of such forecast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24160" y="609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lotting the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1793880"/>
            <a:ext cx="8001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need to decide whether a relationship exists between two variable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variable we are trying to explain (plotted on the y axis) is referred to as th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ependent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variable being used for explanation (plotted on the x axis) is referred to as th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ndependent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47640" y="1676520"/>
          <a:ext cx="7848720" cy="43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76520"/>
                    <a:ext cx="784872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120" y="533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 this example, we are looking at the impact of advertising o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685800"/>
            <a:ext cx="72388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In this c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would talk about a positive relationship as the points lie on an upward sloping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Of interest is the correspondence of high sales with high levels of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e need to assess how good the relationship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33640" y="457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413000"/>
            <a:ext cx="80769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Measures the strength of th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linear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relationship between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orrelations takes a value between –1 and 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 correlation of +1 indicates a perfect positive correlation, -1 a perfect negative correlation and 0 no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0048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28880" y="1371600"/>
          <a:ext cx="7086600" cy="42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371600"/>
                    <a:ext cx="708660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838080" y="533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 correlation measure of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0048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52560" y="1447920"/>
          <a:ext cx="7238880" cy="43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47920"/>
                    <a:ext cx="723888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4400" y="609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 correlation measure of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0048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447920"/>
          <a:ext cx="7467840" cy="447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46784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14400" y="609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 correlation measure of 0 suggesting no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8:21:59Z</dcterms:created>
  <dc:creator>id000258</dc:creator>
  <dc:description/>
  <dc:language>en-US</dc:language>
  <cp:lastModifiedBy>Administrator</cp:lastModifiedBy>
  <dcterms:modified xsi:type="dcterms:W3CDTF">2007-12-07T16:11:14Z</dcterms:modified>
  <cp:revision>25</cp:revision>
  <dc:subject/>
  <dc:title>Business and Management Research</dc:title>
</cp:coreProperties>
</file>