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3.png" ContentType="image/png"/>
  <Override PartName="/ppt/media/image12.jpeg" ContentType="image/jpe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5DE5-C22B-4D14-AC07-B21DC015F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29D2-F0D8-4063-B642-7FFC51406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3F15-6271-45BC-967D-2ED09B265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CB94-0C62-4ADF-82E4-89FD64A83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9B65-B72F-4DDB-96F3-8105E87AD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FD20-97BB-42DE-9B4E-2B7B40783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6400-7257-4D15-B892-32B725B15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154E-2E4B-4301-9C10-F823498F7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A105-CC57-4F5A-8933-BFD1F0295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9E9E-79D6-4880-8353-735F400F6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FA06-6211-4AE9-8C47-7D33B3B8E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71AA-74C3-4156-8FEE-3312DC8DF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29040" y="6372360"/>
            <a:ext cx="1143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8/</a:t>
            </a:r>
            <a:fld id="{B6D2924F-6474-4E3A-A98E-5F7007181738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7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apter 4: Representing D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Histogram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1523880"/>
            <a:ext cx="3429000" cy="3733920"/>
            <a:chOff x="380880" y="1523880"/>
            <a:chExt cx="3429000" cy="3733920"/>
          </a:xfrm>
        </p:grpSpPr>
        <p:grpSp>
          <p:nvGrpSpPr>
            <p:cNvPr id="90" name=""/>
            <p:cNvGrpSpPr/>
            <p:nvPr/>
          </p:nvGrpSpPr>
          <p:grpSpPr>
            <a:xfrm>
              <a:off x="384840" y="1528200"/>
              <a:ext cx="3420000" cy="3724200"/>
              <a:chOff x="384840" y="1528200"/>
              <a:chExt cx="3420000" cy="3724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84840" y="1528200"/>
                <a:ext cx="1666080" cy="620280"/>
                <a:chOff x="384840" y="1528200"/>
                <a:chExt cx="1666080" cy="6202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46040" y="1528200"/>
                  <a:ext cx="15433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ber of Childr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84840" y="1528200"/>
                  <a:ext cx="166608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050920" y="1528200"/>
                <a:ext cx="1753920" cy="620280"/>
                <a:chOff x="2050920" y="1528200"/>
                <a:chExt cx="1753920" cy="6202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111760" y="1528200"/>
                  <a:ext cx="16315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ber of Famil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50920" y="1528200"/>
                  <a:ext cx="175392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4840" y="2148480"/>
                <a:ext cx="1666080" cy="620640"/>
                <a:chOff x="384840" y="2148480"/>
                <a:chExt cx="1666080" cy="620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46040" y="2148480"/>
                  <a:ext cx="15433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4840" y="2148480"/>
                  <a:ext cx="16660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050920" y="2148480"/>
                <a:ext cx="1753920" cy="620640"/>
                <a:chOff x="2050920" y="2148480"/>
                <a:chExt cx="1753920" cy="620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11760" y="2148480"/>
                  <a:ext cx="16315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50920" y="2148480"/>
                  <a:ext cx="175392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84840" y="2769480"/>
                <a:ext cx="1666080" cy="620280"/>
                <a:chOff x="384840" y="2769480"/>
                <a:chExt cx="1666080" cy="620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46040" y="2769480"/>
                  <a:ext cx="15433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4840" y="2769480"/>
                  <a:ext cx="166608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050920" y="2769480"/>
                <a:ext cx="1753920" cy="620280"/>
                <a:chOff x="2050920" y="2769480"/>
                <a:chExt cx="175392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111760" y="2769480"/>
                  <a:ext cx="16315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50920" y="2769480"/>
                  <a:ext cx="175392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84840" y="3390120"/>
                <a:ext cx="1666080" cy="620640"/>
                <a:chOff x="384840" y="3390120"/>
                <a:chExt cx="1666080" cy="620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46040" y="3390120"/>
                  <a:ext cx="15433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4840" y="3390120"/>
                  <a:ext cx="16660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050920" y="3390120"/>
                <a:ext cx="1753920" cy="620640"/>
                <a:chOff x="2050920" y="3390120"/>
                <a:chExt cx="1753920" cy="620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111760" y="3390120"/>
                  <a:ext cx="16315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50920" y="3390120"/>
                  <a:ext cx="175392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84840" y="4011120"/>
                <a:ext cx="1666080" cy="620280"/>
                <a:chOff x="384840" y="4011120"/>
                <a:chExt cx="166608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46040" y="4011120"/>
                  <a:ext cx="15433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4840" y="4011120"/>
                  <a:ext cx="166608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050920" y="4011120"/>
                <a:ext cx="1753920" cy="620280"/>
                <a:chOff x="2050920" y="4011120"/>
                <a:chExt cx="175392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111760" y="4011120"/>
                  <a:ext cx="163152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0920" y="4011120"/>
                  <a:ext cx="175392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84840" y="4631760"/>
                <a:ext cx="1666080" cy="620640"/>
                <a:chOff x="384840" y="4631760"/>
                <a:chExt cx="1666080" cy="620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040" y="4631760"/>
                  <a:ext cx="15433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84840" y="4631760"/>
                  <a:ext cx="166608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050920" y="4631760"/>
                <a:ext cx="1753920" cy="620640"/>
                <a:chOff x="2050920" y="4631760"/>
                <a:chExt cx="1753920" cy="620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111760" y="4631760"/>
                  <a:ext cx="16315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50920" y="4631760"/>
                  <a:ext cx="175392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380880" y="1523880"/>
              <a:ext cx="342900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fig413" descr=""/>
          <p:cNvPicPr/>
          <p:nvPr/>
        </p:nvPicPr>
        <p:blipFill>
          <a:blip r:embed="rId1"/>
          <a:srcRect l="0" t="0" r="33336" b="0"/>
          <a:stretch/>
        </p:blipFill>
        <p:spPr>
          <a:xfrm>
            <a:off x="4495680" y="2057400"/>
            <a:ext cx="4114800" cy="321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79880" y="5486400"/>
            <a:ext cx="51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ete data, so all bars are sam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would not call this a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Histograms (3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52640" y="2514600"/>
            <a:ext cx="4723920" cy="2590920"/>
            <a:chOff x="1052640" y="2514600"/>
            <a:chExt cx="4723920" cy="2590920"/>
          </a:xfrm>
        </p:grpSpPr>
        <p:grpSp>
          <p:nvGrpSpPr>
            <p:cNvPr id="132" name=""/>
            <p:cNvGrpSpPr/>
            <p:nvPr/>
          </p:nvGrpSpPr>
          <p:grpSpPr>
            <a:xfrm>
              <a:off x="1058400" y="2517120"/>
              <a:ext cx="4711680" cy="2585160"/>
              <a:chOff x="1058400" y="2517120"/>
              <a:chExt cx="4711680" cy="2585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058400" y="2517120"/>
                <a:ext cx="2567520" cy="369000"/>
                <a:chOff x="1058400" y="2517120"/>
                <a:chExt cx="2567520" cy="369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142640" y="2517120"/>
                  <a:ext cx="2398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come Grou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58400" y="2517120"/>
                  <a:ext cx="25675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626280" y="2517120"/>
                <a:ext cx="2143800" cy="369000"/>
                <a:chOff x="3626280" y="2517120"/>
                <a:chExt cx="2143800" cy="369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710160" y="2517120"/>
                  <a:ext cx="197532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ber of Peo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26280" y="2517120"/>
                  <a:ext cx="214380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058400" y="2886120"/>
                <a:ext cx="2567520" cy="369360"/>
                <a:chOff x="1058400" y="2886120"/>
                <a:chExt cx="2567520" cy="369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142640" y="2886120"/>
                  <a:ext cx="239868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5,000 but under £1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58400" y="2886120"/>
                  <a:ext cx="256752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626280" y="2886120"/>
                <a:ext cx="2143800" cy="369360"/>
                <a:chOff x="3626280" y="2886120"/>
                <a:chExt cx="2143800" cy="369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710160" y="2886120"/>
                  <a:ext cx="19753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26280" y="2886120"/>
                  <a:ext cx="214380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058400" y="3255840"/>
                <a:ext cx="2567520" cy="369000"/>
                <a:chOff x="1058400" y="3255840"/>
                <a:chExt cx="2567520" cy="369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142640" y="3255840"/>
                  <a:ext cx="2398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0,000 but under £15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58400" y="3255840"/>
                  <a:ext cx="25675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626280" y="3255840"/>
                <a:ext cx="2143800" cy="369000"/>
                <a:chOff x="3626280" y="3255840"/>
                <a:chExt cx="2143800" cy="3690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710160" y="3255840"/>
                  <a:ext cx="197532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626280" y="3255840"/>
                  <a:ext cx="214380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58400" y="3625200"/>
                <a:ext cx="2567520" cy="369360"/>
                <a:chOff x="1058400" y="3625200"/>
                <a:chExt cx="2567520" cy="369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42640" y="3625200"/>
                  <a:ext cx="239868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15,000 but under £2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58400" y="3625200"/>
                  <a:ext cx="256752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26280" y="3625200"/>
                <a:ext cx="2143800" cy="369360"/>
                <a:chOff x="3626280" y="3625200"/>
                <a:chExt cx="2143800" cy="369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10160" y="3625200"/>
                  <a:ext cx="19753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26280" y="3625200"/>
                  <a:ext cx="214380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058400" y="3994560"/>
                <a:ext cx="2567520" cy="369000"/>
                <a:chOff x="1058400" y="3994560"/>
                <a:chExt cx="2567520" cy="369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142640" y="3994560"/>
                  <a:ext cx="2398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20,000 but under £3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58400" y="3994560"/>
                  <a:ext cx="25675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626280" y="3994560"/>
                <a:ext cx="2143800" cy="369000"/>
                <a:chOff x="3626280" y="3994560"/>
                <a:chExt cx="2143800" cy="3690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710160" y="3994560"/>
                  <a:ext cx="197532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26280" y="3994560"/>
                  <a:ext cx="214380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058400" y="4363920"/>
                <a:ext cx="2567520" cy="369360"/>
                <a:chOff x="1058400" y="4363920"/>
                <a:chExt cx="2567520" cy="3693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142640" y="4363920"/>
                  <a:ext cx="239868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30,000 but under £5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58400" y="4363920"/>
                  <a:ext cx="256752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626280" y="4363920"/>
                <a:ext cx="2143800" cy="369360"/>
                <a:chOff x="3626280" y="4363920"/>
                <a:chExt cx="2143800" cy="3693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10160" y="4363920"/>
                  <a:ext cx="19753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626280" y="4363920"/>
                  <a:ext cx="214380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058400" y="4733280"/>
                <a:ext cx="2567520" cy="369000"/>
                <a:chOff x="1058400" y="4733280"/>
                <a:chExt cx="2567520" cy="369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42640" y="4733280"/>
                  <a:ext cx="239868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£50,000 but under £100,0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8400" y="4733280"/>
                  <a:ext cx="25675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26280" y="4733280"/>
                <a:ext cx="2143800" cy="369000"/>
                <a:chOff x="3626280" y="4733280"/>
                <a:chExt cx="2143800" cy="369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4733280"/>
                  <a:ext cx="197532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26280" y="4733280"/>
                  <a:ext cx="214380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1052640" y="2514600"/>
              <a:ext cx="472392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776920" y="2514600"/>
            <a:ext cx="603000" cy="2590920"/>
            <a:chOff x="5776920" y="2514600"/>
            <a:chExt cx="603000" cy="2590920"/>
          </a:xfrm>
        </p:grpSpPr>
        <p:grpSp>
          <p:nvGrpSpPr>
            <p:cNvPr id="177" name=""/>
            <p:cNvGrpSpPr/>
            <p:nvPr/>
          </p:nvGrpSpPr>
          <p:grpSpPr>
            <a:xfrm>
              <a:off x="5781600" y="2517120"/>
              <a:ext cx="593640" cy="2585160"/>
              <a:chOff x="5781600" y="2517120"/>
              <a:chExt cx="593640" cy="2585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781600" y="2517120"/>
                <a:ext cx="593640" cy="369000"/>
                <a:chOff x="5781600" y="2517120"/>
                <a:chExt cx="593640" cy="3690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850000" y="2517120"/>
                  <a:ext cx="45720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781600" y="2517120"/>
                  <a:ext cx="59364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781600" y="2886120"/>
                <a:ext cx="593640" cy="369360"/>
                <a:chOff x="5781600" y="2886120"/>
                <a:chExt cx="593640" cy="369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850000" y="2886120"/>
                  <a:ext cx="45720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81600" y="2886120"/>
                  <a:ext cx="59364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81600" y="3255840"/>
                <a:ext cx="593640" cy="369000"/>
                <a:chOff x="5781600" y="3255840"/>
                <a:chExt cx="593640" cy="369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50000" y="3255840"/>
                  <a:ext cx="45720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81600" y="3255840"/>
                  <a:ext cx="59364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1600" y="3625200"/>
                <a:ext cx="593640" cy="369360"/>
                <a:chOff x="5781600" y="3625200"/>
                <a:chExt cx="593640" cy="3693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850000" y="3625200"/>
                  <a:ext cx="45720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781600" y="3625200"/>
                  <a:ext cx="59364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781600" y="3994560"/>
                <a:ext cx="593640" cy="369000"/>
                <a:chOff x="5781600" y="3994560"/>
                <a:chExt cx="593640" cy="369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850000" y="3994560"/>
                  <a:ext cx="45720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781600" y="3994560"/>
                  <a:ext cx="59364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81600" y="4363920"/>
                <a:ext cx="593640" cy="369360"/>
                <a:chOff x="5781600" y="4363920"/>
                <a:chExt cx="593640" cy="3693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50000" y="4363920"/>
                  <a:ext cx="45720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81600" y="4363920"/>
                  <a:ext cx="593640" cy="36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781600" y="4733280"/>
                <a:ext cx="593640" cy="369000"/>
                <a:chOff x="5781600" y="4733280"/>
                <a:chExt cx="593640" cy="3690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850000" y="4733280"/>
                  <a:ext cx="457200" cy="36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781600" y="4733280"/>
                  <a:ext cx="59364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5776920" y="2514600"/>
              <a:ext cx="60300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386400" y="2514600"/>
            <a:ext cx="914040" cy="2590920"/>
            <a:chOff x="6386400" y="2514600"/>
            <a:chExt cx="914040" cy="2590920"/>
          </a:xfrm>
        </p:grpSpPr>
        <p:grpSp>
          <p:nvGrpSpPr>
            <p:cNvPr id="201" name=""/>
            <p:cNvGrpSpPr/>
            <p:nvPr/>
          </p:nvGrpSpPr>
          <p:grpSpPr>
            <a:xfrm>
              <a:off x="6393960" y="2517120"/>
              <a:ext cx="897480" cy="2585160"/>
              <a:chOff x="6393960" y="2517120"/>
              <a:chExt cx="897480" cy="25851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393960" y="2517120"/>
                <a:ext cx="897480" cy="451440"/>
                <a:chOff x="6393960" y="2517120"/>
                <a:chExt cx="897480" cy="451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504480" y="2517120"/>
                  <a:ext cx="67680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gh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393960" y="2517120"/>
                  <a:ext cx="897480" cy="45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393960" y="2968560"/>
                <a:ext cx="897480" cy="355320"/>
                <a:chOff x="6393960" y="2968560"/>
                <a:chExt cx="897480" cy="3553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504480" y="2968560"/>
                  <a:ext cx="67680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393960" y="2968560"/>
                  <a:ext cx="8974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393960" y="3323880"/>
                <a:ext cx="897480" cy="355680"/>
                <a:chOff x="6393960" y="3323880"/>
                <a:chExt cx="897480" cy="3556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04480" y="3323880"/>
                  <a:ext cx="6768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393960" y="3323880"/>
                  <a:ext cx="897480" cy="35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393960" y="3679920"/>
                <a:ext cx="897480" cy="355320"/>
                <a:chOff x="6393960" y="3679920"/>
                <a:chExt cx="897480" cy="3553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04480" y="3679920"/>
                  <a:ext cx="67680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393960" y="3679920"/>
                  <a:ext cx="8974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393960" y="4035600"/>
                <a:ext cx="897480" cy="355680"/>
                <a:chOff x="6393960" y="4035600"/>
                <a:chExt cx="897480" cy="3556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4480" y="4035600"/>
                  <a:ext cx="6768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393960" y="4035600"/>
                  <a:ext cx="897480" cy="35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393960" y="4391280"/>
                <a:ext cx="897480" cy="355320"/>
                <a:chOff x="6393960" y="4391280"/>
                <a:chExt cx="897480" cy="3553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04480" y="4391280"/>
                  <a:ext cx="67680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393960" y="4391280"/>
                  <a:ext cx="8974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393960" y="4746960"/>
                <a:ext cx="897480" cy="355320"/>
                <a:chOff x="6393960" y="4746960"/>
                <a:chExt cx="897480" cy="3553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04480" y="4746960"/>
                  <a:ext cx="67680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393960" y="4746960"/>
                  <a:ext cx="89748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6386400" y="2514600"/>
              <a:ext cx="9140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74520" y="152388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ith group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29000" y="1523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ick a width as standard and relate others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5520" y="228600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31240" y="525780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w divide frequency by relative width to get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148520" y="2819160"/>
            <a:ext cx="990720" cy="2514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Histograms (4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3920" y="190512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w plot using a linear scale on X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fig414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requency Polyg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joining up the mid-points of the histogram blocks we get a frequency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fig415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334120" cy="3181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41240" y="579132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allows us to assess skewness in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Using Exce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xcel can quickly and easily construct statistical graph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xcel does not do histogra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You have to decide which are appropriat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olour graphics may look good on screen, but often fail when printed out in black and whit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tatistical charts are about communic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When assessing a chart you need to ask if it succeeds in telling you what is going on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here are few “right” answers in terms of which diagram to use,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but some may be viewed as “more appropriate” than oth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onstruct bar char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onstruct pie char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onstruct pictogra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onstruct histogra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Have basis for choice of graph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imple Bar Char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asy to understan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Useful for categorical dat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Useful for reporting survey resul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All bars same widt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Length represents frequenc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0" name="fig41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4343400" cy="301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24280" y="21240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ye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38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tacked Bar Char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752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more complex situa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ontain more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may complicate the picture too mu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an be just stacked, or percentag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ercentage may be easier to underst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122720" y="1752480"/>
          <a:ext cx="4175280" cy="22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2720" y="1752480"/>
                    <a:ext cx="4175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99040" y="4189320"/>
          <a:ext cx="4098960" cy="203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189320"/>
                    <a:ext cx="409896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ie Char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Good for categorical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Good for reporting survey resul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Danger of misunderstanding or confusion if too many segme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ll out a segment for emphasi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asy to construct from Exc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486400" y="1447920"/>
          <a:ext cx="2819520" cy="248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447920"/>
                    <a:ext cx="281952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486400" y="3886200"/>
          <a:ext cx="25146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2514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34320" y="3957480"/>
          <a:ext cx="172404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957480"/>
                    <a:ext cx="1724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More Pie Char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an go to 3D for effec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ut may confuse audien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an link 2 or more togeth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71880" y="1600200"/>
          <a:ext cx="46767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1880" y="1600200"/>
                    <a:ext cx="46767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191120" y="3957480"/>
          <a:ext cx="2762280" cy="23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957480"/>
                    <a:ext cx="27622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19920" y="4876920"/>
            <a:ext cx="1143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638680"/>
            <a:ext cx="10288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balance in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ictogram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ood at attracting atten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Make picture relevant to the topic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an be mislead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Many different ways of presenting resul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ictogram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7" name="lotus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05740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lotus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876480" cy="1876320"/>
          </a:xfrm>
          <a:prstGeom prst="rect">
            <a:avLst/>
          </a:prstGeom>
          <a:ln w="0">
            <a:noFill/>
          </a:ln>
        </p:spPr>
      </p:pic>
      <p:pic>
        <p:nvPicPr>
          <p:cNvPr id="79" name="lotus" descr=""/>
          <p:cNvPicPr/>
          <p:nvPr/>
        </p:nvPicPr>
        <p:blipFill>
          <a:blip r:embed="rId3"/>
          <a:stretch/>
        </p:blipFill>
        <p:spPr>
          <a:xfrm>
            <a:off x="5791320" y="4572000"/>
            <a:ext cx="284796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1752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 show a doubling from last years production, this is la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362320"/>
            <a:ext cx="1828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120" y="327672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double the height of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8480" y="266688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we double to volume of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048120"/>
            <a:ext cx="1219320" cy="1371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Histogram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Key point that here it is the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area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which represents frequenc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Term is often misused and a bar-chart has been draw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Works for discrete dat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Can go on to get frequency polyg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Link to development of statistical theory and probability density func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08:19Z</dcterms:modified>
  <cp:revision>41</cp:revision>
  <dc:subject/>
  <dc:title>Basic Sums</dc:title>
</cp:coreProperties>
</file>