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EC5D-6729-487C-92DE-14969B30E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4143-CE77-4583-A3F2-C49B72719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1EA3-34C0-42BF-B260-DF957CC02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A7CA-6D0A-4892-81BF-655A27C8D3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064C-94D5-405B-8178-8034BA8E43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9B21-A696-4539-9568-72FA50755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5656-3811-4246-98BB-BE6C4DC6D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F97B-A213-4C70-BDE0-07F06E473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819B-C1F7-4845-ABA6-B0BCF1343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A80B-0222-4180-809D-B78724144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E693-2DBE-4B82-B2D0-BC992ACEA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FAF1-CC63-4953-8A67-66FCF036A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7076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11880"/>
            <a:ext cx="91440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 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Jon Curwin and Roger Slater,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QUANTITATIVE METHODS: A SHORT COURSE   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ISBN 1-86152-991-0    © Thomson Learning 2004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529040" y="6372360"/>
            <a:ext cx="114300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18/</a:t>
            </a:r>
            <a:fld id="{007309DA-62EB-4082-9162-AC6912D3AB3B}" type="slidenum">
              <a:rPr b="1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0" y="6165720"/>
            <a:ext cx="9144000" cy="884520"/>
            <a:chOff x="0" y="6165720"/>
            <a:chExt cx="9144000" cy="884520"/>
          </a:xfrm>
        </p:grpSpPr>
        <p:sp>
          <p:nvSpPr>
            <p:cNvPr id="7" name=""/>
            <p:cNvSpPr/>
            <p:nvPr/>
          </p:nvSpPr>
          <p:spPr>
            <a:xfrm>
              <a:off x="0" y="6311880"/>
              <a:ext cx="91440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br>
                <a:rPr sz="1000"/>
              </a:b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Jon Curwin and Roger Slater,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QUANTITATIVE METHODS: A SHORT COURSE    </a:t>
              </a:r>
              <a:br>
                <a:rPr sz="1000"/>
              </a:b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ISBN 1-86152-991-0    © Cengage 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6165720"/>
              <a:ext cx="2343240" cy="884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Times New Roman"/>
              </a:rPr>
              <a:t>Chapter 2: Basic Su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764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Graph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Provide a visual representation of a func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Illustrate standard shape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These can be used to make comparisons to “real world” situation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Can be used to help explain a situation to others who, maybe, can’t do the algebra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Graphs (2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676520"/>
            <a:ext cx="313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Have 2 axes, often labelled X and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403848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15920" y="423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1981080"/>
            <a:ext cx="0" cy="426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49040" y="179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590920"/>
            <a:ext cx="321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here they cross, X and Y are both zero, called the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3657600"/>
            <a:ext cx="41148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449568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y point can be uniquely identified by the X and Y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19920" y="194472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62920" y="2971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208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1722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644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5410080"/>
            <a:ext cx="202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o this point is labelled (8,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105520" y="3047760"/>
            <a:ext cx="1904760" cy="2438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5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A Few Func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Constan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omething which stays the sam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Used for things like fixed cost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Linea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urprisingly powerful func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orks well even if “real” situation is not quite linea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Quadratic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ften used for cost curv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rise when try to solve problems algebraically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onstan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4191120"/>
            <a:ext cx="6933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92240" y="430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1828800"/>
            <a:ext cx="0" cy="36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96000" y="156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743200"/>
            <a:ext cx="7772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7196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91480" y="217476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72960" y="5653080"/>
            <a:ext cx="52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A constant has the same value, whatever the value of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5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5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95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Linear Functio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0920" y="5410080"/>
            <a:ext cx="526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A linear function changes proportionally to the X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It  has an equation of the form  Y = a + 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4419720"/>
            <a:ext cx="769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15920" y="4460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160020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324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5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914400" y="1904760"/>
            <a:ext cx="6172200" cy="297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924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0240" y="243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486400" y="274284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14240" y="2666880"/>
            <a:ext cx="29718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2200" y="2556000"/>
            <a:ext cx="14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 = 4 +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4320" y="31654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581280"/>
            <a:ext cx="1143000" cy="3812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5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5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9500"/>
                            </p:stCondLst>
                            <p:childTnLst>
                              <p:par>
                                <p:cTn id="5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Linear (2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0040" y="5410080"/>
            <a:ext cx="450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When the value of b in the equation is 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The graph looks like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343400"/>
            <a:ext cx="7315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63640" y="453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1523880"/>
            <a:ext cx="0" cy="36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81600" y="110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7080" y="2286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981080"/>
            <a:ext cx="7848720" cy="3505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95480" y="4460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038480" y="3429000"/>
            <a:ext cx="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057400" y="3429000"/>
            <a:ext cx="1905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9360" y="320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35000" y="2403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 = 100 – 2.5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65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8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95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5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Quadratic Functio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1536"/>
          <a:stretch/>
        </p:blipFill>
        <p:spPr>
          <a:xfrm>
            <a:off x="5715000" y="1905120"/>
            <a:ext cx="2960640" cy="327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692440" y="2819520"/>
            <a:ext cx="2308320" cy="3301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19051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 quadratic has one be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either lik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2590920"/>
            <a:ext cx="39621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8000" y="324180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r lik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3657600"/>
            <a:ext cx="175248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500"/>
                            </p:stCondLst>
                            <p:childTnLst>
                              <p:par>
                                <p:cTn id="6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65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Drawing a Quadra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5562360" cy="4172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920" y="2286000"/>
            <a:ext cx="2759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easiest way is to use a spread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ut a series of X values into a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n calculate the parts of th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Finally add across the rows to get the Y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Drawing a Quadratic (2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97160" y="2982960"/>
          <a:ext cx="5273640" cy="30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2982960"/>
                    <a:ext cx="52736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517680" y="1676520"/>
            <a:ext cx="80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Now we can plot the X and Y values, either by hand or using the spreadsheet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Roots of a Quadra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981080"/>
            <a:ext cx="260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 root is where the function crosses the X-ax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(if it do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581280" y="2590920"/>
          <a:ext cx="4886280" cy="35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2590920"/>
                    <a:ext cx="48862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09480" y="3733920"/>
            <a:ext cx="25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Here we can see the roots are at X=2 and X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4876920"/>
            <a:ext cx="350532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4724280"/>
            <a:ext cx="32767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Deal with basic algebra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Combine expressions involving power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Recognise and use basic function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Construct graphs of equation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Perform frequency coun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Roots of a Quadratic (2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1676520"/>
            <a:ext cx="628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roots can also be found algebra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standard funct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Y = aX</a:t>
            </a:r>
            <a:r>
              <a:rPr b="0" lang="en-GB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+ bX +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Either by breaking the function into 2 bracke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(X + p)(X + 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o that p times q = c,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d p + q =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For example: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f Y = X</a:t>
            </a:r>
            <a:r>
              <a:rPr b="0" lang="en-GB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– 8X 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is can be broken down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(X – 6)(X – 2) = 0 for 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o either (X – 6) = 0 and X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r  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   (X – 2) = 0 and X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se are the 2 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Roots of a Quadratic (3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600" y="1828800"/>
            <a:ext cx="80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f you find the idea of finding brackets difficult, you can always use the formula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276720" y="2522520"/>
                <a:ext cx="21333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594720" y="3432240"/>
            <a:ext cx="449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For Y = X</a:t>
            </a:r>
            <a:r>
              <a:rPr b="0" lang="en-GB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– 8X 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Remember Y=aX</a:t>
            </a:r>
            <a:r>
              <a:rPr b="0" lang="en-GB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+bX+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o  a = 1; b = -8; and c =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o we ha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34120" y="3772080"/>
                <a:ext cx="3047760" cy="20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)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±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or  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  or  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Simultaneous Equ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573200"/>
            <a:ext cx="84582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We often find a situation where two equations must both be 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These are called simultaneous equ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For 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  <a:ea typeface="Arial"/>
              </a:rPr>
              <a:t>2X + 5Y = 26     – equation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  <a:ea typeface="Arial"/>
              </a:rPr>
              <a:t>	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  <a:ea typeface="Arial"/>
              </a:rPr>
              <a:t>	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  <a:ea typeface="Arial"/>
              </a:rPr>
              <a:t>X + 10Y = 43     – equation 2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We want to find the vales of X and Y for which they are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</a:rPr>
              <a:t>both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 tr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To do this we must make the coefficients of one of the variables equal on both equation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Here we would multiply the first equation by 2;     4X + 10Y = 5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then subtract one from the other, to g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3X 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= 9,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so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</a:rPr>
              <a:t>X =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now substitute this value into one eq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3 + 10Y = 43, so 10Y = 40, and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</a:rPr>
              <a:t>Y =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Simultaneous Equations (2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79440" y="1828800"/>
            <a:ext cx="717876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You may only have used simultaneous equations for “maths” exercises at scho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ut they will be particularly useful when we look at Linear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f you have a module in Economics, you will also find yourself using simultaneous equations to find things like Market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Frequency Count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90512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Finally we will look at simple coun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For example, with a set of questionnaire results, there are only a few different answ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o we can count up how many of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se are called frequency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uch tables make it much easier to understand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For example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Frequency Counts (2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1480" y="1676520"/>
            <a:ext cx="59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f we have this data, where 1 = Yes and 2 =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519200" y="2286000"/>
            <a:ext cx="4500720" cy="2282760"/>
            <a:chOff x="1519200" y="2286000"/>
            <a:chExt cx="4500720" cy="2282760"/>
          </a:xfrm>
        </p:grpSpPr>
        <p:grpSp>
          <p:nvGrpSpPr>
            <p:cNvPr id="159" name=""/>
            <p:cNvGrpSpPr/>
            <p:nvPr/>
          </p:nvGrpSpPr>
          <p:grpSpPr>
            <a:xfrm>
              <a:off x="1522440" y="2288520"/>
              <a:ext cx="4493520" cy="2276640"/>
              <a:chOff x="1522440" y="2288520"/>
              <a:chExt cx="4493520" cy="227664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1522440" y="2288520"/>
                <a:ext cx="898560" cy="379080"/>
                <a:chOff x="1522440" y="2288520"/>
                <a:chExt cx="898560" cy="3790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572840" y="2288520"/>
                  <a:ext cx="79776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522440" y="2288520"/>
                  <a:ext cx="89856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421000" y="2288520"/>
                <a:ext cx="898560" cy="379080"/>
                <a:chOff x="2421000" y="2288520"/>
                <a:chExt cx="898560" cy="3790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471040" y="2288520"/>
                  <a:ext cx="79812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421000" y="2288520"/>
                  <a:ext cx="89856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3319560" y="2288520"/>
                <a:ext cx="898560" cy="379080"/>
                <a:chOff x="3319560" y="2288520"/>
                <a:chExt cx="898560" cy="3790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369960" y="2288520"/>
                  <a:ext cx="79776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319560" y="2288520"/>
                  <a:ext cx="89856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218480" y="2288520"/>
                <a:ext cx="898560" cy="379080"/>
                <a:chOff x="4218480" y="2288520"/>
                <a:chExt cx="898560" cy="3790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268880" y="2288520"/>
                  <a:ext cx="79776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218480" y="2288520"/>
                  <a:ext cx="89856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5117400" y="2288520"/>
                <a:ext cx="898560" cy="379080"/>
                <a:chOff x="5117400" y="2288520"/>
                <a:chExt cx="898560" cy="3790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167440" y="2288520"/>
                  <a:ext cx="79812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117400" y="2288520"/>
                  <a:ext cx="89856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1522440" y="2667600"/>
                <a:ext cx="898560" cy="379440"/>
                <a:chOff x="1522440" y="2667600"/>
                <a:chExt cx="898560" cy="3794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572840" y="2667600"/>
                  <a:ext cx="79776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522440" y="2667600"/>
                  <a:ext cx="89856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2421000" y="2667600"/>
                <a:ext cx="898560" cy="379440"/>
                <a:chOff x="2421000" y="2667600"/>
                <a:chExt cx="898560" cy="3794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471040" y="2667600"/>
                  <a:ext cx="7981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421000" y="2667600"/>
                  <a:ext cx="89856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319560" y="2667600"/>
                <a:ext cx="898560" cy="379440"/>
                <a:chOff x="3319560" y="2667600"/>
                <a:chExt cx="898560" cy="3794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369960" y="2667600"/>
                  <a:ext cx="79776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319560" y="2667600"/>
                  <a:ext cx="89856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4218480" y="2667600"/>
                <a:ext cx="898560" cy="379440"/>
                <a:chOff x="4218480" y="2667600"/>
                <a:chExt cx="898560" cy="3794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268880" y="2667600"/>
                  <a:ext cx="79776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218480" y="2667600"/>
                  <a:ext cx="89856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117400" y="2667600"/>
                <a:ext cx="898560" cy="379440"/>
                <a:chOff x="5117400" y="2667600"/>
                <a:chExt cx="898560" cy="3794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167440" y="2667600"/>
                  <a:ext cx="7981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117400" y="2667600"/>
                  <a:ext cx="89856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1522440" y="3047400"/>
                <a:ext cx="898560" cy="379080"/>
                <a:chOff x="1522440" y="3047400"/>
                <a:chExt cx="898560" cy="3790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1572840" y="3047400"/>
                  <a:ext cx="79776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522440" y="3047400"/>
                  <a:ext cx="89856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2421000" y="3047400"/>
                <a:ext cx="898560" cy="379080"/>
                <a:chOff x="2421000" y="3047400"/>
                <a:chExt cx="898560" cy="379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471040" y="3047400"/>
                  <a:ext cx="79812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421000" y="3047400"/>
                  <a:ext cx="89856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319560" y="3047400"/>
                <a:ext cx="898560" cy="379080"/>
                <a:chOff x="3319560" y="3047400"/>
                <a:chExt cx="898560" cy="3790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369960" y="3047400"/>
                  <a:ext cx="79776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319560" y="3047400"/>
                  <a:ext cx="89856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4218480" y="3047400"/>
                <a:ext cx="898560" cy="379080"/>
                <a:chOff x="4218480" y="3047400"/>
                <a:chExt cx="898560" cy="3790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268880" y="3047400"/>
                  <a:ext cx="79776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218480" y="3047400"/>
                  <a:ext cx="89856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5117400" y="3047400"/>
                <a:ext cx="898560" cy="379080"/>
                <a:chOff x="5117400" y="3047400"/>
                <a:chExt cx="898560" cy="379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167440" y="3047400"/>
                  <a:ext cx="79812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117400" y="3047400"/>
                  <a:ext cx="89856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522440" y="3426840"/>
                <a:ext cx="898560" cy="379440"/>
                <a:chOff x="1522440" y="3426840"/>
                <a:chExt cx="898560" cy="3794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572840" y="3426840"/>
                  <a:ext cx="79776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522440" y="3426840"/>
                  <a:ext cx="89856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421000" y="3426840"/>
                <a:ext cx="898560" cy="379440"/>
                <a:chOff x="2421000" y="3426840"/>
                <a:chExt cx="898560" cy="37944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2471040" y="3426840"/>
                  <a:ext cx="7981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421000" y="3426840"/>
                  <a:ext cx="89856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319560" y="3426840"/>
                <a:ext cx="898560" cy="379440"/>
                <a:chOff x="3319560" y="3426840"/>
                <a:chExt cx="898560" cy="3794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369960" y="3426840"/>
                  <a:ext cx="79776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319560" y="3426840"/>
                  <a:ext cx="89856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4218480" y="3426840"/>
                <a:ext cx="898560" cy="379440"/>
                <a:chOff x="4218480" y="3426840"/>
                <a:chExt cx="898560" cy="3794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4268880" y="3426840"/>
                  <a:ext cx="79776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218480" y="3426840"/>
                  <a:ext cx="89856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117400" y="3426840"/>
                <a:ext cx="898560" cy="379440"/>
                <a:chOff x="5117400" y="3426840"/>
                <a:chExt cx="898560" cy="3794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167440" y="3426840"/>
                  <a:ext cx="7981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117400" y="3426840"/>
                  <a:ext cx="89856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1522440" y="3806280"/>
                <a:ext cx="898560" cy="379080"/>
                <a:chOff x="1522440" y="3806280"/>
                <a:chExt cx="898560" cy="3790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1572840" y="3806280"/>
                  <a:ext cx="79776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522440" y="3806280"/>
                  <a:ext cx="89856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2421000" y="3806280"/>
                <a:ext cx="898560" cy="379080"/>
                <a:chOff x="2421000" y="3806280"/>
                <a:chExt cx="898560" cy="3790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471040" y="3806280"/>
                  <a:ext cx="79812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421000" y="3806280"/>
                  <a:ext cx="89856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3319560" y="3806280"/>
                <a:ext cx="898560" cy="379080"/>
                <a:chOff x="3319560" y="3806280"/>
                <a:chExt cx="898560" cy="3790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3369960" y="3806280"/>
                  <a:ext cx="79776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319560" y="3806280"/>
                  <a:ext cx="89856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4218480" y="3806280"/>
                <a:ext cx="898560" cy="379080"/>
                <a:chOff x="4218480" y="3806280"/>
                <a:chExt cx="898560" cy="3790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4268880" y="3806280"/>
                  <a:ext cx="79776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218480" y="3806280"/>
                  <a:ext cx="89856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5117400" y="3806280"/>
                <a:ext cx="898560" cy="379080"/>
                <a:chOff x="5117400" y="3806280"/>
                <a:chExt cx="898560" cy="3790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5167440" y="3806280"/>
                  <a:ext cx="79812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117400" y="3806280"/>
                  <a:ext cx="89856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1522440" y="4185720"/>
                <a:ext cx="898560" cy="379440"/>
                <a:chOff x="1522440" y="4185720"/>
                <a:chExt cx="898560" cy="3794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572840" y="4185720"/>
                  <a:ext cx="79776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522440" y="4185720"/>
                  <a:ext cx="89856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2421000" y="4185720"/>
                <a:ext cx="898560" cy="379440"/>
                <a:chOff x="2421000" y="4185720"/>
                <a:chExt cx="898560" cy="37944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471040" y="4185720"/>
                  <a:ext cx="7981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421000" y="4185720"/>
                  <a:ext cx="89856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3319560" y="4185720"/>
                <a:ext cx="898560" cy="379440"/>
                <a:chOff x="3319560" y="4185720"/>
                <a:chExt cx="898560" cy="3794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369960" y="4185720"/>
                  <a:ext cx="79776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319560" y="4185720"/>
                  <a:ext cx="89856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4218480" y="4185720"/>
                <a:ext cx="898560" cy="379440"/>
                <a:chOff x="4218480" y="4185720"/>
                <a:chExt cx="898560" cy="37944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4268880" y="4185720"/>
                  <a:ext cx="79776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218480" y="4185720"/>
                  <a:ext cx="89856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5117400" y="4185720"/>
                <a:ext cx="898560" cy="379440"/>
                <a:chOff x="5117400" y="4185720"/>
                <a:chExt cx="898560" cy="37944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5167440" y="4185720"/>
                  <a:ext cx="7981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117400" y="4185720"/>
                  <a:ext cx="89856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0" name=""/>
            <p:cNvSpPr/>
            <p:nvPr/>
          </p:nvSpPr>
          <p:spPr>
            <a:xfrm>
              <a:off x="1519200" y="2286000"/>
              <a:ext cx="4500720" cy="2282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08760" y="4800600"/>
            <a:ext cx="31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y counting up, we 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038480" y="4800600"/>
            <a:ext cx="4267080" cy="1066680"/>
            <a:chOff x="4038480" y="4800600"/>
            <a:chExt cx="4267080" cy="1066680"/>
          </a:xfrm>
        </p:grpSpPr>
        <p:grpSp>
          <p:nvGrpSpPr>
            <p:cNvPr id="253" name=""/>
            <p:cNvGrpSpPr/>
            <p:nvPr/>
          </p:nvGrpSpPr>
          <p:grpSpPr>
            <a:xfrm>
              <a:off x="4043880" y="4803120"/>
              <a:ext cx="4254840" cy="1060920"/>
              <a:chOff x="4043880" y="4803120"/>
              <a:chExt cx="4254840" cy="106092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4043880" y="4803120"/>
                <a:ext cx="1335960" cy="353520"/>
                <a:chOff x="4043880" y="4803120"/>
                <a:chExt cx="1335960" cy="3535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125240" y="4803120"/>
                  <a:ext cx="1172880" cy="35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Answ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043880" y="4803120"/>
                  <a:ext cx="1335960" cy="35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5380200" y="4803120"/>
                <a:ext cx="981360" cy="353520"/>
                <a:chOff x="5380200" y="4803120"/>
                <a:chExt cx="981360" cy="35352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461200" y="4803120"/>
                  <a:ext cx="818640" cy="35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Co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380200" y="4803120"/>
                  <a:ext cx="981360" cy="35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6361920" y="4803120"/>
                <a:ext cx="1936800" cy="353520"/>
                <a:chOff x="6361920" y="4803120"/>
                <a:chExt cx="1936800" cy="3535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43280" y="4803120"/>
                  <a:ext cx="1773720" cy="35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Frequenc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361920" y="4803120"/>
                  <a:ext cx="1936800" cy="35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4043880" y="5156640"/>
                <a:ext cx="1335960" cy="353880"/>
                <a:chOff x="4043880" y="5156640"/>
                <a:chExt cx="1335960" cy="3538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4125240" y="5156640"/>
                  <a:ext cx="117288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Y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043880" y="5156640"/>
                  <a:ext cx="133596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380200" y="5156640"/>
                <a:ext cx="981360" cy="353880"/>
                <a:chOff x="5380200" y="5156640"/>
                <a:chExt cx="981360" cy="3538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5461200" y="5156640"/>
                  <a:ext cx="81864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380200" y="5156640"/>
                  <a:ext cx="98136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6361920" y="5156640"/>
                <a:ext cx="1936800" cy="353880"/>
                <a:chOff x="6361920" y="5156640"/>
                <a:chExt cx="1936800" cy="3538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6443280" y="5156640"/>
                  <a:ext cx="1773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361920" y="5156640"/>
                  <a:ext cx="1936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4043880" y="5510520"/>
                <a:ext cx="1335960" cy="353520"/>
                <a:chOff x="4043880" y="5510520"/>
                <a:chExt cx="1335960" cy="3535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4125240" y="5510520"/>
                  <a:ext cx="1172880" cy="35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N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043880" y="5510520"/>
                  <a:ext cx="1335960" cy="35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5380200" y="5510520"/>
                <a:ext cx="981360" cy="353520"/>
                <a:chOff x="5380200" y="5510520"/>
                <a:chExt cx="981360" cy="3535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461200" y="5510520"/>
                  <a:ext cx="818640" cy="35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380200" y="5510520"/>
                  <a:ext cx="981360" cy="35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6361920" y="5510520"/>
                <a:ext cx="1936800" cy="353520"/>
                <a:chOff x="6361920" y="5510520"/>
                <a:chExt cx="1936800" cy="35352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6443280" y="5510520"/>
                  <a:ext cx="1773720" cy="35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361920" y="5510520"/>
                  <a:ext cx="1936800" cy="35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1" name=""/>
            <p:cNvSpPr/>
            <p:nvPr/>
          </p:nvSpPr>
          <p:spPr>
            <a:xfrm>
              <a:off x="4038480" y="4800600"/>
              <a:ext cx="4267080" cy="1066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se slides cover very basic material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y should remind you of things you have done in the pas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None are difficult in themselv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y do form the basis of much of what will be covered in the cours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f you are not comfortable with these topics, ask someone for help now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Don’t just sit back and ignore them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Remember this?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4120" y="2362320"/>
            <a:ext cx="2743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racke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xponenti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ivis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ultiplic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ddi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ubtrac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2590920"/>
            <a:ext cx="30481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hen you are doing calculations, it is important to do things in the right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Most people remember this a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BED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For Example -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4320" y="2971800"/>
            <a:ext cx="2286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20 + 6 x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e multiply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20 +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0800" y="2971800"/>
            <a:ext cx="34315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(20 + 6) x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e calculate bracket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26 x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What is Algebra?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Times New Roman"/>
              </a:rPr>
              <a:t>It uses letters instead of number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Times New Roman"/>
              </a:rPr>
              <a:t>It is a way of generalising a calculation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Times New Roman"/>
              </a:rPr>
              <a:t>That is, it creates a formula which can be used over and over again for similar sums, 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Times New Roman"/>
              </a:rPr>
              <a:t>Or it can be used to explain to others what to do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Times New Roman"/>
              </a:rPr>
              <a:t>We need to be able to manipulate algebraic expression to help understand relationship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For Example (2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1040" y="1752480"/>
            <a:ext cx="83127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o if a person saves 10% of their income, we could write this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0.1 *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here I is the person’s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is could be extended by letting s represent the proportion sav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n the amount saved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Now we have a (very simple ) formula which shows the amo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aved for any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10552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is is a very simple example, but we use algebra over and over again both to generalise and to write down formula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Working with Power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hen trying to work something out, we often find that we are multiplying the same number over and over again, for example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is happens when we try to work out interest and return on sums of money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t also happens when we are looking at probability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owers are a sort of short-hand, instead of writing out the individual items or terms,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o 2 x 2 x 2 i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Powers (2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05740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You can extend the idea of powers to algebr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o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 x a x a x a =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2400" spc="-1" strike="noStrike" baseline="30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hen a number raised to a power is multiplied by the same number raised to a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You add the po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GB" sz="2400" spc="-1" strike="noStrike" baseline="30000">
                <a:solidFill>
                  <a:srgbClr val="000099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x a</a:t>
            </a:r>
            <a:r>
              <a:rPr b="0" lang="en-GB" sz="2400" spc="-1" strike="noStrike" baseline="30000">
                <a:solidFill>
                  <a:srgbClr val="000099"/>
                </a:solidFill>
                <a:latin typeface="Times New Roman"/>
              </a:rPr>
              <a:t>6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= a</a:t>
            </a:r>
            <a:r>
              <a:rPr b="0" lang="en-GB" sz="2400" spc="-1" strike="noStrike" baseline="30000">
                <a:solidFill>
                  <a:srgbClr val="000099"/>
                </a:solidFill>
                <a:latin typeface="Times New Roman"/>
              </a:rPr>
              <a:t>3+6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2400" spc="-1" strike="noStrike" baseline="30000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f the two are divided, then you subtract the po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GB" sz="2400" spc="-1" strike="noStrike" baseline="30000">
                <a:solidFill>
                  <a:srgbClr val="000099"/>
                </a:solidFill>
                <a:latin typeface="Times New Roman"/>
              </a:rPr>
              <a:t>6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/a</a:t>
            </a:r>
            <a:r>
              <a:rPr b="0" lang="en-GB" sz="2400" spc="-1" strike="noStrike" baseline="30000">
                <a:solidFill>
                  <a:srgbClr val="000099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 = a</a:t>
            </a:r>
            <a:r>
              <a:rPr b="0" lang="en-GB" sz="2400" spc="-1" strike="noStrike" baseline="30000">
                <a:solidFill>
                  <a:srgbClr val="000099"/>
                </a:solidFill>
                <a:latin typeface="Times New Roman"/>
              </a:rPr>
              <a:t>6-3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Powers (3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73680" y="2174760"/>
            <a:ext cx="62172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re are a few special cases, 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GB" sz="2400" spc="-1" strike="noStrike" baseline="30000">
                <a:solidFill>
                  <a:srgbClr val="000099"/>
                </a:solidFill>
                <a:latin typeface="Times New Roman"/>
              </a:rPr>
              <a:t>½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is the square root of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ecause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a</a:t>
            </a:r>
            <a:r>
              <a:rPr b="0" lang="en-GB" sz="2400" spc="-1" strike="noStrike" baseline="30000">
                <a:solidFill>
                  <a:srgbClr val="000099"/>
                </a:solidFill>
                <a:latin typeface="Times New Roman"/>
              </a:rPr>
              <a:t>½+½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= a</a:t>
            </a:r>
            <a:r>
              <a:rPr b="0" lang="en-GB" sz="2400" spc="-1" strike="noStrike" baseline="30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Using the same logic, a</a:t>
            </a:r>
            <a:r>
              <a:rPr b="0" lang="en-GB" sz="2400" spc="-1" strike="noStrike" baseline="30000">
                <a:solidFill>
                  <a:srgbClr val="000099"/>
                </a:solidFill>
                <a:latin typeface="Times New Roman"/>
              </a:rPr>
              <a:t>¼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is the fourth root of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ink of a</a:t>
            </a:r>
            <a:r>
              <a:rPr b="0" lang="en-GB" sz="2400" spc="-1" strike="noStrike" baseline="30000">
                <a:solidFill>
                  <a:srgbClr val="000099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/a</a:t>
            </a:r>
            <a:r>
              <a:rPr b="0" lang="en-GB" sz="2400" spc="-1" strike="noStrike" baseline="30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You get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GB" sz="2400" spc="-1" strike="noStrike" baseline="30000">
                <a:solidFill>
                  <a:srgbClr val="000099"/>
                </a:solidFill>
                <a:latin typeface="Times New Roman"/>
              </a:rPr>
              <a:t>3-3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2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hich must b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o anything raised to the power zero is equal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0:31:40Z</dcterms:created>
  <dc:creator>dwnusr38</dc:creator>
  <dc:description/>
  <dc:language>en-US</dc:language>
  <cp:lastModifiedBy>Administrator</cp:lastModifiedBy>
  <dcterms:modified xsi:type="dcterms:W3CDTF">2007-12-07T16:17:59Z</dcterms:modified>
  <cp:revision>47</cp:revision>
  <dc:subject/>
  <dc:title>Basic Sums</dc:title>
</cp:coreProperties>
</file>