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4970-842E-4DDB-AD83-4BF5BEF64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36E5-B57A-42D8-9D2B-2F956D84A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41E3-F88F-46C8-BF74-74A54FD84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9E9-5066-4A49-A82B-DCA209EA9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90B5-5D66-4870-9BE7-8F8038B78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22A0-7133-45F1-9CF2-6E0C5CD17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1B07-3A12-4791-A38E-012558FF6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3349-2EB5-465C-BB8A-1925106C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E16E-BAF4-4FB2-8339-AEBB9A0E3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8CBC-C0F5-4118-BECB-F16DDCE24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2DDB-1435-46C4-BCAE-CED36BCE0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4015-F855-4461-8CAA-67F90748E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DB78-D2B9-40C6-841E-D3C8B3A0E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59840" y="2895480"/>
            <a:ext cx="52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OLOGY 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79840" y="228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4BF1-3F9A-4AC3-9304-E25D758850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2440" y="457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and ali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4000" y="1371600"/>
            <a:ext cx="30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uner (196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est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846D-B870-4DC2-81B4-6802E66CC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040" y="228600"/>
            <a:ext cx="46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m, rationality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1320" y="548640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vicious cycle of control (Clegg and Dunker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5240" y="1947960"/>
            <a:ext cx="755352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96D-A2F3-442D-8150-BD4ED8E495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9800" y="380880"/>
            <a:ext cx="53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m, rationality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2640" y="1301760"/>
            <a:ext cx="624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ship between control and tech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6CA5-A191-4EA7-9F1D-C987491770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44480" y="5842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2640" y="205740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1640" y="205740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7760" y="449568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46FB-8523-45A4-9FDF-17AFB5B71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0680" y="6858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1560" y="1676520"/>
            <a:ext cx="18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z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F446-A234-4561-B02B-ECBE029CD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720" y="2286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1760" y="762120"/>
            <a:ext cx="2760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levels of imp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95E9-EE8E-45AF-8B59-D6C8CB6661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6120" y="22860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4400" y="887400"/>
            <a:ext cx="318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hanan and Boddy (198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89520" y="4191120"/>
            <a:ext cx="354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synski and Sviokla (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reapporti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5A1E-2892-42AC-83BA-7E132D22B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18360" y="22860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2320" y="1066680"/>
            <a:ext cx="154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1880" y="18288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0840" y="4152960"/>
            <a:ext cx="198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7920" y="4114800"/>
            <a:ext cx="272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n work in the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838080"/>
            <a:ext cx="3124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838080"/>
            <a:ext cx="3124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733920"/>
            <a:ext cx="3124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733920"/>
            <a:ext cx="3124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0B5C-D8B7-440E-9CB1-0D5E70E1D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0480" y="22860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of technology to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0560" y="1066680"/>
            <a:ext cx="2332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sk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of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B022-0B3B-4086-9C55-EA1476676A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4840" y="3808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- a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040" y="1219320"/>
            <a:ext cx="212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ner (197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9600" y="2971800"/>
            <a:ext cx="284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x (19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48160" y="4495680"/>
            <a:ext cx="30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verman (19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1146-39B6-4F48-94CD-E79705C581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9320" y="40644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olution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17360" y="1413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8320" y="3124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160" y="3124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4648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2708-E41C-4B75-B44F-FAF9B606C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8720" y="3049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s 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600" y="914400"/>
            <a:ext cx="37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odward and produc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 or small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batch or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ous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38960" cy="356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4DA3-08F7-420F-ADBC-C2740CE9E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400" y="3049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s 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1360" y="914400"/>
            <a:ext cx="425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 and Stalker - stability and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tic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mic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4520" y="2133720"/>
            <a:ext cx="526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ow - a continuum from routine to non-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7120" y="2819520"/>
            <a:ext cx="45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pson - resource and technology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-lin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22760" y="434340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5483-41A1-4667-9D7E-9916D4428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3301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pectives 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8840" y="1143000"/>
            <a:ext cx="759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mer and indust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industrial technolog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ation as one form of technologic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lanted indust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126C-AACE-4B58-BCA7-5D748B63D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ization, technolog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381024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atures (Oliver and Wilkinso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ust i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e an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nel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am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619760" cy="329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2821-6A2B-48BE-91BF-F8AA75EE1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0240" y="33012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 about tech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1295280"/>
            <a:ext cx="177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sk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41B3-CF72-4CFE-B0CD-332FBEB15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2440" y="45720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tics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90840" y="1371600"/>
            <a:ext cx="49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or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our process deb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to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control over work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e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ll leve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50DB-88E6-4FFA-9CAF-DC4CB49EC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2:23:18Z</dcterms:modified>
  <cp:revision>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26022772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