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9785-1CBB-42A8-9692-FB6369AB0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B5A3-8242-41E8-A2ED-7D8022F52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7723-8AF3-41B3-8376-D3CDD2188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76B8-D3CC-4256-A1A7-452A8971AE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EAE2-3BB1-4A9B-AB0A-1B03BD6E0A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80FA-FBCA-44A4-9DC0-5179D6764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6AA5-A7C5-4C7D-BD86-DCC9E6480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066A-E913-4148-BEEF-0CA25DF5D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8F80-53BB-42F6-98A3-3EC248902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E745-4911-474B-8A53-A707D2D61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5EFE-F677-4A40-BB73-8B9575375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8285-4BDF-437A-87DC-634FB02BC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2163-1C97-46A8-BA7B-14E53082B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3160" y="1981080"/>
            <a:ext cx="410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ZAT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HAVIOUR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8241-0558-48FB-9909-11E2FF088FB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80880"/>
            <a:ext cx="70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OF AN ORGAN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30176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Organizations are collections of people working together in a co-ordinated and    structured fashion to achieve one or more goals” - Barney &amp; Griffin (1992, p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Organizations are “consciously created arrangements to achieve goals by collective means” - Thompson &amp; McHugh (1995, p.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Organization: a social arrangements for achieving controlled performance in pursuit of collective goals” - Huczynski &amp; Buchanan (2001, p.88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1A16-FBB5-486E-90BC-7C6DFF181E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27760" y="1301760"/>
            <a:ext cx="64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anager acting on behalf of an absentee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anager acting as the agent of the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ng in loco-paren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572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 LOOK A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A232-02D4-4733-A277-1226B11878D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wo major differences identifiabl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agement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73844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6486480" cy="125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E822-2A7D-4096-9BEB-2DD2B354E3F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AG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TAINS THREE MAIN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580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rection or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urces need to be provided and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ople management –employees responsible to the manager actually achieve the organizational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998D-67E6-43CC-B00C-73ABF33D7E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72680" y="380880"/>
            <a:ext cx="70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NAGEMENT OF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21932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Why organizations need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Why managers nee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Factors that create a reciprocal need between managers an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us/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P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fe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c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FEA9-9DD2-4E58-B00B-422C77FC110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IRST LOOK AT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7396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e of a number of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rs are also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ditional view was that employees ‘did’ while managers ‘though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ster and ser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liance vs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42BE-A0A9-4FD9-95F1-E325FE41BA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19000" y="790560"/>
            <a:ext cx="7506000" cy="527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4A2D-1EF0-42FA-9978-A7FF75536E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47920" y="380880"/>
            <a:ext cx="69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LLENGES FAC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9040" y="1143000"/>
            <a:ext cx="601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volutionar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volutionar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PESTLE Analysis (Johnson &amp; Scholes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cial/cultur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vironmental/eth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63880" y="6742080"/>
          <a:ext cx="5275440" cy="11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3880" y="6742080"/>
                    <a:ext cx="5275440" cy="1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ED0B-0479-4EBF-8126-5EDDA75E40BF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762120"/>
            <a:ext cx="7467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GANIZATIONAL BEHAVIOUR INVOL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DISTINCT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discipl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F3C6-5B33-496B-81B2-192BBB19EB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57240" y="457200"/>
            <a:ext cx="542952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E252-D718-484F-AC65-EBA0AC780C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STUDY ORGANIZATIONAL 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jobs contain a technical and people oriented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eer development is a competitive process invol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agues and selectiv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ganizational change is ever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ganizations are complex, dynamic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4D3C-CB5C-4B08-B224-746E319D7D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TO STUDY ORGANIZATIONAL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all the organizations that you have been involv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nk about all of the jobs that you hav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nk about the movies , books and games that involve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grate all your experience and reading about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887D-A2C0-4D58-A6BF-B7BBB2C83B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21044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71600" y="3276720"/>
            <a:ext cx="618156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50B8-8A48-40E3-8DD5-28A8FF51AA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3360" y="1838160"/>
            <a:ext cx="8477280" cy="318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5EAE-6196-42BD-A9C7-B1EC8206EE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AND ORGANIZATIONAL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vel of research can b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ganiz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ci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C533-7CCE-49F0-A353-C0C28AB533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IRST LOOK AT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1680" y="809640"/>
            <a:ext cx="6200640" cy="52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AC7C-2627-4F3A-836F-502D01CA74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20:59:29Z</dcterms:created>
  <dc:creator>Mark Nutter</dc:creator>
  <dc:description/>
  <dc:language>en-US</dc:language>
  <cp:lastModifiedBy>z</cp:lastModifiedBy>
  <dcterms:modified xsi:type="dcterms:W3CDTF">2005-02-27T16:17:03Z</dcterms:modified>
  <cp:revision>2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1447537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PowerPoint</vt:lpwstr>
  </property>
  <property fmtid="{D5CDD505-2E9C-101B-9397-08002B2CF9AE}" pid="6" name="_ReviewingToolsShownOnce">
    <vt:lpwstr/>
  </property>
</Properties>
</file>