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9077-807B-4C26-9902-26D3EC3C2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4DA9-F148-4296-95F5-C33D18A08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CD59-5B27-48B1-A9B9-D13B49B04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FDEB-C458-4ABB-B1B9-13827B3EF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7482-1E57-4F3B-9799-89CD8B38B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DB55-D1DA-4B7A-93AC-261877C6E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08BE-563C-4A15-A914-DACA0CDD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A75D-93A6-4EA0-A0CA-5745909B8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5EF7-1CF1-484F-849C-6A1EBF823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1A2E-DFE4-47CA-B2A2-42095CBD6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4044-F8D7-45F5-8F06-7D042FE34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AC5A-B01A-4441-9E50-61F1E4EF5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57D-4210-4419-80CA-6C07AD3B3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59440" y="289548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ER 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56160" y="22096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854A-6C2E-463B-80E8-5E174A2BA9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2080" y="7621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, control and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9400" y="182880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istance to the exercise of power is not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2080" y="2708280"/>
            <a:ext cx="736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verman (1974) - the reaction of workers to the degradation of work for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on them would ‘continue as a subterranean stream that makes its 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surface when employmen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, or when the capitalist drive for greater intensity of labour over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ounds of physical and mental capacit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1000" y="48769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ers can resist the attempts of senior managers to direct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cause their objectives can di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00FC-A0F4-4021-A1D0-2A98E6AC3E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800" y="30492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control: an appli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69360" y="990720"/>
            <a:ext cx="62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zioni (1975) categorization of po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tilita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erc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ee caveats to the use of power in an organiz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tter (1977) - characteristics shared by managers who are abl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 and manage power effective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u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er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r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FBCC-266D-4BBA-BE4B-398AE4712D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5480" y="68580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control: an appli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523880"/>
            <a:ext cx="761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rpasson and Dany (2003) suggest that different forms of power 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erging because of short-term employment. What they term – moral obed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 through discipline – various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rial discip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am discip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f-discip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AB14-6376-473F-BB50-A257DC7A8B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1680" y="2286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, influence an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15600" y="1085760"/>
            <a:ext cx="64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feffer (1992) - power - ‘the potential ability to influence behaviou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course of events, to overcome resistance, and to 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ople to do things that they would not otherwise do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760" y="252396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many positions in an organization that do not have any formal autho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t the individuals are able to exercise considerable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440" y="3747960"/>
            <a:ext cx="77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ty has been described as the legitimate expression of power (Handy,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0280" y="458136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ster Barnard - authority - ‘The character of communication in a for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 by virtue of which it is accepted by a contributor to or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organization as governing the action he contributes; that is, as gove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determining what he does or is not to do so far as the organization is concerne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1679-2DD3-4B73-A3F2-3775BBFAF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2880" y="45720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perspectives 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9520" y="1371600"/>
            <a:ext cx="775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istence of three fea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umans with needs, wants and desires that can only be met through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gaging with the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existence of resources through which these needs and wants can be 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existence of a manager who is prepared to act as a go-between in facilit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eal between the individual and the organization and subsequently man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s realization in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wer is a commo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wer level employees can also gain and exercise power in a number of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DFC8-D5A5-42E0-882A-1251DEEBD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19560" y="22860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cault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7960" y="130968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is a condition that exists in society as a w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080" y="1995480"/>
            <a:ext cx="84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in this context uses discourse to create the rules which in turn creates and classif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knowledge available in particular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39280" y="2909880"/>
            <a:ext cx="62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the hierarchical framework to be perpetuated as legi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560" y="36720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aries - artificial and socially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240" y="4371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ention div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5195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A292-386E-4E5E-84E1-43A3D4112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7040" y="45720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ur process theory and Lukes’ view 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7120" y="1484280"/>
            <a:ext cx="788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ur process theory: originated from the Marxist tradition - ‘the means by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w materials are transformed by human labour, acting on th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ools and machinery first into products for use and,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ism, into commodities to be exchanged on the marke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79720" y="3860640"/>
            <a:ext cx="696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kes (1982) - three dimensional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dimension - reflects the nature of power as described in lit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dimension - th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dimension - concepts of hegemony, incorporation, dependency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ction underpin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3280" y="314172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ufacture of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2D15-C40D-418A-9437-55D95A3DB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00" y="22860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organization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6960" y="907920"/>
            <a:ext cx="66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ch and Raven (1968) and Raven (1993) - sources of power with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ocia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0720" y="1905120"/>
            <a:ext cx="17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rciv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905120"/>
            <a:ext cx="16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ward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9280" y="2362320"/>
            <a:ext cx="19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itimat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3760" y="236232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3640" y="2852640"/>
            <a:ext cx="17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5080" y="40384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y (1993) - a sixth form of po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240" y="5105520"/>
            <a:ext cx="17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8920" y="29242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ormation as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697D-BAFA-44BF-9D86-514978951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22860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67280" y="942840"/>
            <a:ext cx="67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feffer (1992) - three aspects of decision making that provide po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s change n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quality requires retrospectiv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ce d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5040" y="2638440"/>
            <a:ext cx="733392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B840-FFD1-4ECC-87FF-71E32B206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5880" y="38088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with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7240" y="1066680"/>
            <a:ext cx="6717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wo opposite aspects to existence of contro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is of order and predictability in operationa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 is restrictive, lacks flexibility, is manipulative and gree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regard to abolition of personal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uczynski and Buchanan (1991) control has a number of conno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5904-FE8D-4E20-8C08-15DC23F92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1080" y="38088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nd characteristic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94800" y="1143000"/>
            <a:ext cx="3227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s of contro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y and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1720" y="4437000"/>
            <a:ext cx="61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egg and Dunkerley (1980) – Vicious cycle of control –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wnward spiral of tighter control leading to negative employ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haviours leading to tight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9A82-08A9-4322-AA6A-DEB5DB6BD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3T08:02:28Z</dcterms:modified>
  <cp:revision>14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3785723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last powerpoint</vt:lpwstr>
  </property>
  <property fmtid="{D5CDD505-2E9C-101B-9397-08002B2CF9AE}" pid="6" name="_ReviewingToolsShownOnce">
    <vt:lpwstr/>
  </property>
</Properties>
</file>