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87B3E-714E-4FC1-9D14-4B1D90C0EA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B3E95-2C7F-452A-85CB-EF2BE4D87A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6C980-891A-4264-8987-69B3A9BCF2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C5079-C04F-4D1D-8781-85F5C252EA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750E7-9F8A-4970-AF1D-12F1897779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3D7F9-10B5-482D-844C-2464A1188C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1DB48-25EC-43EB-BF55-D20EF519E7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36778-0E36-4AFE-A031-DD18560BDE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92AF0-83CF-4938-B705-6D052EF360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A83CE-4293-4D21-A1C3-8DADB3757B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1DCFE-403F-46D6-BFC3-7D3DD632A7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BC187-ECAB-45AB-A8B4-FAB6FC0249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or use with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ARTIN, ORGANIZATIONAL BEHAVIOUR AND MANAGEMENT 3e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  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ISBN 1-86152-948-1 </a:t>
            </a:r>
            <a:r>
              <a:rPr b="1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 Copyright © 2005 Thomson Learning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52280" y="6362640"/>
            <a:ext cx="1447920" cy="41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F352-397A-46DA-A103-DD168CE322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6120" y="2895480"/>
            <a:ext cx="7608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, DECISION M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NEGO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56160" y="2133720"/>
            <a:ext cx="193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66B64-2380-484E-971B-229519A54AB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0880" y="380880"/>
            <a:ext cx="428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-solving p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49240" y="1447920"/>
            <a:ext cx="39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ompson and Tuden (195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ferences for out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liefs without cau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41F7B-69AE-4036-A126-BBCC5F781D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38088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sion making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52440" y="1301760"/>
            <a:ext cx="6739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ional and Restricted nationality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tic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ed and non-programmed decision m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gmatic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cl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AD446-24F5-4878-B4E6-05865B3F38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200" y="228600"/>
            <a:ext cx="46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aches to decision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1143000"/>
            <a:ext cx="7338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clusions from comparing programmed and non-programmed approaches to decision mak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Vari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mployee sk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rganization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0B9BA-E5BE-4E37-BFC5-50A2B2AA3F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280" y="60480"/>
            <a:ext cx="27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sion making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86000" y="852480"/>
            <a:ext cx="4572000" cy="515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D2D2F-8DCA-4CA4-BF7E-E8D28A4B6A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63600" y="971640"/>
            <a:ext cx="446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otiating and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39600" y="1871640"/>
            <a:ext cx="33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otiation is defined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53080" y="2862360"/>
            <a:ext cx="4606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resolution of dif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exchange of something mutually sought b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oth pa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making of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B4662-F39F-47AE-84B6-F98002BEC3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5000" y="1522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otiating tac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94560" y="990720"/>
            <a:ext cx="268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rrington and Hall (198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oid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oot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rom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fro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1960" y="1676520"/>
            <a:ext cx="3487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n-lose tac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t/g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o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od guy/bad g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ker 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aging the min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derstanding not agre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tting upstai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080" y="3657600"/>
            <a:ext cx="4235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sher and Ury (198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incipled negoti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parate the people from the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ocus on interests not pos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vent options for mutual 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sist on objective crit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36447-548A-4A3A-89FE-6172083F53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actors influencing negotiation tac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85920" y="1380960"/>
            <a:ext cx="8372160" cy="409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3BC16-EBB1-402E-A589-0FD3E68D8C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gotiator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ccessful negotiators ten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ek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mm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bel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ccessful negotiators avo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rrit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fend attack spi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erpropo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gument di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BA4FA-858E-4A07-B758-9E020C4D0D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72240" y="304920"/>
            <a:ext cx="62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, decision making and nego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4600" y="914400"/>
            <a:ext cx="763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every act of communication involves decision making or negot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09680" y="2076480"/>
            <a:ext cx="4724640" cy="318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CE400-B5CC-4E32-8AF3-8B8F9750C0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8280" y="0"/>
            <a:ext cx="40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cations within organiz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80" y="787320"/>
            <a:ext cx="5257800" cy="2793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181320" y="3200400"/>
            <a:ext cx="5657760" cy="301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FE1A9-534A-44CA-9310-6BFDBE8D55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8280" y="0"/>
            <a:ext cx="40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cations within organiz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3929040"/>
            <a:ext cx="784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cations in large organizations needs to be managed carefull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mi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am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p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19280" y="847800"/>
            <a:ext cx="5848200" cy="227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37677-1580-4740-9465-6284723422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38080" y="609480"/>
            <a:ext cx="26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2320" y="1398600"/>
            <a:ext cx="5261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munication  - four general f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ormation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-ord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s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rsonal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thods of commun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ri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n-ver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94CE2-99A3-475A-90F2-33B9C14609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-11520" y="0"/>
            <a:ext cx="510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ating arrangements impact on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2520" y="2205000"/>
            <a:ext cx="8238960" cy="244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CBE96-F32F-4F51-957D-E4B6E95665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0600" y="304920"/>
            <a:ext cx="34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mmunica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981000"/>
            <a:ext cx="8001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veral stages in a circular proces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urce encodes idea into a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urce transmits the message to 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ceiver captures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ceiver decodes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ceiver interprets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ceiver encodes a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ceiver transmits the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urce captures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urce decodes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urce interprets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urce encodes a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l of these stages are ‘contaminated’ by surrounding ‘noise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D356E-C06F-48EB-A480-94E2B49FA5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99520" y="38088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ersonal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81160" y="2376360"/>
            <a:ext cx="6781680" cy="210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9D703-451B-41A1-9178-746CA94ED6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3560" y="228600"/>
            <a:ext cx="48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 making within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67000" y="2071800"/>
            <a:ext cx="6210000" cy="271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E87D7-2FF2-4AC9-9C63-C7CFC01267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08:16:26Z</dcterms:created>
  <dc:creator>Profile9</dc:creator>
  <dc:description/>
  <dc:language>en-US</dc:language>
  <cp:lastModifiedBy>z</cp:lastModifiedBy>
  <dcterms:modified xsi:type="dcterms:W3CDTF">2005-03-03T07:54:44Z</dcterms:modified>
  <cp:revision>5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01190270</vt:r8>
  </property>
  <property fmtid="{D5CDD505-2E9C-101B-9397-08002B2CF9AE}" pid="3" name="_AuthorEmail">
    <vt:lpwstr>john.hoodmartin@virgin.net</vt:lpwstr>
  </property>
  <property fmtid="{D5CDD505-2E9C-101B-9397-08002B2CF9AE}" pid="4" name="_AuthorEmailDisplayName">
    <vt:lpwstr>John Martin</vt:lpwstr>
  </property>
  <property fmtid="{D5CDD505-2E9C-101B-9397-08002B2CF9AE}" pid="5" name="_EmailSubject">
    <vt:lpwstr>PowerPoint</vt:lpwstr>
  </property>
  <property fmtid="{D5CDD505-2E9C-101B-9397-08002B2CF9AE}" pid="6" name="_ReviewingToolsShownOnce">
    <vt:lpwstr/>
  </property>
</Properties>
</file>