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DECD-E9CA-441C-97D7-8E9185E35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6FFC-B1A4-4521-87AF-A585D8AA5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11E2-13DC-45F6-9C47-E09FBBC90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F874-5DFF-444F-BD1B-BBE410F0B0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AE29-E7CA-440F-80D2-7E486E234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5B0B-7AE5-4938-A225-D7CF87749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A55D-2DC9-4A3A-81BE-5EF9455F2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105A-C0EE-407A-852A-F35E2038F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FCB9-1AE9-4A68-B1C5-D816F0398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6401-16AD-4FF2-9B27-BB7A51C1F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7256-B4BF-400D-A22B-96F6B20D9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C938-4931-4436-8C78-513415327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474A-6064-414B-B8D2-80C692A24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7840" y="2895480"/>
            <a:ext cx="639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AL STRU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21337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03B1-0C8C-44C0-82DE-70C52B5219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4360" y="1523880"/>
            <a:ext cx="831528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3AF4-9595-4669-9601-8F4050BF1B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6000" y="669960"/>
            <a:ext cx="345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Aston studies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nge and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titutional arran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ltiple persp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55840" y="28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640" y="76320"/>
            <a:ext cx="48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gency model of an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38120" y="2924280"/>
            <a:ext cx="8267760" cy="27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9AB7-3934-45D6-8628-DC6DAF25A6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8640" y="0"/>
            <a:ext cx="37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pen systems view of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0080" y="1747800"/>
            <a:ext cx="7143840" cy="33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AE23-6AEB-4C30-984D-002B0EB47F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99880" y="22860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al lif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3480" y="1049400"/>
            <a:ext cx="27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nn and Cameron (19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repreneurial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ivity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lization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boration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04640" y="280188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tz and Kahn, and Cameron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al 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15440" y="3792600"/>
            <a:ext cx="5548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tten (1980) identified four response options to 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5D9A-5614-44E1-9B73-7F92CA92F4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6440" y="1522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2480" y="685800"/>
            <a:ext cx="65923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st important decision areas that can influence the design of an organiz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m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ob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entr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-ord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248680" cy="28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C6E4-368A-4BD2-80F4-86C80FF6C7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4680" y="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preneuri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2295360"/>
            <a:ext cx="8382240" cy="22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A727-5E60-46EE-9E5D-CB86D4AAD3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6800" y="1522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based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6800" y="709560"/>
            <a:ext cx="180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auton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4160" y="4191120"/>
            <a:ext cx="2651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tivation an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quisition and di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84120" y="4343400"/>
            <a:ext cx="215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rt-term persp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lativ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ustomer con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0524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EDF9-E2B0-473E-A9A7-A29170B9D0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1440" y="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based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71760" y="4267080"/>
            <a:ext cx="1452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6320" y="4267080"/>
            <a:ext cx="1821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-ord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dget 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cc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39080" y="20811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 Figure 15.12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6496200" cy="321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B8E3-84AB-4C56-8AC0-6B36C1A1E9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5760" y="3808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activity – fo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3760" y="1143000"/>
            <a:ext cx="330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5F48-0048-415F-B82D-D912BE7717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9080" y="304920"/>
            <a:ext cx="40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2000" y="990720"/>
            <a:ext cx="75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ys in which international activities can be incorporated into the organiz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8760" y="15238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3916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5591-0123-44F8-89AC-F9413E4299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6520" y="15228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perspectives on deter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7680" y="762120"/>
            <a:ext cx="274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chnological determi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vironmental determi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54240" y="58672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ial 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353280" cy="382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0E46-187A-4C0E-BF19-127BF9F07E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5053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33360" y="1362240"/>
            <a:ext cx="8477280" cy="45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85A6-75EC-46AD-9AD6-9BB5FE2AA1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76212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graphic business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3560" y="22860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9600" y="1981080"/>
            <a:ext cx="8524800" cy="312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8A15-841F-4578-BC32-4218F376A5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560" y="15228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7720" y="68580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unctional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5200" y="2228760"/>
            <a:ext cx="8553600" cy="29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0730-F40E-427B-B1B4-24FC27BFE9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3049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lding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6840" y="1295280"/>
            <a:ext cx="217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6720" y="1219320"/>
            <a:ext cx="2280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-ow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3633-ACAD-427D-8C4B-24269D80CB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7560" y="0"/>
            <a:ext cx="37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and project-based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30120" y="495288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iculties with matrix structu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920" y="5357880"/>
            <a:ext cx="217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lexity of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lit account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ck of clear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6520" y="5357880"/>
            <a:ext cx="267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lit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reased political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quires specific 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2720" y="62485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0" y="723960"/>
            <a:ext cx="6267600" cy="38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E415-55A0-41D3-8D03-E279A97091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73480" y="2286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exible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2360" y="99072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kinson (198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1680" y="232416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erical flex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21400" y="23241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al flex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7560" y="464832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flex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F2AB-A652-463C-B7D4-154EA47361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24200" y="395280"/>
            <a:ext cx="31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5400" y="3352680"/>
            <a:ext cx="20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 hierarc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6320" y="335268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4240" y="335268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24ED-0F06-4AD1-A26C-2AF8CB5BC0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73320" y="3808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rtual, federal and networke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143000"/>
            <a:ext cx="797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etaphor for an organization that appears to be larger and capable of produ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re than its resources would 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emporary network of independent organizations for a specific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ey less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rry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lay f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ffer the b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fine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on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ederal organization reflects the joining together of separate groups under a 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dentity for a specific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DF8F-BE11-496E-A19C-19A987A9E4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52760" y="685800"/>
            <a:ext cx="38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mrock and triple I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4876920"/>
            <a:ext cx="3454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iple 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960" y="1522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ternative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3440" y="1724040"/>
            <a:ext cx="6438960" cy="277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DA56-3751-4110-8BA8-7CE1086AD0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1040" y="114300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514600"/>
            <a:ext cx="496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human service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-operative and kibbu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33CB-51E0-407D-9C31-0B85969CFF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9960" y="15228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er and bureau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520" y="685800"/>
            <a:ext cx="148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is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ional-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62040" y="2286000"/>
            <a:ext cx="6819840" cy="391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6902-A9F9-4372-8955-16EDA1A397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92400" y="4572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influencing organization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233360"/>
            <a:ext cx="7925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are a number of departments, functions, activities or components to be fitted together within a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gration processes are needed to support a particular organiza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ntzberg’s structural compon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ior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ddl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ctional core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chnical support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ministrative support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6D09-F806-4FBC-9F10-C6CFE17462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98800" y="30492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influencing organization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3400" y="990720"/>
            <a:ext cx="494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ndy (1993) - categories of organizational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7720" y="3121200"/>
            <a:ext cx="298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ild (1988) - six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porting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l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1F66-136F-43D7-A5A6-C47EC9E227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5720" y="1522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ting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080" y="685800"/>
            <a:ext cx="8431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eans by which organizations can describe the structure and reporting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re are severe limitations in the ability of the organization chart to reflect what actu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ppens within the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38400" y="2124000"/>
            <a:ext cx="6667200" cy="420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4518-D5E5-4875-80F9-0E5CA296EF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742120" y="471600"/>
            <a:ext cx="34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7840" y="1828800"/>
            <a:ext cx="81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other ways of reflecting how an organizatio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4240" y="28195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97880" y="38862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8642-07D2-4FE4-885B-E32FD459A2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10080" y="0"/>
            <a:ext cx="48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al design: an applied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1520" y="1838160"/>
            <a:ext cx="8400960" cy="318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E6B5-1E4A-42D3-8F19-6BD81C2214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9480" y="304920"/>
            <a:ext cx="34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uldner and bureau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2920" y="1371600"/>
            <a:ext cx="52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uldner (1954) suggested three types of bureaucrac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7440" y="26668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6668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6320" y="464832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07F9-F352-47EC-8C5A-3F288EFFB3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5480" y="15228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yol and classical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8160" y="685800"/>
            <a:ext cx="42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perations necessary to run a compa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1760" y="1143000"/>
            <a:ext cx="145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83892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E373-BD65-447E-9C66-E174C89570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71560" y="2448000"/>
            <a:ext cx="740088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F348-B218-4464-B2E1-E9C3A3E8D5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1720" y="6094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cault - power and control through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120" y="1600200"/>
            <a:ext cx="1863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315E-88C5-4DA1-A732-E1B98E1EF3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972520" y="53352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as thea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4400" y="19810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man and Deal (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28160" y="3203640"/>
            <a:ext cx="70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rangement of space, lighting, props and cost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the organiz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 vivid and credible to its audienc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92DE-766F-4A35-9633-E9ABA726A2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77280" y="30492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ddens and structur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0960" y="838080"/>
            <a:ext cx="74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nstantly repeated patterns of interaction (or lack of it) that form the b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feeling that structure is certain and end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160" y="16765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inbuilt contradiction with this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200720" cy="27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E1F4-240D-4C42-BE77-9A0C431D4A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2T22:54:03Z</dcterms:modified>
  <cp:revision>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11509361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