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257B-9AC9-488B-8315-D252F6979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8A60-702A-4693-9398-AA9DDD7D7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D31A-76F1-4C98-B349-99A47211F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054A-B031-4706-82BA-6D91624A0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6505-8090-493A-AD85-11585EE5F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8380-27BC-48EB-8BBC-BB98D1880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4204-66B3-4E2E-9F32-C5E17DFA3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1062-0C82-4B4B-9ADA-C84EB5E66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EDC5-418C-48B1-B6A2-AED8E82E4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48DC-E647-40A1-B371-8CF5AFF78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762C-93A0-43C0-8258-DAB839316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E79C-5F38-47F2-A365-720469903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880-B69F-49EC-92A8-3BE5AF077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70120" y="2895480"/>
            <a:ext cx="38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880" y="216360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E01C-9DD9-40B3-B8F3-D0C4CE2F21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9680" y="152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and experiential learn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440" y="758880"/>
            <a:ext cx="439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ialization provides a great deal of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lb (1985) - Learning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crete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lective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stract concept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erimentation in new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3238560"/>
            <a:ext cx="8229600" cy="255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E7BF-A8E4-4FC7-B1CB-DB75CAF038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3049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and experiential learning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06668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development process implied by the social learning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learning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direct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process rather than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development as an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development for organizations as well as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B8AA-8004-4753-9CB1-032AB164C4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1840" y="31896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pproaches to learning withi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4300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ization: sitting by Nel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rning sty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f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o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agmat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lent, skill and compe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on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lture of an organization impacts on the level and form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rning withi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8EE9-42AF-4A84-83E3-856EF6047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6840" y="304920"/>
            <a:ext cx="38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4000" y="1076400"/>
            <a:ext cx="712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mford (1989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couragement for managers to accept responsibility for identific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ir own training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couragement for managers to set themselves challenging 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mployees - regular performance reviews an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couragement for managers to identify lear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stioning attitudes to accepted ways of doing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eptance that when learning some mistakes are inevi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job training and other lear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C728-8F83-473D-9390-F895E8081D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5791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gle, double and triple loop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gle loop learning - the learning involved in the acquisition of a skill – trial and error, problem solving involving making choices from a limited range of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loop learning – reflects the decision process in identifying what should be learned from the level on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iple loop learning (Flood and Romm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one – the ‘how’ aspect of organization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two – the ‘what’ aspect of organizationa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three – the ‘why’ aspect of organizationa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68CD-5091-488D-B7EF-A8647A452A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gle, double and triple loop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ge (1990) The Fifth Discipline – uses double loop learning as a way to create the learning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ve disciplines inv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s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al M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hare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m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67FD-A885-4688-A9C7-D229C7DF16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080" y="15228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8200" y="838080"/>
            <a:ext cx="8343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is a commo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s are trained to absorb management’s values and n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forms of knowledge within a compa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t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that specialise in selling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-related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mulated knowledge and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flows around a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 seek to contro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management strategies need to be grounded in the concept of wis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loyd (1999) - wisdom is knowledge with a long shelf-life, whereas data a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very short shelf-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A0BC-2612-4512-A94D-ABEF5AB33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6480" y="3808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within an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1360" y="1219320"/>
            <a:ext cx="30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arning through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raining process in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arning event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ining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mblin (19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b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ltimat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D950-337E-4544-AFDD-EC1A5EB68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1680" y="3049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has many applications withi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066680"/>
            <a:ext cx="35053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uction of new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itial job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sequent job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ining on transfer or 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ining for special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13652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ialist career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er’s career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 for directors and senior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b termination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ial initiative training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2DF6-020B-44CF-B21F-42F72C252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0640" y="47160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, training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4792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 – to unfold more fully, to bring out all that is potentially contained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ucate – to bring up so as to form habits, manners, intellectual and physical ap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in – to instruct and discipline in or for some particular art, profession, occupation or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 of the above assume some form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akes place within the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68560" y="6742080"/>
          <a:ext cx="5275440" cy="11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8560" y="6742080"/>
                    <a:ext cx="5275440" cy="1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BF74-8786-47FC-BE26-6A9B0C9CB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7080" y="609480"/>
            <a:ext cx="762984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7047-097E-497A-843B-93B1B8A2C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160" y="30492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, training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7600" y="1143000"/>
            <a:ext cx="440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imp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e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is influ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esults fro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249F-5E0D-494A-992D-2F1922548A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009800"/>
            <a:ext cx="8124480" cy="483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15FC-2B0D-4712-9F96-A6944D294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7160" y="22860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urist theories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85680" y="1228680"/>
            <a:ext cx="717264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ACB0-59DD-4195-BED4-08D0BCD6E9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kinner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strument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1080" y="1157400"/>
            <a:ext cx="6981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03FD-0846-4B76-989A-025F4A3E21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040" y="152280"/>
            <a:ext cx="57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l conditioning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765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nforcement used to shape behaviour pattern des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nforcement schedu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840" y="838080"/>
            <a:ext cx="27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nforcement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8156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4F80-7DCE-470D-9D8F-23ACD3F72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320" y="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approaches to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771480"/>
            <a:ext cx="8105760" cy="22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6600960" cy="27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663C-8B05-4754-BD67-72BE66E4B7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2-28T22:11:26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0498843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Next four chapters</vt:lpwstr>
  </property>
  <property fmtid="{D5CDD505-2E9C-101B-9397-08002B2CF9AE}" pid="6" name="_ReviewingToolsShownOnce">
    <vt:lpwstr/>
  </property>
</Properties>
</file>