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76442-2089-41CA-9198-9E8E1BB8BE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03EDB-6660-413D-85AE-86F8FFBD08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73562-9507-4E2E-9907-BCE0B6D48A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8DFE4-2A17-45D3-8446-4E77B90CA8A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DBF04-556E-4D64-B8C5-DA35554F942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4BD9F-13FD-4A33-9410-B13EE248A1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96E7C-EA96-499A-83B9-34F60B07F7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4AB66-9DE0-45EB-964B-7FCC5EEEEF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515F9-AC61-4346-BC19-519F7CCFDE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55AF7-B573-440E-8E27-A0611AE4FF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E238E-3DF7-4B5D-9F96-6B452C9D8A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851FA-17FB-4132-86DC-8F7397BA64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For use with</a:t>
            </a: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MARTIN, ORGANIZATIONAL BEHAVIOUR AND MANAGEMENT 3e</a:t>
            </a: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   </a:t>
            </a:r>
            <a:br>
              <a:rPr sz="1000"/>
            </a:b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Times New Roman"/>
              </a:rPr>
              <a:t>ISBN 1-86152-948-1 </a:t>
            </a:r>
            <a:r>
              <a:rPr b="1" lang="en-US" sz="10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Times New Roman"/>
              </a:rPr>
              <a:t> Copyright © 2005 Thomson Learning</a:t>
            </a: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152280" y="6362640"/>
            <a:ext cx="1447920" cy="419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>
          <a:xfrm>
            <a:off x="7162560" y="64771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1B776-1EC7-434C-B6FD-4FA3B23051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89720" y="2895480"/>
            <a:ext cx="350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DERSHIP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GANIZ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732840" y="2286000"/>
            <a:ext cx="173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cture 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710080" y="685800"/>
            <a:ext cx="376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hio State University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126960" y="1752480"/>
            <a:ext cx="274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sider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823480" y="3962520"/>
            <a:ext cx="35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itiating stru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760760" y="395280"/>
            <a:ext cx="567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kert’s four systems of manag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29560" y="1905120"/>
            <a:ext cx="330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ystem 1 - Exploitative autocrat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54920" y="1905120"/>
            <a:ext cx="322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ystem 2 - Benevolent autocrat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12960" y="4343400"/>
            <a:ext cx="237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ystem 3 - Participa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790240" y="4267080"/>
            <a:ext cx="228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ystem 4 - Democrat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2280" y="1523880"/>
            <a:ext cx="3962520" cy="1143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876920" y="1523880"/>
            <a:ext cx="3962160" cy="1143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52280" y="3962520"/>
            <a:ext cx="3962520" cy="1143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886200"/>
            <a:ext cx="3962160" cy="1143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66320" y="395280"/>
            <a:ext cx="552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nenbaum and Schmidt continu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403280" y="1295280"/>
            <a:ext cx="66978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ed on two concepts representing different styles of leadership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ss centred leader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ordinate centred leader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in those basic styles, four major variations are identifi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304920"/>
            <a:ext cx="374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lake and Mouton’s 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441440" y="2514600"/>
            <a:ext cx="5612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ve basic styles emerge from the matrix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overished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ty-compliance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ntry club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ddle of the road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am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220760" y="1052640"/>
            <a:ext cx="5209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matrix based on two sca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cern for 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cern for production (or output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56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lake and Mouton’s gr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04720" y="1776240"/>
            <a:ext cx="8134560" cy="33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08760" y="457200"/>
            <a:ext cx="630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rsey and Blanchard’s situation appro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749960" y="1606680"/>
            <a:ext cx="3204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ask behavi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onship behavi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 styles of leader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l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el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articipa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lega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6627960" y="4724280"/>
            <a:ext cx="2158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e technocr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odding technocr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lashy technocr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579120" y="4724280"/>
            <a:ext cx="2338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e crafts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gimental crafts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ative crafts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8040" y="4724280"/>
            <a:ext cx="2070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e arti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uthoritarian arti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ntle arti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176480" y="380880"/>
            <a:ext cx="6791040" cy="40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28480" y="1862280"/>
            <a:ext cx="8087040" cy="31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298240" y="228600"/>
            <a:ext cx="459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use’s path-goal leadership the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571840" y="876240"/>
            <a:ext cx="4282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 styles of leadership behaviou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rective leadersh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pportive leadersh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rticipative leadersh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hievement-oriented leadersh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589480" y="2438280"/>
            <a:ext cx="394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two situational factor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ordinate characteris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mands facing subordin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914400" y="3429000"/>
            <a:ext cx="6705720" cy="27050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5486400" y="4876920"/>
            <a:ext cx="2286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5638680" y="4876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9920" y="1108080"/>
            <a:ext cx="722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Vroom, Yetton and Jago model of leadersh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30240" y="2073240"/>
            <a:ext cx="745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t is the degree of subordinate involvement in the decision making proce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at is the major variable in leader behavi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30240" y="3597120"/>
            <a:ext cx="745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are four decision trees offered by the model - two for group problems and two for individual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030840" y="228600"/>
            <a:ext cx="309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aders or manager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118160" y="723960"/>
            <a:ext cx="705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terms leadership and management are frequently used interchangeab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 a manager always a leader and do leaders always manag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19120" y="1476360"/>
            <a:ext cx="8105760" cy="45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73080" y="50760"/>
            <a:ext cx="397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approaches to leader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081080" y="2071800"/>
            <a:ext cx="6981840" cy="27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-3240" y="0"/>
            <a:ext cx="397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approaches to leader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200240" y="685800"/>
            <a:ext cx="674352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295280" y="1050840"/>
            <a:ext cx="64771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harismatic leadersh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ttribution the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ction-centred leadersh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chieving the ta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Building and maintaining the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eveloping the individ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nteractive leadership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eturning authority to oth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eeing others as equ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ability to tolerate ambigu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Being prepared to modify pla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Having pride in their 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304920"/>
            <a:ext cx="459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ther approaches to leadersh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2437560" y="457200"/>
            <a:ext cx="383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ternatives to leadersh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06480" y="1219320"/>
            <a:ext cx="711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rr and Jermier (1978) - three areas where substitu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leadership is possib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78600" y="2421000"/>
            <a:ext cx="361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ordinate characte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45120" y="2421000"/>
            <a:ext cx="278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sk characte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548800" y="3213000"/>
            <a:ext cx="39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ganizational characte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969280" y="5105520"/>
            <a:ext cx="328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dership as symbol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455760" y="395280"/>
            <a:ext cx="631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dership and the organizational lifecy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82360" y="1295280"/>
            <a:ext cx="781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rke and Pratt (1985) - different requirements from a lead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uring the various stages in the organization’s lifecyc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84920" y="2397240"/>
            <a:ext cx="2507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hamp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ank comma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ousekee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emon squee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-1440" y="0"/>
            <a:ext cx="30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dership and su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576440" y="914400"/>
            <a:ext cx="5991120" cy="48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762480" y="533520"/>
            <a:ext cx="35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dership and suc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09720" y="1523880"/>
            <a:ext cx="7037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uropean Foundation for Quality Management (EFQ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wo areas of impac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nabl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685440" y="471600"/>
            <a:ext cx="502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dership an applied perspec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38080" y="1316160"/>
            <a:ext cx="74930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nagers have an interest in the study of management from many perspectiv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tecting their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creasing operational effectiv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aling with colleag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creased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744280" y="3200400"/>
            <a:ext cx="2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277800" y="4495680"/>
            <a:ext cx="2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582720" y="5638680"/>
            <a:ext cx="2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31720" y="228600"/>
            <a:ext cx="285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ders or manager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99200" y="776160"/>
            <a:ext cx="614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distinction between management and leadership is based 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733560" y="1278000"/>
            <a:ext cx="1146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o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t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po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723960" y="3038400"/>
            <a:ext cx="5067360" cy="31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82200" y="228600"/>
            <a:ext cx="430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ders, entrepreneurs and v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77160" y="914400"/>
            <a:ext cx="77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Ettinger (1983) - two types of entrepreneur - independent and organization mak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511000" y="1447920"/>
            <a:ext cx="43729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Drucker (1985) - sources of innovati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he unexpec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ncongruous ev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mprovement and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hanges in industry and market struct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Demographic chan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hanges in consumer mood and percep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reation of new knowled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nspi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16760" y="4191120"/>
            <a:ext cx="4726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Westley - visionary leadership has two analogi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Hypodermic need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Dram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epet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epres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ssist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ntegr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139200" y="318960"/>
            <a:ext cx="288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ders and po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76800" y="1387440"/>
            <a:ext cx="797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are situations where power is obvious and easily dete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5800" y="2241720"/>
            <a:ext cx="824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ench and Raven (1958) model - leaders and managers have many levers avai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344484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ower in leadership is the achievement of a will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bjugation of subordinat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o the will of the lea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26600"/>
            <a:ext cx="3047760" cy="63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Virtual wo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irtual working – working remotely primarily through electronic me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Leadership requires different approach as little face-to-face cont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ome of the implications inclu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emocratic approach to shared control and consensual decision ma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Leaders role is focused n the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hould adopt a coaching sty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eam building through electronic me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Need to listen m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hould not assume that they have the same authority as when leading a conventional t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760680" y="228600"/>
            <a:ext cx="28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ders or follower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12600" y="685800"/>
            <a:ext cx="290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adership is a social pro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06120" y="1143000"/>
            <a:ext cx="635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cGregor (1960) - interaction of four main variabl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characteristics of the l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characteristics of the followers, their attitudes and nee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organizational con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environmental contex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766800" y="2685960"/>
            <a:ext cx="7610400" cy="36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681120" y="228600"/>
            <a:ext cx="348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it theories of leader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34480" y="838080"/>
            <a:ext cx="334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t of qualities that are born with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29440" y="144792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its that have been found to have some association with successful leadership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541960" y="1981080"/>
            <a:ext cx="140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llig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542320" y="2438280"/>
            <a:ext cx="114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543040" y="2895480"/>
            <a:ext cx="165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-assur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543760" y="3429000"/>
            <a:ext cx="122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543040" y="3962520"/>
            <a:ext cx="93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eal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543760" y="4495680"/>
            <a:ext cx="11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hys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542320" y="5029200"/>
            <a:ext cx="203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cial backgr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614320" y="533520"/>
            <a:ext cx="39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University of Iowa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145880" y="2057400"/>
            <a:ext cx="264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uthoritari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565960" y="2057400"/>
            <a:ext cx="231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mocrat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508560" y="3962520"/>
            <a:ext cx="250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issez fai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2T08:16:26Z</dcterms:created>
  <dc:creator>Profile9</dc:creator>
  <dc:description/>
  <dc:language>en-US</dc:language>
  <cp:lastModifiedBy>z</cp:lastModifiedBy>
  <dcterms:modified xsi:type="dcterms:W3CDTF">2005-03-02T20:22:03Z</dcterms:modified>
  <cp:revision>108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455679480</vt:r8>
  </property>
  <property fmtid="{D5CDD505-2E9C-101B-9397-08002B2CF9AE}" pid="3" name="_AuthorEmail">
    <vt:lpwstr>john.hoodmartin@virgin.net</vt:lpwstr>
  </property>
  <property fmtid="{D5CDD505-2E9C-101B-9397-08002B2CF9AE}" pid="4" name="_AuthorEmailDisplayName">
    <vt:lpwstr>John Martin</vt:lpwstr>
  </property>
  <property fmtid="{D5CDD505-2E9C-101B-9397-08002B2CF9AE}" pid="5" name="_EmailSubject">
    <vt:lpwstr>PowerPoint</vt:lpwstr>
  </property>
  <property fmtid="{D5CDD505-2E9C-101B-9397-08002B2CF9AE}" pid="6" name="_ReviewingToolsShownOnce">
    <vt:lpwstr/>
  </property>
</Properties>
</file>