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9937-2B3F-4913-816F-FD187738A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EFE8-A183-47B5-BE53-27FDA5D6B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5D5C-7DC0-4A4E-8DF4-293E8DFFF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D0B5-4013-44F1-A080-3889B32EB6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4711-A400-4693-97B3-BEE62F28E7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0DAB-CCFD-41D5-9929-44BC37E6C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F815-BDA9-4F15-BAF9-2D528A0B1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7E73-9DE3-47C9-9334-A76E78527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1B4D-CBDC-47CD-B09C-91F4AC247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45C4-4D33-442E-908D-E96FF150A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4D28-FE3F-442B-A73D-56B1609B0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0E46-B5A9-46A4-9E23-5B3CAC698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3109-A0C6-49C4-840B-5E82F6DC99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6520" y="2895480"/>
            <a:ext cx="65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ING PEOPLE AND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79840" y="220968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4006-6B5A-43EE-97C8-BC60805424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6520" y="1666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s of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0600" y="762120"/>
            <a:ext cx="4892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jor determinants of an individuals response to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ress experie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rs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peri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9240" y="3886200"/>
            <a:ext cx="7781760" cy="227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8809-352D-477F-A095-D02D392C84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3840" y="2286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3080" y="990720"/>
            <a:ext cx="196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f-reinfor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2800" y="3038400"/>
            <a:ext cx="8258400" cy="298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8049-30E4-4D4A-B5B5-4599FDD308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6440" y="228600"/>
            <a:ext cx="49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consequences of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07920" y="1143000"/>
            <a:ext cx="5997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main areas in which stress would imp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individ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4C2B-BFC6-4554-A12C-7E16D0D4E9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152280"/>
            <a:ext cx="744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out and Post-traumatic stress disorder (PTS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83808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urnout - situation when some individuals are unable to carry 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type of stress characterized by emotional exhaustion, deperson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diminished personal accomplish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re likely amongst individuals who display high aspirations and 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re highly motiv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re likely in organizations where initiative is restricted and there is 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stence on particular goals being achieved in a particular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TSD - Frost (1990) - features of PTSD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ghtmares/Flashb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leeples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dginess and outburst of a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cohol and drug a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16200" y="25146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C1EF-BD92-4F68-9340-F22B82C7AD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3320" y="685800"/>
            <a:ext cx="56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al consequences of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240" y="1676520"/>
            <a:ext cx="13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3880" y="2362320"/>
            <a:ext cx="19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3880" y="3124080"/>
            <a:ext cx="18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draw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EE22-B7B4-49DF-8764-DA7954CD5D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4560" y="304920"/>
            <a:ext cx="50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stress management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3960" y="838080"/>
            <a:ext cx="3019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xation and med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ur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o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9680" y="3619440"/>
            <a:ext cx="8353440" cy="232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607C-B16D-4852-966C-6B3BA2B18D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79800" y="243000"/>
            <a:ext cx="65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al stress management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9240" y="885960"/>
            <a:ext cx="63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al and legal obligation to deal with occurrences of 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88080" y="1447920"/>
            <a:ext cx="3786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lvement and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areness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lth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nel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assistance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al frame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ltu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6DBE-441A-432E-9BD8-00463336BC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21640" y="228600"/>
            <a:ext cx="54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ing people and stress: an applied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200" y="374796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sons why managers take an interest in st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3733920"/>
            <a:ext cx="148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h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gi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78168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2574-5804-4846-842B-17BE868057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aging people and stress: an applied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64911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s et al suggest four major concerns currently facing organizations and employe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in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ol a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gerial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A11D-2B3A-4EC6-8F8A-472C522DDA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ls of people management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18908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ur models of HR practi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mbrum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gins with the view that people represent one of a number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ggest that a stakeholder view of people within an organization provides a more effective way to man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uler and Jackson suggest a link between competitive strategy (cost or innovation) and people management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ndr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ggest five interlinked contexts (outer, inner, business strategy, HR context and HR cont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3C8A-7DE2-4CED-AA06-FE8B415BE9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ople management – issues an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189080"/>
            <a:ext cx="5914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opl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ining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ward and performan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ployee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wnward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wards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ancial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resentative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C15B-06BA-408D-8B3F-D9F1BE8220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ployee involvement – consequences and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1600" y="1843200"/>
            <a:ext cx="8200800" cy="31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8BB8-66AD-4A07-A5C3-641E1FB49F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sychological contra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11276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unwritten but powerful expectations and obligations between employer and employe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nc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uggest nine organizational expectations from employe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rganizational objectives take precedence over personal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propriate levels of involvement, commitment and initiative are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cceptance of authority and taking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liance with leadership direction and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ulfil expected role within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liver high effectiveness and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-operate with others in pursuit of organizational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here to rules, policies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play loyalty to entire organiz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DE66-AE8D-4320-B4A9-8C313B3494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sychological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11276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 is debateable how much influence employees have on the implication of balance in the psychological contra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haps the limited ability of employees to influence the psychological contract leads to ‘underground’ and ‘covert’ actions on the part of employe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ers also report that their psychological contract had been broken by their employ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atton and Gold report challenges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ganizations do not communicate with one 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 reaffirms that employment relationship is based o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s effectiveness is based on many factors in the social, organizational and economic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7905-77B7-4343-B99C-46DEFA44D8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96960" y="177840"/>
            <a:ext cx="42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 - a preliminary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24440" y="836640"/>
            <a:ext cx="67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ion for the individual against overloading themselves phys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tally or emo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6800" y="177336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adults deal with stress by removing themselves physically or psycholog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e sit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960" y="2666880"/>
            <a:ext cx="82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% of 118 chief executives (Cooper and Sutherland survey) were thinking of re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of stress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800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491472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B0DE-3115-4146-9BA2-5CA420D5E1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9000" y="177840"/>
            <a:ext cx="27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 - 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15040" y="1341360"/>
            <a:ext cx="77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action within the individual to events that are experie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34936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Kenna (1994) - ‘stress arises because of the impact of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al force on a physical object; the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goes strain and this reaction may resul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ry distortion,but could equally lead to permanent distortio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49920" y="4648320"/>
            <a:ext cx="67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itive effects of stress – eustress; negative - di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27C7-1FD9-486B-9AB1-58C3B928CF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00920" y="45720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s of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1219320"/>
            <a:ext cx="374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st common sour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viron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et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ganiz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fes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23E5-B906-45C3-810B-28C3606CC9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3-02T20:53:05Z</dcterms:modified>
  <cp:revision>16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6998176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PowerPoint</vt:lpwstr>
  </property>
  <property fmtid="{D5CDD505-2E9C-101B-9397-08002B2CF9AE}" pid="6" name="_ReviewingToolsShownOnce">
    <vt:lpwstr/>
  </property>
</Properties>
</file>