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1CE2E-6323-47CA-A8FD-A6281CCFF3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14803-2174-4314-B35C-0FDFC5A59A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347A4-42CE-497F-A97D-41CAFB06C4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B46F1-E732-49FA-927C-723754AC78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3F154-52D7-4484-8B04-E3B9CD3770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FCAB9-BDD5-43AE-A3DD-B38D3A6D4B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F1D1B-321E-495A-994B-8FB2D70D4B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1AB02-D0BB-442E-88DD-9AB4003AB2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E5979-F61D-4F86-A152-BEA2C75B55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58A7C-AC7C-4D0E-BC1C-65963FE363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5FB0D-7BE4-4856-A906-893DC2E987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DDDF5-063B-4619-8986-423212C716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or use with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RTIN, ORGANIZATIONAL BEHAVIOUR AND MANAGEMENT 3e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  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ISBN 1-86152-948-1 </a:t>
            </a:r>
            <a:r>
              <a:rPr b="1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Copyright © 2005 Thomson Learning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1447920" cy="41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8763-64A4-43DF-A778-DADCE376B0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0" y="2895480"/>
            <a:ext cx="471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MENT WITH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55160" y="2163600"/>
            <a:ext cx="173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nagement: Context influences on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6202440" cy="35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c/privat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ufacturing/service ori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nctional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ganizational and national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vels of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5796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3240" y="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 and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14440" y="1200240"/>
            <a:ext cx="811512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520" y="304920"/>
            <a:ext cx="41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ment roles and sk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6360" y="928800"/>
            <a:ext cx="67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le theory - provides an outline or model for what is expected of t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05080" y="335772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15640" y="2133720"/>
            <a:ext cx="227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ole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ole 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ole ambig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ole incompat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ole confli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ole stress and 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55152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9800" y="0"/>
            <a:ext cx="35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roles and sk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23800" y="1023840"/>
            <a:ext cx="809640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49040" y="14400"/>
            <a:ext cx="41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ment roles and sk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1440" y="685800"/>
            <a:ext cx="61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ddler et al (1994) - 11 capabilities under three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differentiate between successful and unsuccessful manage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08240" y="1843200"/>
            <a:ext cx="18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ic 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03920" y="2224080"/>
            <a:ext cx="21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kills and attrib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07520" y="2604960"/>
            <a:ext cx="16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a qua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38280" y="1828800"/>
            <a:ext cx="515304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8520" y="457200"/>
            <a:ext cx="34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and d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89840" y="1106640"/>
            <a:ext cx="76284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appropriate decision ma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lecting an individual on the basis of gender, skin colour or physical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ilson (1995) -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x role identity… seems to have a substantial effect on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ormation of occupational aspirations and expectations. Men are go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o aspire to, and succeed in, more male-intensive occup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ardiner and Tiggemann (1999) -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omen face different pressures from men in industries that are male domina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Vinnicombe and Harris (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strength of informal organizational culture is what effectively holds wom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ck from reaching the top j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7520" y="152280"/>
            <a:ext cx="67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ment and organizational effectiv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14280" y="942840"/>
            <a:ext cx="442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hn Adair - three circle cyc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hieving the t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ing the indiv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ing and maintaining the t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37240" y="4875120"/>
            <a:ext cx="58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uthans (1995) - success and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ccess is the speed of promo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ding promotion depends upon socializing and politi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52360" y="2666880"/>
            <a:ext cx="683928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81680" cy="6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nagement and organizational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2640" y="990720"/>
            <a:ext cx="396252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ntal toughn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lf-bel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rves of st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eti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il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94840" y="330120"/>
            <a:ext cx="438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ical incident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7160" y="1219320"/>
            <a:ext cx="7372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Office (2003) - adopted a three level incident command structur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Bronze – operation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ilver – tactic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Gold – Strategic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77280" y="304920"/>
            <a:ext cx="28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manage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6560" y="1122480"/>
            <a:ext cx="8306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duct the working of, have effective control of, bend to one’s will, cajole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nd a way… contrive to get along… bring about, secure… deal with… skilful handling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be applied to many different sit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anagers are appointed by the beneficial owners to act on their beha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anagers are to ac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n loco parenti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for the beneficial ow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 effect they are one of a number of stakehol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ynch (1997) stakeholders fall into one or other of the follow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ose involved in the carrying out of the organization’s mission and obj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ose involved in the outcome of the mission and obj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688840" y="152280"/>
            <a:ext cx="37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ical incident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81360" y="838080"/>
            <a:ext cx="706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in (1996) - exercise of effective control needs the incident commander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 through a list of requirem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080" y="1447920"/>
            <a:ext cx="1312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p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lu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1000" y="3657600"/>
            <a:ext cx="36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cessary personality characterist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an incident command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2360" y="4267080"/>
            <a:ext cx="370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ingness to accept leadership r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otional s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ess res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is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led risk ta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-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-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01200" y="1981080"/>
            <a:ext cx="38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kills profile of an incident command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2362320"/>
            <a:ext cx="3733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adership 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cation ski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eg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am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ision making under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tuation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ning and implementing 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m and capable to manage stress in 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planning for possible emerg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75240" y="17784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ment and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7560" y="76212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llriegel et al (1989) - management is a set of activities based on these characteristic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1219320"/>
            <a:ext cx="156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840" y="1219320"/>
            <a:ext cx="84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ki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44680" y="1219320"/>
            <a:ext cx="90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4880" y="1981080"/>
            <a:ext cx="80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nch and Raven (1958) - power is what allows the manger to carry out his func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1560" y="2438280"/>
            <a:ext cx="13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gitim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880" y="2438280"/>
            <a:ext cx="103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w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2438280"/>
            <a:ext cx="11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erc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2438280"/>
            <a:ext cx="110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e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2438280"/>
            <a:ext cx="9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48520" y="3352680"/>
            <a:ext cx="53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feffer (1992) - managing power involves the follow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98760" y="3695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64000" y="3733920"/>
            <a:ext cx="31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ognizing different inter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47800" y="4076640"/>
            <a:ext cx="44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ying the views of various stakehol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46360" y="4457880"/>
            <a:ext cx="48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derstand the need for power to achieve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45280" y="4838760"/>
            <a:ext cx="574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derstand the strategies and tactics through which pow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develop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65080" y="5486400"/>
            <a:ext cx="266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 prepared to use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16800" y="228600"/>
            <a:ext cx="31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and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4520" y="836640"/>
            <a:ext cx="82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wnley - ‘Panopticism is an exercise of power based on analysis and distribu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operates through hierarchy, surveillance, observation and writing. In this sense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not located in a person but in practice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2360" y="2025720"/>
            <a:ext cx="820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of the participatory and involvement-based management practices function at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l of socializing employees into the ways of thinking by preferred manag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81720" y="2940120"/>
            <a:ext cx="744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egation - how much should managers retain and how much delegate?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a feeling that by delegating it is a giving away of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89160" y="3854520"/>
            <a:ext cx="65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iving the workers more responsibility increases the quality of wor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rience for the indiv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71440" y="495288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process re-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179440" y="228600"/>
            <a:ext cx="48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etings and humour in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0720" y="838080"/>
            <a:ext cx="645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etings are an inevitable aspect of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 to involve others in decision ma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uade them to co-operate in specific courses of 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4680" y="1981080"/>
            <a:ext cx="42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reasons for holding meetings inclu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89320" y="2438280"/>
            <a:ext cx="271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i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rage and risk a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18120" y="3505320"/>
            <a:ext cx="56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rsoux (1993) - humour is rarely neutral, trivial or rand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2440" y="411480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ee main purposes of humou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39200" y="4495680"/>
            <a:ext cx="95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36520" y="762120"/>
            <a:ext cx="46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: an applied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08160" y="1523880"/>
            <a:ext cx="573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associated with the practice of manage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42320" y="2209680"/>
            <a:ext cx="1713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ana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396252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nagement: an applied persp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90400" y="609480"/>
            <a:ext cx="8096400" cy="55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9320" y="228600"/>
            <a:ext cx="33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manage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1552680"/>
            <a:ext cx="716256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76920" y="380880"/>
            <a:ext cx="44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yol and the managemen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990720"/>
            <a:ext cx="4724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function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ministr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5000" y="3276720"/>
            <a:ext cx="464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agement consists of the following activiti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eca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ganiz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-ordin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6440" y="5562720"/>
            <a:ext cx="41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W Taylor (1947) - functional foreman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04960" y="90360"/>
            <a:ext cx="5762520" cy="62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66760" y="2495520"/>
            <a:ext cx="681048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3640" y="45720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ing in a so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1600" y="121932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agers do not act in isolation from the forces acting upon soci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0240" y="1981080"/>
            <a:ext cx="784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iticism of Fayol and Taylor - they imply that managers should be able to apply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mula and in doing so effective regimes and efficiency will be achie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8520" y="3048120"/>
            <a:ext cx="38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fessionalization of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581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3400" y="3886200"/>
            <a:ext cx="630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hireman and Kiuchi suggest four seasons within a business cyc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rowth sea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mprovement sea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uning sea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arching for direction sea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naging in a social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18908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ed (1989) - four themes in manag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cal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litical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itical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actice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4240" y="304920"/>
            <a:ext cx="28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managers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3320" y="1341360"/>
            <a:ext cx="376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ndy (1993) – reviewed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ch demonstrated a fragmented job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ervis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ag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ief execu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ed by organization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78960" y="838080"/>
            <a:ext cx="3561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ewart (1985) – factors influenc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attern of work includ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ust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tern of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 facto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84760" y="4005360"/>
            <a:ext cx="3759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uthans (1995) - four types of activ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ditional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utine 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uman resource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68320" y="4159080"/>
            <a:ext cx="30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ckenzie (1972) - manag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 operating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08:16:26Z</dcterms:created>
  <dc:creator>Profile9</dc:creator>
  <dc:description/>
  <dc:language>en-US</dc:language>
  <cp:lastModifiedBy>z</cp:lastModifiedBy>
  <dcterms:modified xsi:type="dcterms:W3CDTF">2005-03-02T19:37:32Z</dcterms:modified>
  <cp:revision>9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43263219</vt:r8>
  </property>
  <property fmtid="{D5CDD505-2E9C-101B-9397-08002B2CF9AE}" pid="3" name="_AuthorEmail">
    <vt:lpwstr>john.hoodmartin@virgin.net</vt:lpwstr>
  </property>
  <property fmtid="{D5CDD505-2E9C-101B-9397-08002B2CF9AE}" pid="4" name="_AuthorEmailDisplayName">
    <vt:lpwstr>John Martin</vt:lpwstr>
  </property>
  <property fmtid="{D5CDD505-2E9C-101B-9397-08002B2CF9AE}" pid="5" name="_EmailSubject">
    <vt:lpwstr>Next four chapters</vt:lpwstr>
  </property>
  <property fmtid="{D5CDD505-2E9C-101B-9397-08002B2CF9AE}" pid="6" name="_ReviewingToolsShownOnce">
    <vt:lpwstr/>
  </property>
</Properties>
</file>