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34A2-96C3-477F-8A95-AC496BFD1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EC8E-18A4-4CA1-9331-A481C564F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FF6C-F0C7-4905-95B2-09B33A0BC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948A-3CA0-4AB5-91A6-403BBE906A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2BB3-1F5E-4551-B567-1D6027E32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0E73-2B99-4078-8974-D3A8F341A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7525-3647-4623-A031-9B0ADC0B0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618F-2C78-4BAA-8301-8D9C0A8FE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B1B1-8776-4A31-8B40-7ECF912BA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902F-81DA-433D-9CD4-D14151DD6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393A-62F1-45FC-86CE-005F65F63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E582-2F04-4127-B2D9-6EA44620B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use with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, ORGANIZATIONAL BEHAVIOUR AND MANAGEMENT 3e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SBN 1-86152-948-1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Copyright © 2005 Thomson Learning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546E-51F1-4A06-9577-49F8A5D89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8840" y="2895480"/>
            <a:ext cx="703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AL DEVELOP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213372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5643-2167-4FE6-BF90-FF761CEB23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98080" y="152280"/>
            <a:ext cx="62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engineering and quality approaches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15680" y="861840"/>
            <a:ext cx="5604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eting the needs of the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eting the needs of the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cess is fundamental to business process re-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mmer and Champy - ‘Individualism, self-reliance, a will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accept risk and a propensity for change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apid identification and quick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tal Quality Management (TQM)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et the needs of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ver all parts of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very person in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amine all costs associated with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ight first time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stems and procedures to support quality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tinuous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le - ten years to implement TQM prope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8D5C-7FD7-4B8E-A5EA-5D6880CB9C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40000" y="22860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win’s forcefield model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22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1 - Unfree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0200" y="5805360"/>
            <a:ext cx="20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2 - Chan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2680" y="5805360"/>
            <a:ext cx="21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3 - Refree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BEC2-09C3-4BBC-98AF-F8579D778E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4120" y="685800"/>
            <a:ext cx="47329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gency perspectives on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otter and Schlesinger’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77840" y="2297160"/>
            <a:ext cx="317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ducation plus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rticipation plus invol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acilitation plus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gotiation plus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ipulation plus co-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plicit plus implicit coer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E840-6D0C-4395-87C3-CE4B914589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3808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gency perspectives on chang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nphy and Stace’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0400" y="195588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veloped a two dimensional matrix 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cale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 of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trix produced four change strate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ipative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ced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ismatic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ctatorial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6324-1920-449B-A5BD-240B734E55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920" y="0"/>
            <a:ext cx="40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gency perspectives on chang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t’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95160" y="2128680"/>
            <a:ext cx="7753680" cy="260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2CB0-C58E-4973-AB24-A59FE541C2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5960" y="6094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perspectives on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3080" y="1752480"/>
            <a:ext cx="342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tal systems 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5D6E-56CD-4B1D-804F-920DB76FC8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840" y="60948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os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2880" y="1523880"/>
            <a:ext cx="7399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atively recent branch of science - chaos and complexity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rion (1999) Mathematically, Chaos happens when equations us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scribe seemingly simple systems just won’t behave as expec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y will not yield a stable response, or the answers they give ju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ldly when the quantity of an input variable is even lightly perturb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se equations are called ‘nonlinear’ because their inputs are not predict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ated to their output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y organization is essentially a complex adaptive system (CAS) - for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ched on the edge of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7499-89A3-46C6-BE30-D6F3655133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4960" y="45720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nge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9600" y="1447920"/>
            <a:ext cx="303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mplem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adop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842C-CE08-426D-A12C-9FD5F30CEA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67000" y="76320"/>
            <a:ext cx="6229080" cy="62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3F96-85EA-4204-9A14-F3EED1E66B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10800" y="0"/>
            <a:ext cx="49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and organizational resistance t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6560" y="914400"/>
            <a:ext cx="8220240" cy="51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18F0-D6F1-4428-B571-58413898A4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000" y="22860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s acting o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7680" y="76212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lriegel et al (1989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4880" y="1295280"/>
            <a:ext cx="289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forc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id product obsolesc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 explo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0400" y="1295280"/>
            <a:ext cx="185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 for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h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12193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wart (1991) - changes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managerial care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func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3360" y="3352680"/>
            <a:ext cx="5991120" cy="256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5BC1-665A-4D9F-B0A5-97ADC425D6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1320" y="22860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ion as a change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2640" y="981000"/>
            <a:ext cx="718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scale (1990) suggests that a number of organizational features restric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bility to innovate and chan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pre-eminence of one function with a restricted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arned help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formity as the basis of pro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ow conflict is res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ffect of privilege and re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ck of empower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inforcing folkl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9320" y="3933720"/>
            <a:ext cx="384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z (1987) - three levels of innova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13480" y="3933720"/>
            <a:ext cx="387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chermerhorn (1993) - five element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novation proc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al organizational sensi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dea 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itial experi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easibility deter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nal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3C9A-6653-47BD-9D21-5560E94E16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7800" y="38088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ces acting on organiz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295280"/>
            <a:ext cx="245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uring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e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lanne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CB1E-FE81-4A73-9DEA-67CDF01D52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ganizational development – strands of theory an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57400" y="2104920"/>
            <a:ext cx="6829200" cy="26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CE37-7F81-4EEC-858E-9832FE31C3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4480" y="22860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al development – strands of theory an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0160" y="990720"/>
            <a:ext cx="424368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nter or 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consul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vey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ed approach to OD interven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ty of working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tegic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7B46-7F3E-4A97-996F-E0CBDCDBB3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ganizational development – strands of theory an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62080" y="1271520"/>
            <a:ext cx="681984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9CAD-FDDD-437B-B746-81FC76A015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6440" y="152280"/>
            <a:ext cx="34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, politics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82080" y="663480"/>
            <a:ext cx="6811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wo major ways in which power and politics interact with chan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phenson (1985) - tactics that are useful in the introduction of chan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mple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erem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ur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s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n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dler and Tushman (1988) - three mechanis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bilizing politica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couraging supportive behavi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aging the transitional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097C-2A5E-4458-9255-34138DF55E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avitt’s organizational variables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jor constituent parts of an organization - all interact and change in any can cause change to occur in the other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BDD4-F31D-4674-853E-468886B410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3600" y="38088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s, acquisitions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5080" y="1347840"/>
            <a:ext cx="7779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ohnson and Scholes (1993) - development by acquisition occurs in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nge is an inevitable con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ortant cultural blockages to 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wer and depend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A67E-3C8C-4751-8F55-308AE30C29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8:16:26Z</dcterms:created>
  <dc:creator>Profile9</dc:creator>
  <dc:description/>
  <dc:language>en-US</dc:language>
  <cp:lastModifiedBy>z</cp:lastModifiedBy>
  <dcterms:modified xsi:type="dcterms:W3CDTF">2005-03-03T08:29:29Z</dcterms:modified>
  <cp:revision>13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67307806</vt:r8>
  </property>
  <property fmtid="{D5CDD505-2E9C-101B-9397-08002B2CF9AE}" pid="3" name="_AuthorEmail">
    <vt:lpwstr>john.hoodmartin@virgin.net</vt:lpwstr>
  </property>
  <property fmtid="{D5CDD505-2E9C-101B-9397-08002B2CF9AE}" pid="4" name="_AuthorEmailDisplayName">
    <vt:lpwstr>John Martin</vt:lpwstr>
  </property>
  <property fmtid="{D5CDD505-2E9C-101B-9397-08002B2CF9AE}" pid="5" name="_EmailSubject">
    <vt:lpwstr>last powerpoint</vt:lpwstr>
  </property>
  <property fmtid="{D5CDD505-2E9C-101B-9397-08002B2CF9AE}" pid="6" name="_ReviewingToolsShownOnce">
    <vt:lpwstr/>
  </property>
</Properties>
</file>