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B87C-27A7-45E3-952C-CB955F653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FEB1-C57E-4C5D-92B0-9B419A68B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442F-80AB-46E0-BFBD-AC26A6C7D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B3A6-B810-4B7C-A49B-D81A025A5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B9C5-8F86-424B-A5A0-086EBD716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1017-118D-4C64-ADED-23E46B1C4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86B0-8FD2-4657-83C2-07F4C430E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6297-5BB5-4354-9DD3-0B1EA90F5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9F6A-F72D-4BEC-8B02-ED648BBAC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8A9D-0EB7-4794-A47D-AB92397AD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BB20-A42B-4CB8-8B4B-E7ACF1CBF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29AA-9CC3-48B1-8B7F-40B9A9E0F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65D3-3D04-4D09-AEE4-FCFF674C7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286280" y="2895480"/>
            <a:ext cx="65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AND TEAM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S AND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56880" y="213372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6BA5-05D7-44AE-9D88-0FD206DFD4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2520" y="762120"/>
            <a:ext cx="8238960" cy="53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60C9-541C-4CD7-80BD-E8BD527194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2080" y="45720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ud, psychotherapy and group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066680"/>
            <a:ext cx="7391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idinal impulses of the individual which become transformed by 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 power in group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n - group experience was the result of conflict between three aspects of group li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ividual and thei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p men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p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45D4-DF70-430F-885B-0FC7115CED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6000" y="30492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dynamics - another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3040" y="1409760"/>
            <a:ext cx="765792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06EF-DD69-41DA-9481-F8971692F2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20" y="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0080" y="609480"/>
            <a:ext cx="5343840" cy="532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0454-13EF-4905-B9AF-8910B9D27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2520" y="914400"/>
            <a:ext cx="8238960" cy="45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C6E6-706F-4B60-9BF1-269529D49B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55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or winning teams - Bel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279440"/>
            <a:ext cx="7924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dividual in the chair who could make use of the role to ensure an effectiv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rong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od range of mental ability spread across the individuals within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team role coverage within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tch between team roles and personal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of the team to compensate for role im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9C78-49FC-4F9E-BF14-51C68B4BE5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3600" y="22860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rgerison-McCann Team Management 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360" y="1066680"/>
            <a:ext cx="235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or-Innov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er-Promo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or-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uster-Organi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r-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-Insp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holder-Maintai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er-Advi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1334-9A29-4332-84AF-1E87D79194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4440" y="30492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-performing teams - Margerison and McC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6880" y="914400"/>
            <a:ext cx="7673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 that all team members have a responsibility to undertake the linking 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high expectations and set high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in high levels of job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ence high levels of co-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team managers who lead by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teams that have a balance of roles matched to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ence high degrees of aut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rn quickly from mistakes Develop teams that are customer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 good problem-solving skills and review group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motivated to per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0830-0A75-48BE-85FF-AED0765E10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760" y="47160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sons that teams fail - Margerison and McC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1378080"/>
            <a:ext cx="80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ck of balance across the team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ck of effective linking betwee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ck of effective relationship management within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ck of effective information management within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istence of impoverished decision-making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ndency to want to take decisions too early in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4058-0DE2-418F-95E6-FB33B17D78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040" y="228600"/>
            <a:ext cx="66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mplications of the existence of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040" y="1030320"/>
            <a:ext cx="809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ed for communication and interaction between its members will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ed for communication and interaction between the group and other groups bo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ly and exter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exists a need for the group to achieve the objectives set for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can often not achieve the desired objectives without the co-opera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of other individuals and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ed to channel and control activities of members within the group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 social needs and aspirations must be facilitated for the group to be success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both personal and organizational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exists a need to take account of the potential impact of the social and 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mensions of the activities of th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B8FC-2F2C-4C7F-971D-CF7253A02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040" y="2793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withi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0384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9120" y="1209600"/>
            <a:ext cx="8105760" cy="44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E418-8BAC-4676-A0D2-A3B2ACFF09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6280" y="2152800"/>
            <a:ext cx="8191440" cy="25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8217-59CF-49AE-A007-C6F625F30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7640" y="380880"/>
            <a:ext cx="69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 behaviour within groups and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7640" y="149868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ption and at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ch’s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gram’s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6DA5-28E9-460A-892C-6A4066F2B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440" y="2486160"/>
            <a:ext cx="8115120" cy="188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06E3-C663-4311-BCDD-A7CC82471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5240" y="22860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: 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0040" y="1405080"/>
            <a:ext cx="8143920" cy="40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86A4-747F-4D4B-974D-3F00974F9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8720" y="380880"/>
            <a:ext cx="65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dynamics: Risks  and group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2280" y="1219320"/>
            <a:ext cx="5145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y shift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reasons for risky shift decision-mak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bility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ority 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327B-C6A5-45AE-98FD-4CA6E0684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080" y="30492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dynamics: Group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0160" y="1106640"/>
            <a:ext cx="3298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ymptoms of Groupthink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vuln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atio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f-censo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anim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ndgu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9A99-F5EC-4994-9B17-0D862F8B8B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19:02:20Z</dcterms:modified>
  <cp:revision>2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09509265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Next four chapters</vt:lpwstr>
  </property>
  <property fmtid="{D5CDD505-2E9C-101B-9397-08002B2CF9AE}" pid="6" name="_ReviewingToolsShownOnce">
    <vt:lpwstr/>
  </property>
</Properties>
</file>