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F3AE-8384-465E-9BED-6D4FB7C3C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4AD3-652E-4E42-A6BC-68B51D932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AD28-9ECB-43F0-AEDE-8B3E84755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0E71-F5DE-4FF6-BC33-D693FDCF3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4ADC-C6F1-4AA3-91AA-8EDF0D2FD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9EF5-67F0-4140-9708-98F6633B1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0A67-357C-4C29-83F8-DC10ADE8A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9F35-157A-42A2-A61A-7EB12B0C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36A7-D80F-4368-8FA3-0299433AA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002D-AB68-4EDD-A93B-40F35A16D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9E5B-3267-4F24-AF4D-1A4B62DFF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E3A5-7ABF-46A9-B76A-B00EE91DA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D35E-9B28-47F6-82FA-311FDDE0D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500480" y="2895480"/>
            <a:ext cx="63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SAND ORGANIZA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56160" y="220968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880" y="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2800" y="1081080"/>
            <a:ext cx="82584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3240" y="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1200" y="928800"/>
            <a:ext cx="75816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0560" y="457200"/>
            <a:ext cx="35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s and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18840" y="1241280"/>
            <a:ext cx="523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le of work 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porate and public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ligations a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at home and work-life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stlebl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6120" y="380880"/>
            <a:ext cx="46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organizational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200" y="1219320"/>
            <a:ext cx="805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roeber and Kluchohn (1952) - 164 different meanings of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me writers suggest the concept has no real value because the varie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anings is so d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ilman et al (1985) - culture reflects the ideologies, shared philoso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lues, beliefs, assumptions, attitudes, expectations and norms of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al and Kennedy (1988) - symbolism and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ompson and McHugh (1990) - significance of personnel management in achie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maintaining new and more appropriate cul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2800" y="1695600"/>
            <a:ext cx="825840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68560" y="6742080"/>
          <a:ext cx="5275440" cy="11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8560" y="6742080"/>
                    <a:ext cx="5275440" cy="1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972160" y="30492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2000" y="144792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y and Mallory (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9720" y="2308320"/>
            <a:ext cx="2872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compa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e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1080" y="15228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mensions of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2080" y="609480"/>
            <a:ext cx="2765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chein (1985) - six dimens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ehavioural regula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minan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2677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8640" y="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y’s four types of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56272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Person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5048280" cy="150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705560" cy="18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47912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8088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s and Waterman’s excellence and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219320"/>
            <a:ext cx="64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‘shared values from the McKinsey 7-S framework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as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ing close to the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tonomy and entrepreneu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tivity through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s on, value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ick to the kn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e form, lea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taneous loose-tigh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76560" y="30492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and Kennedy’s cultural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1280" y="838080"/>
            <a:ext cx="29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and play 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o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 your company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7816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2440" y="45720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osophy and 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hics - Doing the right 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ilosophy - the critical evaluation of assumptions and 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ral philosophy - ‘a philosophical inquiry about norms or values, about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f right and wrong, good or bad, what should and what should not be don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ur major approaches to the basis of moral decision mak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tur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ation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tilitari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m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01960" y="2286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e and Beyer’s organizatio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5080" y="1081080"/>
            <a:ext cx="31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pany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07920" y="1119240"/>
            <a:ext cx="227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Company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4680" y="411480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Comm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0200" y="4114800"/>
            <a:ext cx="206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Physical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69920" y="2286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4920" y="15238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lture is a differentiating feature of organizational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2000" y="28954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3200" y="4267080"/>
            <a:ext cx="63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cultures exist where one or more groups are disaffected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objectives counter to those of the dominan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840" y="53352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terminants of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371600"/>
            <a:ext cx="314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and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31040" y="27936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fstede’s perspectives o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84800" y="762120"/>
            <a:ext cx="31064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ism-collectiv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culinity-femin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28800" y="3257640"/>
            <a:ext cx="51530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1800" y="60948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mpenaar’s perspective o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600" y="1371600"/>
            <a:ext cx="631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 dimensions of cul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ve deal with the way in which people inte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ixth with people’s perspective 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venth with the approach to moulding th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83000" y="3733920"/>
            <a:ext cx="595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combine to create different corporate cultures inclu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ffel T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ded miss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57960" y="2286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ization and 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440" y="8380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ip (1989) - three stag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15240" y="121932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ing a core strategy as the basis of competitive 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17040" y="1523880"/>
            <a:ext cx="48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ization of the home country strate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5240" y="1873080"/>
            <a:ext cx="62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balization through integration of the largely separate countr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d international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0" y="342900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rtlett and Ghoshal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37200" y="3772080"/>
            <a:ext cx="27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national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38920" y="502920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options available to an organization in its approach to cul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cen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nocen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685800"/>
            <a:ext cx="73152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276720"/>
            <a:ext cx="7315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952880"/>
            <a:ext cx="7315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84840" y="177840"/>
            <a:ext cx="26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0840" y="17524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wright - nine factor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57400" y="2671920"/>
            <a:ext cx="682920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4572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ing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8920" y="114300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naar and Wooliams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8360" y="1752480"/>
            <a:ext cx="354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alism v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vidualism v communitari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 v diff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ality v affe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directed v outer dir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hieved status v ascribed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 time v synchronic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7080" y="4572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organization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5760" y="114300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ndberg (1985) - six stage 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4080" y="1916280"/>
            <a:ext cx="1221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080" y="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osophy and 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62160" y="909720"/>
            <a:ext cx="66196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9880" y="318960"/>
            <a:ext cx="54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al perspectives i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82200" y="1241280"/>
            <a:ext cx="4368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tilitarian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 util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util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ct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icted contrac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ertarian contractarian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3480" y="152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go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6560" y="838080"/>
            <a:ext cx="6130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honey (1997) - reasons why businesses take interest in eth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llowing fash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ponse to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rsuit of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keholders conside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at it is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xture of reasons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1857240"/>
            <a:ext cx="516276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88920" y="53352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65720" y="1454040"/>
            <a:ext cx="640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le of business 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ve and negative impact - social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hnson and Sch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l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rnal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of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9360" y="2286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cultural perspectives on 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5880" y="838080"/>
            <a:ext cx="3322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isinger (199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ral common sense ru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void harming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pect the rights of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 not lie or c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ep promises and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bey the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vent harm to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lp those in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e f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inforce these imperatives in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7621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s and antisocial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8240" y="4648320"/>
            <a:ext cx="32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acalone and Greenburg (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1160" y="2328840"/>
            <a:ext cx="6781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4440" y="1522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 and antisocial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1080" y="762120"/>
            <a:ext cx="5662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nch identifies three categories of varia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ity/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ohlberg/Sne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oid punishment; obey those in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ek personal gain; avoid losing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arn the approval of others by being nice to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form to rules, laws, codes and 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llow principles based on respect of others righ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sms and the greater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inually question your own actions and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nell - four psychic pris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eing in possession of limited ethical reasoning dilem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ical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lding restricted levels of organizational respon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straints by moral eth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55720" y="20574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21:49:27Z</dcterms:modified>
  <cp:revision>1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17612950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