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A7A4-3DDD-4A3F-A726-3A0DE9C58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494C-CF3E-41F6-8218-F44353E57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8528-D85D-42E1-A654-D1557DD8C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E1C0-BF56-4BBB-8741-E1EE5C4941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A648-1A49-49A9-B8A1-08B0CDCF86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207E-8707-468F-AFA2-2CFB7E39C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B440-87E5-46E2-83F9-633B45B44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A8A3-0059-4DB0-AB41-555FF8BAB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CC4D-0252-41E1-920E-92AAB4BD6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A81E-550D-4621-B0A9-16BB54894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66A5-0BED-4C45-8E96-AE68839DF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D635-862F-4221-B044-7E89033AC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8B62-97F5-4ACA-AD15-642A52FB4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040" y="2895480"/>
            <a:ext cx="52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PTION &amp; ATTITU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6880" y="2362320"/>
            <a:ext cx="17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7F1C-ED52-4661-92CB-FE2E206D24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05520" cy="362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32A0-0402-4E6E-BAD1-2DB6B8D5EB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7160" y="1522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eotyping and 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892080"/>
            <a:ext cx="8534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ndency attribute everyone or thing in a particular category with the characteristics from a single 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all information perceived is supportive or contradictory toward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stere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that supports a stereotype processed more intensiv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efit of stereotyping - categor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jection implies that others have the same characteristics as our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umption of behaviour that is similar to our own is 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CFAF-35EA-461A-9A70-7125B2E6AA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1760" y="533520"/>
            <a:ext cx="42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language &amp; p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6480" y="1447920"/>
            <a:ext cx="261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e of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6E31-C9C1-47B0-8315-D7195C89B3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42976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C282-6A03-466F-BB9A-742D469F41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6581880" cy="43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86CD-F174-43D6-9EC8-4DF17055C8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45720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tud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10240" y="13525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tudes serve four main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7640" y="1857240"/>
            <a:ext cx="2457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o def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exp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38320" y="457200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itudes and cognitive disso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FBDD-8C20-4140-B982-F2596892AA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42880" y="45720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88560" y="1295280"/>
            <a:ext cx="732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for individuals to present a partic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to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s a desire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aspects associated with impression manag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er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CCA6-BFB7-4648-A41F-E8B93BF49B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0120" y="152280"/>
            <a:ext cx="63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ption within an organizational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2840" y="746280"/>
            <a:ext cx="6374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ion, attitudes and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itudes and perceptions of actual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itudes and perceptions of potential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itudes and perceptions of the wid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itudes and behaviour of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 attitudes and per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ganization’s compet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5440" y="3962520"/>
            <a:ext cx="666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ion, attitudes and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rder to control behaviour managers must eit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Order others to carry out management wi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Persuade individuals willingly to undertake what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of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2662-45F5-41D7-B0F0-50A7EBA5FB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6360" y="228600"/>
            <a:ext cx="69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ion &amp; attitude formation: an appli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1800" y="2071800"/>
            <a:ext cx="8420400" cy="27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5739-358F-441D-B9F3-08F05CE0E3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ception and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2040" y="1162080"/>
            <a:ext cx="781992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277F-CF40-449E-96CE-0B090BEE2E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3200" y="53352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4480" y="1371600"/>
            <a:ext cx="285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2D4C-D591-4FB4-A748-7E7E11BF3D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9680" y="2286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del of p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9680" y="2243160"/>
            <a:ext cx="8324640" cy="237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1B98-3186-48C5-BAC4-710AED1AB6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7680" y="152280"/>
            <a:ext cx="48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of stimuli for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609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1800" y="762120"/>
            <a:ext cx="43254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s external to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ve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amili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s internal to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rs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arning &amp; past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95FB-D566-41E4-966B-4574F031A8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29920" y="457200"/>
            <a:ext cx="67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factors influencing stimulus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47840" y="2290680"/>
            <a:ext cx="6448320" cy="227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5635-6014-4493-9E0E-5400B8A651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78000" y="457200"/>
            <a:ext cx="64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ing stimuli into meaningful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6080" y="1523880"/>
            <a:ext cx="374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gure ground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iple of contin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iple of proxi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iple of 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iple of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8268-4C79-4EAC-B398-32E259DBCE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1952640" cy="371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2629080" cy="2705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19920" y="1752480"/>
            <a:ext cx="1752480" cy="37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A59A-AEEF-4F86-870E-5F3D84EDC0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4680" y="457200"/>
            <a:ext cx="611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ing the significance of a 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3440" y="1371600"/>
            <a:ext cx="427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&amp; perception sha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ual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 &amp; Horns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ion and 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D78B-326D-4168-8365-0BE3F34182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behaviour to a 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8720" y="1676520"/>
            <a:ext cx="360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behaviour sh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ble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ual def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76B6-886D-46CB-A19E-FF128A24EF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2-28T21:40:20Z</dcterms:modified>
  <cp:revision>1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66654843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PowerPoint</vt:lpwstr>
  </property>
  <property fmtid="{D5CDD505-2E9C-101B-9397-08002B2CF9AE}" pid="6" name="_ReviewingToolsShownOnce">
    <vt:lpwstr/>
  </property>
</Properties>
</file>