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7EE2-D615-45D7-816C-4F0EB74AF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AE8B-7C39-44DA-9F7F-6AF3BDA34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3C1A-2401-4C99-A0E3-8B19A209C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5517-6A84-40AA-B721-D85FFBE4B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4913-4F48-489C-94C7-8C38010BF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2B10-6563-4FBC-A0BE-7A0F3CB80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C334-6642-42F5-99F9-6F674489F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9429-BF8F-4D82-8FD2-269C4CFC5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C6D0-D6D9-4690-AF46-C72CE92A3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15B4-0FB6-4B06-8746-B5CE9F520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D618-1C13-45DA-8317-AF9ED50F3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1793-520C-4AAB-9770-982A65591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6AA-FC58-4CFC-BA77-7B9FED6F4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76880" y="2895480"/>
            <a:ext cx="400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DESIGN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79840" y="228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F987-9B07-4AB9-AB95-27B34BA5FE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66360" y="22860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influences on work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2600" y="738360"/>
            <a:ext cx="31935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eau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ylo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ipline at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258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62000" y="1676520"/>
            <a:ext cx="5220000" cy="25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3815-F644-4BE9-897F-D62C66DC78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280" y="3808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influences on work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5560" y="957240"/>
            <a:ext cx="3173760" cy="59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ical management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gency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4560" y="467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5257800" cy="224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6324480" cy="93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D27D-2ED4-4FC1-9CE0-6A98461698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3480" y="22860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ism and post-Ford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838080"/>
            <a:ext cx="7772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ation of mechanically paced assembly lines, scientific management 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ob design and piecework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ffee and Scase (1995) - weaknesses associated with For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e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duc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ing and doing disti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hibition of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tential not fully real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B15A-A690-497D-94D3-11E36A5FF2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7560" y="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dism and post-For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680" y="457200"/>
            <a:ext cx="244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t-Fordism - weakne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720" y="3962520"/>
            <a:ext cx="2785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ther pressures in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courage retention of Ford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nci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5400720" cy="280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7043-8E17-43C4-9D6C-B40632C671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74400" y="304920"/>
            <a:ext cx="59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, empowerment and patterns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62600" y="914400"/>
            <a:ext cx="472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exibility - job, location and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terns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nual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ressed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vertime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mporary and part-time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ob sharing and home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bbaticals and career bre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CDCA-D5D3-40CE-9B3D-BB5A3816B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840" y="0"/>
            <a:ext cx="304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ing the design of jo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90400" y="1190520"/>
            <a:ext cx="7963200" cy="447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4BF9-1612-4A1D-AD89-D77383F42B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1480" y="22860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tisfaction and productivity through work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080" y="762120"/>
            <a:ext cx="847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 design and productivity are both organizational imperatives and management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tion of alienation has changed over the years to infer frustration and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enation forces a consideration of the design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umber of job design approaches attempt to incorporate satisfaction into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possible links between performance and satisfa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isfaction generates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 generates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isfaction and performance link in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7534080" cy="21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4ED4-CA5D-4245-9CBD-4152539E4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5440" y="15228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working life and quality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4480" y="898560"/>
            <a:ext cx="7639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WL is composed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hilos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WL activity is concentrated into eight areas of working life experi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of individual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 for non-work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relevance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 circles are aimed at continuous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05E4-FCB0-4C5E-AECA-9E03A5AAB7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3680" y="45720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that influence job design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1400" y="1295280"/>
            <a:ext cx="1623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patt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829480" cy="39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69C3-35FC-4773-A9F4-405029F23A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15228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a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4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ople hold jobs, careers are made up of jobs and jobs form the basis of many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elevision, films and in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llection of tasks brought together as a practical chunk of activity for people to under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ocial construction created and adapted by people,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905880" cy="28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0E2C-1063-492F-A075-14070A1F7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68280"/>
            <a:ext cx="527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ientific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bes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vision of lab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iance or commit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9B20-2994-4539-89B0-995CB6E585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5480" y="6858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g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7120" y="1600200"/>
            <a:ext cx="650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uman-machin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 efficiency with minimal effort an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ropometric profiles of human be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and bio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F34B-6DCA-4A91-A150-2C7721B5C3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160" y="22860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5840" y="887400"/>
            <a:ext cx="5444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ystematic identification of the content of a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d to support activities such 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eer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ance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160" y="4251240"/>
            <a:ext cx="48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main approaches to job 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job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analysis question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A565-0DAF-4AFA-B387-020BEE96A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3280" y="1333440"/>
            <a:ext cx="867744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F8BF-E4E4-496E-A54A-F209B0651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7040" y="2793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es to designing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990720"/>
            <a:ext cx="33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ification and job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 enlar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 enri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7320" y="2971800"/>
            <a:ext cx="344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rzberg’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 over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 growth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2680" y="2971800"/>
            <a:ext cx="288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ckman &amp; Oldham’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kill var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sk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sk signific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895480"/>
            <a:ext cx="78483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656E-E7E1-46D9-BA7E-88ADBB0F9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640" y="3808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work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75160" y="1004760"/>
            <a:ext cx="80064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influences the organization of work through a number of ro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724960" cy="28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1007-D3E6-4532-8BB4-06CD60A14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6120" y="304920"/>
            <a:ext cx="39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and work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2120" y="876240"/>
            <a:ext cx="6471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st and Bamforth (19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mechanization of coal m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 can support different types of work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systems model of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nomous wor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7840" y="2467080"/>
            <a:ext cx="8248320" cy="22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AF25-45A9-4692-A4DB-7E87789F27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2:13:18Z</dcterms:modified>
  <cp:revision>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017489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