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C86A2-DC42-44C3-81AE-F3E34E4290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AA8DF-EBF6-47CD-8702-04F62F33D7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74E1D-2775-4D0D-B48C-619607B4BD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54CCF-7098-495F-9CDC-1E533A5988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5583A-627C-4B64-9A4E-4E6C41772D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749A1-23C5-4E4F-8144-7C247E0480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C8F24-3BA6-4BC5-BF96-E1B1EE9958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1C4A0-3174-427B-A6B5-EF95C1BD72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717BD-8E2F-484C-B15D-4278946BBC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23E53-CEF9-4AC3-A3CF-7881AF1F72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0D42E-91D4-439A-BFE8-A104AE671A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C68F9-8B20-4AC2-AE0A-BB5C6670B5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or use with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ARTIN, ORGANIZATIONAL BEHAVIOUR AND MANAGEMENT 3e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  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ISBN 1-86152-948-1 </a:t>
            </a:r>
            <a:r>
              <a:rPr b="1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 Copyright © 2005 Thomson Learning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52280" y="6362640"/>
            <a:ext cx="1447920" cy="41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95EC-8ADF-410E-AFA8-D5CBB975E6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70200" y="2895480"/>
            <a:ext cx="3821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LICT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TION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56160" y="2209680"/>
            <a:ext cx="193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5EED4-F3A2-4340-920C-4477545B4D1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5240" y="76320"/>
            <a:ext cx="29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our process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0560" y="709560"/>
            <a:ext cx="8233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ature of work relations within a specific system of 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flict between workers and managers is inevi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ompson and McHugh (1995) - consequenc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ork organizations are distinct from other organizations - the theory of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ccumulation and labour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rganizations are structures of control in the broadest sense of the te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echanisms to integrate economic, political, administrative and ideological stru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rganizational structures and processes involve political issues, decisions and cho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tested ration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alance between control and resi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ompson (1989) - five core eleme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abour as a unique commo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abour as a special focus of attention is capital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pitalism forces minim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trol as an imper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stitutionalized confli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4B4D1-A938-4F8F-974A-AC993A9956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29920" y="482760"/>
            <a:ext cx="343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lict and re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523880"/>
            <a:ext cx="7315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sistance can arise as a result of management attempts to create reality and the frame of reference that employees are supposed to ado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alaman (1979) - dissension and dissatisfaction arise from hierarchical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llinson (1994)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sistance through d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sistance through persis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C4A0D-6DE3-4468-A62D-4F46F503D2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76200" y="228600"/>
            <a:ext cx="35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handling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4200" y="1065240"/>
            <a:ext cx="224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larity and open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tyle and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ig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03680" y="106524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raining and soc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53600" y="2362320"/>
            <a:ext cx="5129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omas (1976) - five generic conflict handling sty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moothing or accommo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void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llaboration and problem 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mpetitive or authoritar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mprom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63E38-0473-46EA-9688-C2F03711DD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729160" y="304920"/>
            <a:ext cx="367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tics within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4640" y="838080"/>
            <a:ext cx="7706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achiavel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negative view of politics imposes a definition that considers it to be outsi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ormal pract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more positive view regards it as an inevitable part of the need for individu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d groups to function in a collective 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000080" y="3105000"/>
            <a:ext cx="7143840" cy="3067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AF646-39DF-4C2F-BB0F-F1365021B5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99480" y="838080"/>
            <a:ext cx="279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tical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69640" y="2057400"/>
            <a:ext cx="2832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fensive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fensive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utral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E6C8F-3BA2-498D-9989-72DF0D87E0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435040" y="533520"/>
            <a:ext cx="32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political 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5480" y="1557360"/>
            <a:ext cx="24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 of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40040" y="1628640"/>
            <a:ext cx="361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 of communication chann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5480" y="2852640"/>
            <a:ext cx="26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of outside special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13120" y="2852640"/>
            <a:ext cx="39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 over work and meeting agen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42200" y="3933720"/>
            <a:ext cx="16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me play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13120" y="4005360"/>
            <a:ext cx="35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ression and image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98200" y="5084640"/>
            <a:ext cx="20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ing coal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12400" y="5084640"/>
            <a:ext cx="37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 over decision-making crit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B9D93-048C-4995-B196-3246ADBA8A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50532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aging office poli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00240" y="1619280"/>
            <a:ext cx="6743520" cy="361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16669-5679-4E2C-9BDD-B76032AE52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71880" y="533520"/>
            <a:ext cx="556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and politics: an applied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447920"/>
            <a:ext cx="784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flict is regarded by most managers as something to be avoided within their 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litics by way of contrast can be seen as a means of sharing power among a number o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ested groups and individu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liques, cabals and young Tu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litical behaviour is encouraged to exist in situations where the formal roles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uthority are uncl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561B6-D28A-4395-8F84-E958CF9584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040" y="49320"/>
            <a:ext cx="362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s of organizational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6560" y="1143000"/>
            <a:ext cx="8210880" cy="457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77967-6688-4B39-9AEB-FDCC2D9556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75120" y="304920"/>
            <a:ext cx="43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s of organizational confli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64040" y="990720"/>
            <a:ext cx="66924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ra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persona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hetten and Cameron (1991) - four sources of interpersonal confli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ersonal dif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ole incompati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formation defici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nvironmental st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ra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raorganiz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organiz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6B53F-705C-434A-AE0E-758C7D3E49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7800" y="60480"/>
            <a:ext cx="362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s of organizational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34920" y="24922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 Figure 18.2 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09560" y="1486080"/>
            <a:ext cx="7724880" cy="3886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48D6A-FA8A-4C0B-BC00-50608121C9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8280" y="0"/>
            <a:ext cx="362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s of organizational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76280" y="1314360"/>
            <a:ext cx="8191440" cy="422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A4230-C95C-4F37-A157-F5097AB5C1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3720" y="533520"/>
            <a:ext cx="412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s of organizational confli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38680" y="1600200"/>
            <a:ext cx="3042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dividual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abo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thical dilem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erpersonal disp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ork mani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isuse of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ho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oliticking and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umour and goss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tt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bsence and lea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2760" y="1728720"/>
            <a:ext cx="2943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roup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rikes and lock-o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ork to 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ork restri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actional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B1CAE-788A-4999-BBF5-9D92FE4E3B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07320" y="45720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quences of confli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6440" y="1295280"/>
            <a:ext cx="8020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egative and positive fo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iller and Bedford (2003) suggest five steps to re-establish trust after 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as been broken by conflic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dentify the core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ring the core values to li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pell out the do and don’t aspects of each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eave values into the fabric of the 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nsure accountability and model the 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t can be argued that some conflict is necessary for optimiz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7839E-BEA9-4D39-8800-E9A0F5B2F2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653240" cy="626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86AE8-4B4A-40E1-827B-571B9BAC0E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520" y="380880"/>
            <a:ext cx="35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pectives on confli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02560" y="198900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ur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1280" y="198108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ari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373392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x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99880" y="3733920"/>
            <a:ext cx="29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bour process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FC45B-B0C7-48BB-9461-1623726586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2T08:16:26Z</dcterms:created>
  <dc:creator>Profile9</dc:creator>
  <dc:description/>
  <dc:language>en-US</dc:language>
  <cp:lastModifiedBy>z</cp:lastModifiedBy>
  <dcterms:modified xsi:type="dcterms:W3CDTF">2005-03-03T08:16:41Z</dcterms:modified>
  <cp:revision>15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52794393</vt:r8>
  </property>
  <property fmtid="{D5CDD505-2E9C-101B-9397-08002B2CF9AE}" pid="3" name="_AuthorEmail">
    <vt:lpwstr>john.hoodmartin@virgin.net</vt:lpwstr>
  </property>
  <property fmtid="{D5CDD505-2E9C-101B-9397-08002B2CF9AE}" pid="4" name="_AuthorEmailDisplayName">
    <vt:lpwstr>John Martin</vt:lpwstr>
  </property>
  <property fmtid="{D5CDD505-2E9C-101B-9397-08002B2CF9AE}" pid="5" name="_EmailSubject">
    <vt:lpwstr>last powerpoint</vt:lpwstr>
  </property>
  <property fmtid="{D5CDD505-2E9C-101B-9397-08002B2CF9AE}" pid="6" name="_ReviewingToolsShownOnce">
    <vt:lpwstr/>
  </property>
</Properties>
</file>