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use with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, ORGANIZATIONAL BEHAVIOUR AND MANAGEMENT 3e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SBN 1-86152-948-1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Copyright © 2005 Thomson Learning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CA2F-0317-4659-95C4-D306409D3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9320" y="2924280"/>
            <a:ext cx="793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AND ORGANIZATIONS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OLUTION AND ACADEM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34560" y="2106720"/>
            <a:ext cx="17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45400" y="53352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QUANTITATIVE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600" y="129528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pact of management sci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5240" y="2133720"/>
            <a:ext cx="289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on-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casting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ario plan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4572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APPROACHES TO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560" y="1066680"/>
            <a:ext cx="652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um of complexity in systems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udies of 1940s coal mining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ciotechnical nature of effective job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1532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4960" y="349200"/>
            <a:ext cx="738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OLOGICAL &amp; OTHER PERSPECT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655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9760" y="1474920"/>
            <a:ext cx="7960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tical as opposed to individual perspective of psych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der context in which behaviour takes place as opposed to just behaviour it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use (196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onstration of possibility that use of certain terminologies can re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viduality and disguise explo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s creation of ‘false need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8760" y="4191120"/>
            <a:ext cx="32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ed (19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ical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tical 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tical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99200" y="620640"/>
            <a:ext cx="719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HINKING ABOUT ORGANIZ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2057400"/>
            <a:ext cx="58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rnism and postmoder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son (1994) - will never be a single 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ganizatio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06560" y="523800"/>
            <a:ext cx="32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MODER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2280" y="1235160"/>
            <a:ext cx="56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tmodernism is meaningful in terms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xtaposition with modernis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9960" y="2438280"/>
            <a:ext cx="3121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rnism is characterised b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Reason &amp; Ob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Fundamental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Univers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) Machine metap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362320"/>
            <a:ext cx="33526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1080" y="2438280"/>
            <a:ext cx="3432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modernism is characterised b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Reflex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) 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) De-centring the su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2362320"/>
            <a:ext cx="335304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into the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85880" y="714240"/>
            <a:ext cx="57722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480" y="457200"/>
            <a:ext cx="40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managemen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447920"/>
            <a:ext cx="69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agement in the ancient wor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000BC – Egyptians – planning, control organ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00BC – Hebrews – management by excepti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in of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100AD – Ghazali – traits of a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9920" y="2975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0920" y="304920"/>
            <a:ext cx="40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managemen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066680"/>
            <a:ext cx="6095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agement in the mediev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340AD Venetians – double entry bookkee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25AD Machiavelli’s four main the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ss con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hes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0" y="29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24240" y="46101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93800" y="34290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0920" y="533520"/>
            <a:ext cx="40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managemen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4440" y="1362240"/>
            <a:ext cx="7067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agement in during the Industrial Rev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767 Sir James Stewart – source of authority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of 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10 Robert Owen – personnel management, train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er’s ho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32 Chares Babbage - scientific approach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TUDY OF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36800"/>
            <a:ext cx="8229600" cy="22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stream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al see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der and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agerial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ganizational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2360" y="3508200"/>
            <a:ext cx="63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itical appro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flex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be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-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lectical and contradi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cially transfo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4240" y="471600"/>
            <a:ext cx="38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udy of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8480" y="1295280"/>
            <a:ext cx="7853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ritical perspective on the study of manag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agement is a social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nsions exist in managemen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itical studies are embe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itical studies seek to illuminate and transform power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itical theory contains an emancipatory i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itical analysis is concerned with the critique of id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itical theory implies a reconstruction of mainstream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4720" y="457200"/>
            <a:ext cx="47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TIFIC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750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rronet’s time study (17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cientific management - identify what each job invo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sign appropriate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lection &amp; training of appropriate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ncourage high productivity through incentive-based wage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ppropriate management of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5760" y="3886200"/>
            <a:ext cx="792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vidence of other people interested in application of work stu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evons - different size of spade for different material den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bbage - application of strict division of labour and incentive pa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31560" y="762120"/>
            <a:ext cx="58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3040" y="232884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21000" y="2328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y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3080" y="438624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n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70160" y="533520"/>
            <a:ext cx="58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UMAN RELATIONS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625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1400" y="1695600"/>
            <a:ext cx="8114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and - Industrial Fatigue Research Board (First World W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 - Christian-based church group conference (19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awthorne Studies (1924-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8:16:26Z</dcterms:created>
  <dc:creator>Profile9</dc:creator>
  <dc:description/>
  <dc:language>en-US</dc:language>
  <cp:lastModifiedBy>z</cp:lastModifiedBy>
  <dcterms:modified xsi:type="dcterms:W3CDTF">2005-02-28T21:04:32Z</dcterms:modified>
  <cp:revision>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21347456</vt:r8>
  </property>
  <property fmtid="{D5CDD505-2E9C-101B-9397-08002B2CF9AE}" pid="3" name="_AuthorEmail">
    <vt:lpwstr>john.hoodmartin@virgin.net</vt:lpwstr>
  </property>
  <property fmtid="{D5CDD505-2E9C-101B-9397-08002B2CF9AE}" pid="4" name="_AuthorEmailDisplayName">
    <vt:lpwstr>John Martin</vt:lpwstr>
  </property>
  <property fmtid="{D5CDD505-2E9C-101B-9397-08002B2CF9AE}" pid="5" name="_EmailSubject">
    <vt:lpwstr>PowerPoint</vt:lpwstr>
  </property>
  <property fmtid="{D5CDD505-2E9C-101B-9397-08002B2CF9AE}" pid="6" name="_ReviewingToolsShownOnce">
    <vt:lpwstr/>
  </property>
</Properties>
</file>