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AF6-112F-48E7-A51B-3E0B68E85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8600" y="2895480"/>
            <a:ext cx="61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AND TE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 AN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78920" y="220968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4600" y="380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5320" y="1271520"/>
            <a:ext cx="777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plett (1897) - social fac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performance of racing cyclists if accompanied by a paces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itish experience (Wyatt et al. 19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conditions within which work carried out are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edom less likely 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wthor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llumination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y assembly test room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view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nk wiring observation room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findings of the Hawthorn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6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 inevitably form within formally designated grou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 will not always match the groupings designated b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 are not simply motivated by pay and other tangible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 will attempt to form a bottom-up management in order to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ir work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wards from a group may be more significant than anything offered b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 may seek to frustrate management’s intentions and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oups to which an individual belongs will have influence on their attitudes to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-line managers are subjected to increasing pressures from above and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 has no influence on formation informal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 groups can engage in competitive activities that are against the interests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5120" y="45720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85680" y="1295280"/>
            <a:ext cx="55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ans (1950) - three elements of a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6200" y="1123920"/>
            <a:ext cx="6591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0800" y="47160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ckman and Jensen’s model of group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360" y="1600200"/>
            <a:ext cx="274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ge 1 - F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ge 2 - St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ge 3 - N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ge 4 - Perf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ge 5 - Adjo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920" y="3808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dman (19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203480"/>
            <a:ext cx="838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s will adopt a satisficing approach to regulating individual behaviour unl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survival is a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clarity in the expected behaviour of group members is cr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in group activity o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aking action the group can avoid bringing into the open things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be embarrassing or difficult to resol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ral values held by the group are being threat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7784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s on which the structure of a group is depe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czynski and Buchanan 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8960" y="1371600"/>
            <a:ext cx="17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04920"/>
            <a:ext cx="73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nents of the role theory - Handy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6800" y="990720"/>
            <a:ext cx="338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in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overload/und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000" y="30492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esign, technology an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9400" y="1143000"/>
            <a:ext cx="791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one person does the sam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disciplinary work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ous work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of technology to a work situation fundament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he design of the jobs people under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1360" y="272880"/>
            <a:ext cx="77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s are significant to managers an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well as the individuals that belong to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480" y="1447920"/>
            <a:ext cx="804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management involves the management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 must be part of some of the groups that they 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 are also part of the manage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towards managers empowering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activity is a large part of the individuals time withi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 groups can create a shadow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22480" y="17784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9120" y="1773360"/>
            <a:ext cx="490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definitions but all im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one person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must tak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r i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990720"/>
            <a:ext cx="6781680" cy="464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s and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tenbach &amp; Smith suggest that difference between group and team is that of performance and describe the following sca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eudo-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tential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l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performanc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6840" y="38088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, teams an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5120" y="1346040"/>
            <a:ext cx="35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sm grou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grou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9760" y="1371600"/>
            <a:ext cx="81244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53352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gnificance of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359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ses as a result of two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cessity – the need to organiz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ynamic – nature of human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28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and inform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920" y="963720"/>
            <a:ext cx="25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gyle’s form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2240" y="2803680"/>
            <a:ext cx="8076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al groups exist within all organiz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iendship or common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fstede’s marketplace bureaucracy (1984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ance more on personal relations that formal reporting to 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ngs d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gative role of informal relations and networks in excluding women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positions - Cooper and Davidson (198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88740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63760" y="47160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group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99072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ed to have more than one person undertak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ed to incorporate the expertise of a number of people to achieve a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ed to match complexity in the environment through provision of i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methods and 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portunity to minimise worst aspects of work by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for social needs of individ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asis for socialization into the norms of behaviour within the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on from outside th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lso emerge as a result of the nature of work to be undertaken with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560" y="22860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 group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7480" y="1066680"/>
            <a:ext cx="837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 groups come into existence for a number of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and form of form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function in a social environment and form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ary form of informal groups offsets the involuntary n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orm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of managers running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un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2T18:52:25Z</dcterms:modified>
  <cp:revision>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4816660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Next four chapters</vt:lpwstr>
  </property>
  <property fmtid="{D5CDD505-2E9C-101B-9397-08002B2CF9AE}" pid="6" name="_ReviewingToolsShownOnce">
    <vt:lpwstr/>
  </property>
</Properties>
</file>