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C033-89C4-4E7A-A97C-E27C2809F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A288-D710-4FA1-B449-EA9A377EB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F403-2DC1-4499-A883-3BD011E7C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6885-8B81-4615-B651-BAAEA90108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A065-1375-4110-8804-7AB6AEFCE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143B-4046-4CD2-8E78-380D7C15D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DDB8-9280-41C5-874C-2E887C4CB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8F62-1F76-4D7D-95B6-C48BCE3E3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F323-3983-496B-95D1-92BB3D883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4CBB-5EA8-4561-BAB9-5CE43D936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D157-B72E-4346-9534-B15E83318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ADD0-1609-4A9F-90C4-4DF549747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1C5E-859D-4F00-94C3-6EBDF02F6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96160" y="2895480"/>
            <a:ext cx="622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79840" y="22860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CB6B-6CEB-45B0-B45F-E2DAD95281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1880" y="38088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zberg’s two-factor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7360" y="1066680"/>
            <a:ext cx="6721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tivators and hygiene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ygiene factors if absent cause dis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ob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vel and quality of 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any policies and administrative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personal relationships a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tivators - motivate an individual to improve their work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se of achie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ture of the work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v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5E1C-6A7E-4267-A1D0-5718CB2840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66880" y="1600200"/>
            <a:ext cx="7410240" cy="34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AEB0-9704-4FBA-9C47-74C1BD26B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480" y="6094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the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2000" y="1600200"/>
            <a:ext cx="573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oom Porter and Lawler expectancy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m’s equit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e’s goa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lly’s attribu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D28F-08D0-46D7-8BB6-3968B9B087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7280" y="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room/Porter and Lawler expectancy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0560" y="1143000"/>
            <a:ext cx="17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ment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04960" y="2066760"/>
            <a:ext cx="7534080" cy="27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25B0-366A-453A-A4E6-F281EAF537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3480" y="3049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m’s equit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91440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fairness of treatment a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ty/In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362560" cy="401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D076-51EC-4E47-98A1-DEFE8EB07D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9320" y="152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e’s goal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01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9320" y="685800"/>
            <a:ext cx="5308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 play a significant part in behavioural patt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 setting nee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ion requ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 goal/easy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6160" y="557676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1352520"/>
            <a:ext cx="6372360" cy="261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0AE8-6D4C-4E6F-9D4E-73F9616A38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5720" y="61452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perspectives on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81200"/>
            <a:ext cx="815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cGregor’s Theory X and Theor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chi’s Theory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fstede, Trompenaurs and cultural influences on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ccoby’s socia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9EEE-3D5F-40BB-A62D-9E3C6A8B98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0080" y="0"/>
            <a:ext cx="44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management and 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0600" y="1109520"/>
            <a:ext cx="8362800" cy="463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2281-CABA-4077-B52D-A7F45A3F06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0080" y="0"/>
            <a:ext cx="44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management and 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5600" y="581040"/>
            <a:ext cx="5695920" cy="569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050E-FC9F-4753-9928-5A4C9C410D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20" y="22860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anagement and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838080"/>
            <a:ext cx="7391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alanced business score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ovation an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itute of Personnel and Development and Inter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our Organization - high performance working can be defin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stained market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ovation in quality and customer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and continuous improvement fo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of self-managed work t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wing workplace as a source of add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links between training and developmen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al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organizational and individual lear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3347-FC02-4144-9252-E34AF8D6A5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1040" y="3049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3440" y="952560"/>
            <a:ext cx="688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tivation - ‘What impels a person to action, e.g. fear, ambition or lov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perform - ‘Carry into effect… do. Execute tricks at a public show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inction betwee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riv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otiv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ldamus (1961) - 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5648400" cy="270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D87E-6BB4-4573-AE29-5D64285ACA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21640" y="2286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and performance: an organization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0600" y="882720"/>
            <a:ext cx="78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on is based on internal cognitive processes that are not available for dir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pection. This adds complexity for a number of reas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0520" y="1981080"/>
            <a:ext cx="25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ial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8800" y="2438280"/>
            <a:ext cx="20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uational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6840" y="2971800"/>
            <a:ext cx="21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 p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200" y="358128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ment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69800" y="4114800"/>
            <a:ext cx="29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-social basis of behavi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4760" y="4724280"/>
            <a:ext cx="23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ed to do wha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69440" y="5334120"/>
            <a:ext cx="23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performan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133A-676A-44B4-8FE2-E526EDBC68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47760" y="533520"/>
            <a:ext cx="6648480" cy="554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2762-333F-49A6-B856-59133936EA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7720" y="380880"/>
            <a:ext cx="449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1240" y="1219320"/>
            <a:ext cx="3580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levels and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entive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al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apprai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, praise and punis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by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y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478C-5AD6-4A91-8A65-C15D91ACB4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9760" y="609480"/>
            <a:ext cx="76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 do not have the opportunity to adjust all the le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ly avail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0680" y="1828800"/>
            <a:ext cx="2597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 of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p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33B7-26BD-4FF1-B163-821A391200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240" y="152280"/>
            <a:ext cx="39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of motiv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23960" y="919080"/>
            <a:ext cx="589608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DDB3-EE1E-4D06-82E7-6199D796A4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48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F8CB-E5B2-4025-AC7A-C06D1DC7C7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7680" y="533520"/>
            <a:ext cx="45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 theories of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0200" y="1447920"/>
            <a:ext cx="736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low’s hierarchy of needs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derfer’s existence, relatedness and growth theory (E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Clelland’s acquired needs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zberg’s two-factor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FFC6-9AB2-4B25-9CC0-36446F5929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0560" y="457200"/>
            <a:ext cx="42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low’s hierarchy of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2520" y="1317600"/>
            <a:ext cx="660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have innate needs or wants which 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eek to satis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ic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em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actualization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B709-1835-45C4-B148-57066F9FA6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560" y="228600"/>
            <a:ext cx="42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low’s hierarchy of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4400" y="838080"/>
            <a:ext cx="803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ierarchy displays the following proper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need once satisfied is no longer a motiv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need cannot be effective as a motivator until those before it in the hierarchy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een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deprived of the source of satisfaction from a lower order need it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gain become a motiv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re is an innate desire to work up the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f-actualization is not like the other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52640" y="3581280"/>
            <a:ext cx="5238720" cy="261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2F96-B5C2-4830-A7B6-E310DE8725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8680" y="60948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derfer’s ERG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080" y="1523880"/>
            <a:ext cx="3049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-level hierarc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ce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ness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4AB1-A582-4B7C-AEEE-126D631B25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080" y="60948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Clelland’s acquired needs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5280" y="1676520"/>
            <a:ext cx="199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9D5A-E627-4E2D-B50C-D79DFA19CB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2T21:22:45Z</dcterms:modified>
  <cp:revision>4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41511579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