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F9CF5-94D8-4DB3-90B4-3DDD144078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14FC1-2FAD-4A79-9EE2-FC3EED69F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98AFD-B727-494A-B841-896FFEABA6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88E73-A740-448C-9B65-9192C1F36E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C63D1-C6A0-46F6-89FD-CFABD4497F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2247C-FCFD-47C7-9186-305C2B2182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46F20-5A5D-46CD-B3C9-12F27D215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4794F-9AD9-49EE-9F4A-4391B230BD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3CC78-113D-43BC-9570-54203A8553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223D3-7A84-45E4-8794-E6648DB7A2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EB729-22B7-4479-A6A8-CFB210D688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96EC1-1BF6-465D-80E5-C4E11C9293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or use with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RTIN, ORGANIZATIONAL BEHAVIOUR AND MANAGEMENT 3e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ISBN 1-86152-948-1 </a:t>
            </a:r>
            <a:r>
              <a:rPr b="1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Copyright © 2005 Thomson Learning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1447920" cy="41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3257-C4B8-4595-B5A4-3686F6EEE1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5240" y="2895480"/>
            <a:ext cx="590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ALITY &amp;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56880" y="2209680"/>
            <a:ext cx="173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1747E-D6FC-454C-89FC-16E8DB0AD6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43880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124840" cy="275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7D169-EFE8-4CB0-B169-82E596AA70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5760" y="228600"/>
            <a:ext cx="49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lly’s personal construct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1640" y="1030320"/>
            <a:ext cx="8275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dictive approach to identifying behaviour within a particular environmental 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lection of a process of reformulation of hypotheses in light of new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 construc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cteristics relating to use of network of construc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 predic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ce in networks of constructs develop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ts have limited range of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t systems are dynam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E0B83-FF8C-4FD7-A9C9-54BC759F13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14760" y="395280"/>
            <a:ext cx="225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ycho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36520" y="1219320"/>
            <a:ext cx="5798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ee ways in which tests can measure individual differen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formance versus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-referenced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iterion-referenced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36160" y="3200400"/>
            <a:ext cx="490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e are different forms of validity and reliabi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ce val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di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t val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/retest re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ternative form re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lit half re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BB6C5-77E8-4A04-AD17-90D6846946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2080" y="45720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ing psychometric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29528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. Initial ideas often emerge from practical n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. The development of appropriate test items is a creativ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. The final forms of the test are developed and the administration arrangements desig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4. The standardization and ‘norming’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5. Reliability and validity analyzes applied to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FF467-9E0D-4A1E-B9C2-073AC276CC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66680" y="304920"/>
            <a:ext cx="18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llig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6080" y="1143000"/>
            <a:ext cx="3759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ldford (1967) model of intellig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48480" y="3548160"/>
            <a:ext cx="5155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ernberg (1985) information processing-based the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r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91D4E-C9DF-4BB6-A341-FE52E3A01C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65960" y="762120"/>
            <a:ext cx="340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otional intellig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27720" y="1752480"/>
            <a:ext cx="351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lewicz and Higg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ri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strai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nab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BD7DB-5E3A-4117-91E8-E615F68750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1320" y="228600"/>
            <a:ext cx="75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tional applications of individual dif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1880" y="1066680"/>
            <a:ext cx="5552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cruitment and se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ccupational Personality Questionnaire (OP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ssessment Cent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crim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ress and bull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testing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6CF30-7ADF-41C1-907A-9988DD4982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8760" y="533520"/>
            <a:ext cx="50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udy of individual dif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1320" y="1371600"/>
            <a:ext cx="351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infl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al infl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86D1B-EA03-42D4-97DB-F8F76E3BC8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76280" y="2595600"/>
            <a:ext cx="8191440" cy="1666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D34DE-CDE0-44D3-80E4-6C7A7DE725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8600"/>
            <a:ext cx="37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mothetic persp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06668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ysenck and the study of personality typ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xtro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urotic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54920" y="2206800"/>
            <a:ext cx="5729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ttell and personality characteristics - 16 factors Includ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rm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vel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nsi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lf-relianc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83000" y="3886200"/>
            <a:ext cx="386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‘Big Five mode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ra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otional S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reeabl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cientious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ness to exper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09BF0-CCAA-4BEB-8A06-F9D1236879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4720" y="60948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iographic persp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59040" y="613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69800" y="1600200"/>
            <a:ext cx="3915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le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oking-glass 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969AC-0C63-4703-AEAF-E468F949C7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9760" y="1886040"/>
            <a:ext cx="8124480" cy="308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03CD5-07A7-4448-B0D6-FA87A23FBA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97760" y="152280"/>
            <a:ext cx="38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ud and psycho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1080" y="1066680"/>
            <a:ext cx="390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e are three levels of mental activ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consc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-consc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c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78960" y="1066680"/>
            <a:ext cx="320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ind consists of three are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er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86240" y="3048120"/>
            <a:ext cx="421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ain forms of ego defence mechanis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l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n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ction 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do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838080"/>
            <a:ext cx="41148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838080"/>
            <a:ext cx="41148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2971800"/>
            <a:ext cx="449604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A410C-6E07-4283-BFB7-75D6BF25DB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2960" y="471600"/>
            <a:ext cx="47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ng and the cognitive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1187280"/>
            <a:ext cx="352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levels of persona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nscious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unconscious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llective unconsc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38920" y="3124080"/>
            <a:ext cx="64839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different approaches to information gathe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u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n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53AB9-4080-46A0-894A-73495B3968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673000" y="471600"/>
            <a:ext cx="36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rray and perso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4280" y="17524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7320" y="1752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69440" y="464832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89520" y="464832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tra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356E9-87F8-4CA7-A758-4919A10BF3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08:16:26Z</dcterms:created>
  <dc:creator>Profile9</dc:creator>
  <dc:description/>
  <dc:language>en-US</dc:language>
  <cp:lastModifiedBy>z</cp:lastModifiedBy>
  <dcterms:modified xsi:type="dcterms:W3CDTF">2005-02-28T21:57:28Z</dcterms:modified>
  <cp:revision>2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2915102</vt:r8>
  </property>
  <property fmtid="{D5CDD505-2E9C-101B-9397-08002B2CF9AE}" pid="3" name="_AuthorEmail">
    <vt:lpwstr>john.hoodmartin@virgin.net</vt:lpwstr>
  </property>
  <property fmtid="{D5CDD505-2E9C-101B-9397-08002B2CF9AE}" pid="4" name="_AuthorEmailDisplayName">
    <vt:lpwstr>John Martin</vt:lpwstr>
  </property>
  <property fmtid="{D5CDD505-2E9C-101B-9397-08002B2CF9AE}" pid="5" name="_EmailSubject">
    <vt:lpwstr>PowerPoint</vt:lpwstr>
  </property>
  <property fmtid="{D5CDD505-2E9C-101B-9397-08002B2CF9AE}" pid="6" name="_ReviewingToolsShownOnce">
    <vt:lpwstr/>
  </property>
</Properties>
</file>