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696-6714-40D4-878F-8725C004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26B-0651-4828-9D66-412FCC76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362-A2FC-4EE4-937E-D99B4CD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F05-A589-409C-B5A4-372C3A8C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292-EAAF-40D7-9EF5-BEAB2BA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DBE-42AE-4CF6-9F90-C547FFFB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461-9CF2-4E88-81E7-0086CC05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0BA-7A34-47FF-9013-9C50E27C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148-F341-4816-ABBD-A488B707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24E-38B6-4FB3-8EAE-CE70733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2DF-4080-4DF8-8390-4EBA6C3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ABD-DF34-44C4-BA5C-971FDD9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DDFC-223A-44EF-BBC1-E5D9C33E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Basic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Access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ject Properties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543280" cy="392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1125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part of the property list for the AssetId text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844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bs select available groups of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79640" y="227664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3429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sition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4076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ze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08360" y="3573360"/>
            <a:ext cx="863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435640" y="400500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4869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435280" y="5013360"/>
            <a:ext cx="115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ject Propertie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268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event properties for the AssetId textbo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7416720" cy="400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35280" y="11253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with each event such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efore Upd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ll be a procedure defined as a macro or VBA mo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2060640"/>
            <a:ext cx="3024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2060640"/>
            <a:ext cx="1873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276640"/>
            <a:ext cx="180036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Adding controls to a form – the Toolbo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889200" cy="428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4068720" y="1773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413000"/>
            <a:ext cx="28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zard toggle. When this is depressed, a wizard will start when certain contro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 placed on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61080" y="24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31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64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95640" y="26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9528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95640" y="378900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789360"/>
            <a:ext cx="64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6036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24000" y="263664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314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o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221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and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68360" y="414972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0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ing cu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24000" y="2133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494172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 use toolbox, click on tool. Cursor adopts tool icon. Pointing on form at target position, drag to give required s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95280" y="414972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125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ost commonly use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of Form Contr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981000"/>
            <a:ext cx="7704360" cy="53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extbo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ainer that hold a variable data value or show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content of a table/query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b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ainer that holds a constan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utt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taphor for a pressable button, used to activate a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mand - ie. macro or VBA cod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st Bo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static list of selectable options. Can be prese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s or obtained from table/qu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mbo Bo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rop down list combining List box and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xt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heck Bo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fies a settable o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Radio butt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fies one of a set of exclusive o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mag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lds a graphical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Generator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cce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wizard can automatically produce complex reports based on multiple tables and showing levels of summarisa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essary joins are resolved automatically and incorporated into the report desig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ensible to use the wizard to generate the initial report but the layout will generally need further fine tu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Repor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0000" cy="2903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6481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Report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34080" cy="4029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836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is is an example of a summarised report using the Asset and Branch tables. It effectively groups by Branch code/name and totals the value of assets within the branch. It was created initially using the wizard then modified.  The design for this report is shown on th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200720" cy="4152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83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how the design for the Asset/Branch report.  Note pairing of headers and footers. Compare with the structure of the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0560" y="234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349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8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5280" y="321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928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928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981080"/>
            <a:ext cx="441936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Desig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symbol indicates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28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button sets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5178600"/>
            <a:ext cx="29242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ed parameter specifies indexing on column: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Yes, (duplicates OK)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No,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Yes (no duplic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1240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ion value is used to label the column when shown on a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00600" y="1066680"/>
            <a:ext cx="501480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8380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810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73392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638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2590920" cy="91692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ion is condition that new data must obe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 is error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362320"/>
            <a:ext cx="2667240" cy="6426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Size provides additional sizing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743200"/>
            <a:ext cx="190476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5257800" cy="138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64008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867280" y="990720"/>
            <a:ext cx="3124440" cy="426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0" y="609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up by Que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914400"/>
            <a:ext cx="548640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925720"/>
            <a:ext cx="522000" cy="50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5621400" cy="149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429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ma button gives Extra ‘Total’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35812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3611520" cy="164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2340000" y="2205000"/>
            <a:ext cx="2952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8360" y="1989000"/>
            <a:ext cx="1814400" cy="43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34136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s definition of alias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267920"/>
            <a:ext cx="8062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m Design is the most complex aspect of databas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form can be based on a table or query and is said to b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ou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the table/qu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xt boxes on the form show column data in the underlying table/query. Changes to the data in the boxes causes the underlying data to b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form may also b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nbou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i.e. it does not show any table/query data. Used for special applications such as me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m may also use a number of other ‘controls’ –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bels, buttons, list boxes, combo boxes, sub-form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 Desig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5977080" cy="454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5830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atomy of a form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83664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m can have 3 sections as shown. The Header and Footer are op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62864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Header usually contains simple identification lab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781360"/>
            <a:ext cx="223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tails section holds the data boxes and labelling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3860640"/>
            <a:ext cx="180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n built using a Wizard the labels contain the column name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6093000"/>
            <a:ext cx="54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Footer section usually contains various buttons for exiting, saving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989000"/>
            <a:ext cx="1152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3429000"/>
            <a:ext cx="1366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332000" y="3789000"/>
            <a:ext cx="25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763640" y="551628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atomy of a form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1700280"/>
            <a:ext cx="4969080" cy="3147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314172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extbox and the label are ‘tied’ together – both can be moved as one un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11280" y="4292280"/>
            <a:ext cx="1729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522936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s the label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76720" y="479700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55736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box is the ‘form select box’.  Clicking it causes the form to be selec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68360" y="220464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566100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s the textbox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804000" y="443700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, form sections and form controls are all viewed as ‘objects’ with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rties affect the appearance and behaviour of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rties also include ‘event handlers’ – i.e. specification of action to be taken when certain events occur: eg.  a button is pressed, a textbox value is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‘property box’ shows the properties for the selected object. It can be opened from the right mous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9:40:22Z</dcterms:created>
  <dc:creator>Colin Ritchie</dc:creator>
  <dc:description/>
  <dc:language>en-US</dc:language>
  <cp:lastModifiedBy>ldawson-bowling</cp:lastModifiedBy>
  <dcterms:modified xsi:type="dcterms:W3CDTF">2008-04-28T14:41:38Z</dcterms:modified>
  <cp:revision>30</cp:revision>
  <dc:subject/>
  <dc:title>Microsoft Access Course</dc:title>
</cp:coreProperties>
</file>