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1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C4CA5-9053-445B-B80D-6817F98587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90B-4C1A-4D7C-80BD-16F7491D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18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18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559-C021-4E76-94BA-4F87DC9D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560" y="412992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069-9054-482E-BC82-CFD6F710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200" y="198108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360" y="198108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200" y="412992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360" y="412992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6D7-8382-412B-9582-52FA9113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3774-E926-453D-88FC-00AE3BF7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186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3AF0-BC09-46D7-B036-E8E27C25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18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CB85-C360-4330-88C3-E38587ED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8055-73BF-421E-8319-BBCDCED9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B629-CB5B-4E1C-B9D0-2B30CA82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18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4961-677E-4C99-BFEE-2AE0B2FA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91A9-8063-47F7-B0FB-AC1A9FD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186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C83-4DF3-4695-8B43-AF40B785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6560" y="412992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F7A4-DE91-49EC-9EA6-9F902C0B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18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5D2F-11E7-44FB-88A7-3E7664E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18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18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51BF-D97E-4108-BD53-0FFEC4D3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6560" y="412992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308D-10B9-49D9-895C-AC571E14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200" y="198108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5360" y="198108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200" y="412992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5360" y="4129920"/>
            <a:ext cx="271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9BC9-4235-4603-9E15-9B13D479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18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3D9-B298-4944-A8DA-9FBFB045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DB4-4E5C-45CE-AB55-0FA91D53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333-BADC-466B-ABC5-2962327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18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655-BF2D-4055-A6E6-583C0EF8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024-9B15-4398-8DED-F3B49D1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560" y="412992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FB4-C321-4D87-846D-69B1216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560" y="1981080"/>
            <a:ext cx="4107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18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8EC-7E91-4CBF-9A97-52B2B9F7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18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160"/>
            <a:ext cx="2062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160"/>
            <a:ext cx="31352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B3EC30-CC3A-4132-AB29-9A529569F4CD}" type="slidenum">
              <a:rPr b="0" lang="en-GB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7720" y="3340080"/>
            <a:ext cx="829152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18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160"/>
            <a:ext cx="2062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160"/>
            <a:ext cx="31352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5E2ED1-6CBF-4A51-BBC8-F81BE0BE0B68}" type="slidenum">
              <a:rPr b="0" lang="en-GB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95000" y="1604880"/>
            <a:ext cx="89154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84720" y="6248520"/>
            <a:ext cx="31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040" y="6248520"/>
            <a:ext cx="206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Microsoft Access Cours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560" y="3733920"/>
            <a:ext cx="693396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1. Introduction to the user interf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52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Table Design  1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ts val="7024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ign and datasheet mo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2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ach table column defined by name and ty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ts val="7024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ptional formatting, validation, index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Access Table Design Dialogu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800600" cy="426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2286000"/>
            <a:ext cx="3151440" cy="337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4880" y="590868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Table design scre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56800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Datasheet vie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Table Design  2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ield nam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se letters and numbers and undersco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paces allowed but creates more work lat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apitalised format popular:  CustOrderN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Table Design  3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40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in Data typ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Tex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- for character inform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- various formats - see next sli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Dat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- various forma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Currenc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Autonumber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- generates unique sequence number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   in long integer forma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Yes/No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- boole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609480"/>
            <a:ext cx="3741840" cy="3962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Table Design  4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ber types - 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set by Field Siz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yte - 8 bit positiv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eger - 16 bi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ong Integer - 32 bi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ingle - 4 byte floating poi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ouble - 8 byte floating poi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2514600"/>
            <a:ext cx="685800" cy="3049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Table Design  5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ata-ty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ermits various display forma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st choice: Medium date - 12-Nov-0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urrenc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tored as double floa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played as fixed point with 2 decimal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Query Design - dialogu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3817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Query Design - dialogu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420040" cy="48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ign Choice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Design view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:  ‘hand knit’ your que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Simple Query Wizard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:  allows selection of tables and columns but no mor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Others are special cases and rarely required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aved quer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Working queries can be sav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aves queries can be used as source of forms and repor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53960"/>
            <a:ext cx="8420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Query Design interface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488280" cy="2781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4155840" cy="2654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840" y="42670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esign vie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800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atasheet (execute) vie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7200" y="5554800"/>
            <a:ext cx="6575400" cy="86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086600" y="57150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QL vie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420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Form Desig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86764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Verdana"/>
              </a:rPr>
              <a:t>Course Objectives</a:t>
            </a:r>
            <a:r>
              <a:rPr b="0" lang="en-GB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8553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troduction to main features of Acc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lements of Access I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mple design of tables, queries,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s and re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velopment of small appli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529920"/>
            <a:ext cx="86108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Form Design</a:t>
            </a:r>
            <a:r>
              <a:rPr b="0" lang="en-GB" sz="4400" spc="-1" strike="noStrike">
                <a:solidFill>
                  <a:srgbClr val="004c2b"/>
                </a:solidFill>
                <a:latin typeface="Arial"/>
              </a:rPr>
              <a:t> - new form cho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420040" cy="46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 design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esign View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: ‘hand knit’ your form. Needed for menu forms and other special purpose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Form Wizard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: select input tables/queries and columns. Necessary join queries automatically creat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utofor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olumnar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: creates form with all columns arranged vertically, one row per pag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utoform Tabular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: creates form with all columns arranged horizontally, multiple rows per pag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utoform Datasheet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: creates a form using basic table display forma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379080"/>
            <a:ext cx="842004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Form display forma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4965840" cy="4741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926320" y="20988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Tabular, continuous form *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00840" y="46134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Columnar, single form *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86800" y="628956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* 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controlled by form </a:t>
            </a:r>
            <a:r>
              <a:rPr b="0" i="1" lang="en-GB" sz="2000" spc="-1" strike="noStrike">
                <a:solidFill>
                  <a:srgbClr val="333333"/>
                </a:solidFill>
                <a:latin typeface="Times New Roman"/>
              </a:rPr>
              <a:t>Default View 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ropert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43956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4c2b"/>
                </a:solidFill>
                <a:latin typeface="Arial"/>
              </a:rPr>
              <a:t>Forms: Design and Form View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1270080"/>
            <a:ext cx="4419720" cy="3435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410080" y="3306600"/>
            <a:ext cx="3908520" cy="271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1240" y="4724640"/>
            <a:ext cx="453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Design view</a:t>
            </a: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 - note ‘City’ selected for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amendment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Note header and footer sections, unused in this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example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2590920"/>
            <a:ext cx="36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Form view</a:t>
            </a: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 shows execution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of for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682560"/>
            <a:ext cx="8420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Report Desig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851800" cy="43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Report Design - choi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420040" cy="54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ort design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esign view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: ‘hand knit’ your own layout - definitely not recommend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Report Wizard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: powerful tool allows selection of source tables/queries and fields and constructs complex structured report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utoReport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: produces basic reports using all fields of source tables/querie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Label Wizard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: facilitates generation of label printou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377640"/>
            <a:ext cx="5867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Report Design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487760" cy="2907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54738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14040" y="44499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sign Vie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76920" y="31690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revie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360" y="2132280"/>
            <a:ext cx="41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Access only produces </a:t>
            </a:r>
            <a:r>
              <a:rPr b="1" lang="en-GB" sz="2000" spc="-1" strike="noStrike">
                <a:solidFill>
                  <a:srgbClr val="333333"/>
                </a:solidFill>
                <a:latin typeface="Times New Roman"/>
              </a:rPr>
              <a:t>printed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 report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The preview screen shows </a:t>
            </a:r>
            <a:r>
              <a:rPr b="1" lang="en-GB" sz="2000" spc="-1" strike="noStrike">
                <a:solidFill>
                  <a:srgbClr val="333333"/>
                </a:solidFill>
                <a:latin typeface="Times New Roman"/>
              </a:rPr>
              <a:t>only one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page of the output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5120" y="851040"/>
            <a:ext cx="84200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4c2b"/>
                </a:solidFill>
                <a:latin typeface="Verdana"/>
              </a:rPr>
              <a:t>Main features of Access</a:t>
            </a:r>
            <a:r>
              <a:rPr b="1" lang="en-GB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7562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igned fo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dvanced ‘end-user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mall system database applic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apid prototy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ront-end client server applic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4c2b"/>
                </a:solidFill>
                <a:latin typeface="Verdana"/>
              </a:rPr>
              <a:t>Main features of Access</a:t>
            </a:r>
            <a:r>
              <a:rPr b="1" lang="en-GB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4c2b"/>
                </a:solidFill>
                <a:latin typeface="Times New Roman"/>
              </a:rPr>
              <a:t>(cont)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eatu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xtensive point and click facili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object-based constru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ully-featured DB engine technology suitable for multi-user applic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derlying VBA language for advanced capabi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ODBC, DAO and ADO support for inter-system commun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Overview of Access 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ain database window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Shows available tools for database desig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Each element has options–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Open (or Run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New     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76880" y="1916280"/>
            <a:ext cx="531324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Overview of Access IDE </a:t>
            </a: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8420040" cy="28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Query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ign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QBE grid:  columns, condi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QL view: QBE equival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Query execu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Query storage - relational ‘view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6160" y="1413000"/>
            <a:ext cx="8420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able design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efines database schem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efines attributes, data types, type qualifiers,   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validation, index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Overview of Access IDE </a:t>
            </a: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sed to develop the users’ interface to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ables viewing of data from tables or quer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orm built from screen objects (text boxes, labels, buttons) called ‘controls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xtensive presentation facili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ain focus of application develop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Overview of Access IDE </a:t>
            </a: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4200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sed for printed reports on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xtensive facilities for grouping sub-totaling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cr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acility for script-like comman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rincipally intended for non-programming us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Not essential - macro actions can be implemented in VB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Arial"/>
              </a:rPr>
              <a:t>Overview of Access IDE </a:t>
            </a: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pository for ‘global’ modu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st modules are part of form or report - called ‘class modules’ - scope local to form/repo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lobal modules accessible by any form/repo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lin Ritchie</dc:creator>
  <dc:description/>
  <dc:language>en-US</dc:language>
  <cp:lastModifiedBy>cri</cp:lastModifiedBy>
  <cp:revision>0</cp:revision>
  <dc:subject/>
  <dc:title>Microsoft Access Course</dc:title>
</cp:coreProperties>
</file>