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28F5-3784-42D6-A1F1-84EFE9E97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AEE9-B82D-4EEA-B83E-1D3847B60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75B8-297C-4C30-A6F6-6D087B91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E041-BF27-42BC-9BCC-EFD49B80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A610-8EE4-48CE-BFAD-C98BEA97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51D4-27CC-406B-BE16-8401C7B9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D6E9-6D3D-40DF-942D-79B20128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592A-FC03-475A-ACFC-16ED045B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34C5-CB0F-4B05-8D55-8484B47E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CAE-AB72-4155-ACD8-B7F6E531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733E-5AED-4C21-A443-3B475C4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1A9E-F463-4866-914E-0034821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0428-B913-4E3E-98BC-54CE634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B3E1-F206-47B9-B7AC-B342352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9FCE-443C-48CB-B0A5-22D2917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6F7C-BFBD-4C60-ABE8-E98E1A0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CCB4-AFC7-4FB5-BB84-3F7FF80D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67DB-2809-44AF-8653-EDEE6A7D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6B5-116D-44B4-BDA6-18D6F349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B00B-D68E-42E8-8130-F5A6237B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5959-5440-498A-8795-17B25AEB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C8F2-80A9-4392-96A5-424F492A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5EE8-9B2A-481D-B23D-823B742C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6817-A90D-444C-A6FA-55E4894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D12F-13D9-4AFD-BAB6-8186D4F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F117-575B-461A-A5D8-C2EDC452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9280" y="6705360"/>
            <a:ext cx="5840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7F42-054B-4B53-A298-681F4EE35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99720" y="6400800"/>
            <a:ext cx="56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4C01-BA45-435D-8AB9-19B59D135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UE Meta"/>
              </a:rPr>
              <a:t>Planning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urcing strategy: getting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tter results from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The myth of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ram and Hendrick (199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A ‘partner’ is defined as a firm with whom your company has an   ongoing buyer-seller relationship, involving a commitment over an extended time-period, a mutual sharing of information and a sharing of risks and rewards resulting from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earch has demonstrat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upplier relations can be characterized as a partnership relationship. However, these suppliers were responsible fo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2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otal purchasing volu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The myth of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TI (1994) study concludes that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‘in developing new working agreements with their suppliers most vehicle manufacturers still appear to deal more in rhetoric than in realit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es a no surprise. Cooperation with suppliers requires internal teamwork between all disciplines and companies still operate in a functional mann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partnership with suppliers takes time. The road is long and difficult. There are no easy ways or short cuts to success 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1846440"/>
          <a:ext cx="8397720" cy="4662360"/>
        </p:xfrm>
        <a:graphic>
          <a:graphicData uri="http://schemas.openxmlformats.org/drawingml/2006/table">
            <a:tbl>
              <a:tblPr/>
              <a:tblGrid>
                <a:gridCol w="1133280"/>
                <a:gridCol w="1662120"/>
                <a:gridCol w="1724040"/>
                <a:gridCol w="1908360"/>
                <a:gridCol w="1969920"/>
              </a:tblGrid>
              <a:tr h="5583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Relationship character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ct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ategi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Time – horiz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om order to or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3 yea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5 yea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Qu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 requested 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ty control 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 requested 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ty control 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d  suppl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‘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gn-off’ by suppl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ty assessment 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l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gn-off by suppl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rly suppl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volvement in desig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ty assessment 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l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Log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d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agreements + call- off ord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iodical scheduling of materials requirement by produc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ectronic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han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Contra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om order to or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agreemen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 yea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agreemen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&gt;1 yea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ty agre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ign contra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fe of type responsibilit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Price/c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ce+ reb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ce + cost-redu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ce based on op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lcu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inuous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31640" y="1413000"/>
            <a:ext cx="8681760" cy="415800"/>
            <a:chOff x="431640" y="1413000"/>
            <a:chExt cx="8681760" cy="415800"/>
          </a:xfrm>
        </p:grpSpPr>
        <p:sp>
          <p:nvSpPr>
            <p:cNvPr id="137" name=""/>
            <p:cNvSpPr/>
            <p:nvPr/>
          </p:nvSpPr>
          <p:spPr>
            <a:xfrm>
              <a:off x="431640" y="1413000"/>
              <a:ext cx="1477800" cy="415800"/>
            </a:xfrm>
            <a:custGeom>
              <a:avLst/>
              <a:gdLst>
                <a:gd name="textAreaLeft" fmla="*/ 0 w 1477800"/>
                <a:gd name="textAreaRight" fmla="*/ 1478160 w 147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sp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1280" y="1413000"/>
              <a:ext cx="1962720" cy="415800"/>
            </a:xfrm>
            <a:custGeom>
              <a:avLst/>
              <a:gdLst>
                <a:gd name="textAreaLeft" fmla="*/ 0 w 1962720"/>
                <a:gd name="textAreaRight" fmla="*/ 1962720 w 19627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6" y="0"/>
                  </a:lnTo>
                  <a:lnTo>
                    <a:pt x="21600" y="10800"/>
                  </a:lnTo>
                  <a:lnTo>
                    <a:pt x="18206" y="21600"/>
                  </a:lnTo>
                  <a:lnTo>
                    <a:pt x="0" y="21600"/>
                  </a:lnTo>
                  <a:lnTo>
                    <a:pt x="3394" y="108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61600" y="1413000"/>
              <a:ext cx="2034000" cy="415800"/>
            </a:xfrm>
            <a:custGeom>
              <a:avLst/>
              <a:gdLst>
                <a:gd name="textAreaLeft" fmla="*/ 0 w 2034000"/>
                <a:gd name="textAreaRight" fmla="*/ 2034360 w 20340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99" y="0"/>
                  </a:lnTo>
                  <a:lnTo>
                    <a:pt x="21600" y="10800"/>
                  </a:lnTo>
                  <a:lnTo>
                    <a:pt x="18699" y="21600"/>
                  </a:lnTo>
                  <a:lnTo>
                    <a:pt x="0" y="21600"/>
                  </a:lnTo>
                  <a:lnTo>
                    <a:pt x="2901" y="108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Preferred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2760" y="1413000"/>
              <a:ext cx="2219040" cy="41580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50" y="0"/>
                  </a:lnTo>
                  <a:lnTo>
                    <a:pt x="21600" y="10800"/>
                  </a:lnTo>
                  <a:lnTo>
                    <a:pt x="18650" y="21600"/>
                  </a:lnTo>
                  <a:lnTo>
                    <a:pt x="0" y="21600"/>
                  </a:lnTo>
                  <a:lnTo>
                    <a:pt x="2950" y="108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upply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4360" y="1413000"/>
              <a:ext cx="2219040" cy="41580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50" y="0"/>
                  </a:lnTo>
                  <a:lnTo>
                    <a:pt x="21600" y="10800"/>
                  </a:lnTo>
                  <a:lnTo>
                    <a:pt x="18650" y="21600"/>
                  </a:lnTo>
                  <a:lnTo>
                    <a:pt x="0" y="21600"/>
                  </a:lnTo>
                  <a:lnTo>
                    <a:pt x="2950" y="108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Design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476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The myth of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The myth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Partnership is the result of the contractors’ continuous effort to improve results in the relationship with suppliers, rather than a technique  which can be adapted and applied in a short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suppliers do not always think in the interest of thei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elements of suppl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better results fro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yth of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Why suppliers do not always think in the interest of their custom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56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slack in materials cost and pr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ice increases automatically passed on to the next i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Over -specification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requirements (defined by  R&amp;D departments) which are not necessary for the functioning of the product are imposed on supplier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echanistic competitive bidding amongst a fixed group of supplier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rs regularly sound out competition amongst a limited number of suppliers by playing them off against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Why suppliers do not always think in the interest of their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 for slack in materials cost and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upplier cartels in (international) supply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raditional purcha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yers are involved late, if at all, in the purchasing decision-making process; the company deals with a fixed group of familiar suppli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uppliers’ customers relationship progra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lationship programs include offering fringe benefits to customers (e.g. invitations for sports events, exhibitions and trade fairs) in order to create a preferred position at members of Decision Making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Main elements of suppli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strategy should answer these core ques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commodities should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number of suppliers be 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commodities should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current number of suppliers be mainta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commodities should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number of suppliers be incr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Main elements of suppli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li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ing strateg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Global versus local sourc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upplier orientation necessary or is local, national orientation suffic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ingle versus multiple sourc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the product at one or more suppli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artnership or competitive bidding?</a:t>
            </a: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from supplier with whom a partnership relation is preferred or keep the supplier at d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Main elements of suppli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lier relation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strateg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Buying on contract or buying on spot basi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otal volume of purchased products to be covered by a contract or is part of the volume bought on a spot ba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ice agreement versus performance agree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a price agreement or is a detailed service level agreement (SLA) necessary with arrangements on time, tests, maintenance et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Fixed fee contract versus cost plus contrac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Chapter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Getting better results from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1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performance based relationsh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epwis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ntract revie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orough analysis of current contract arrangements with existing suppliers. Objective: agree on a performance based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mpetitive bidding amongst existing and new supplier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(international) supply market, sounding out international competition. Objective: Select Best-In-Class supp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Optimizing supplier relationship and value chain mapping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is on continuous improvement with the supplier based upon Total Cost of Owner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The myth of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s, one of the first European companies focussing on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artne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roduced the term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‘co-makership.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ersma (1991) defined it as: </a:t>
            </a:r>
            <a:r>
              <a:rPr b="0" i="1" lang="en-US" sz="2400" spc="-1" strike="noStrike">
                <a:solidFill>
                  <a:srgbClr val="cc9900"/>
                </a:solidFill>
                <a:latin typeface="Arial"/>
              </a:rPr>
              <a:t>‘the building of long-term relationships with a limited number of  suppliers based on mutual trus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of this type co-operation is to achieve improvements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760" indent="-2484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760" indent="-2484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760" indent="-2484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760" indent="-2484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2:41Z</dcterms:modified>
  <cp:revision>20</cp:revision>
  <dc:subject/>
  <dc:title>Analysis</dc:title>
</cp:coreProperties>
</file>