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CEF6-307E-4E0F-B60A-4744F8E0F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E71A-AFB5-46DD-AC31-0F9CBFDB7D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BC51-5C03-40B8-8D0F-C8171190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B4CD-C032-4B06-89CB-37815442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35A0-0796-4C08-AB08-71DFBED7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12AB-F8F4-403E-A512-54C14587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1FE7-CEC2-493A-962D-03B7BDC4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38CA-54E4-46EB-A236-69186A48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4992-82E5-4B54-9B7B-25BBB737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2741-BBBE-4848-9D81-789E17C0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1B58-BFF8-4BDE-B2F8-894D0371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FE17-530A-4E24-8AD1-5FB1C0F3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AF46-CDA5-4F37-9752-0D61F441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72A9-163E-4AF7-9037-41A484C1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EEF8-0BDA-4A06-A5EA-4A5E2EE9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490B-262E-49CA-8573-C652042A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49EC-6199-420C-B3BA-307FEC8B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EF94-7489-416C-B1D5-645B84A5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261F-C2F5-4EE4-A6B4-649F3060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0468-FB7E-4B50-8EB9-A7C7F253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5CE9C-0B6C-4C49-B4F8-337A83A0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BA0A-4C52-4D1A-AE7A-3118E4A8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A53E-C7CE-4939-A3F7-1834565B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CB6D-6426-49DC-A1D2-00A285F4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2C27A-280A-46A1-85F4-01EDBA15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50E5-A4EB-48A0-9E07-3A246385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-38520" y="6500880"/>
            <a:ext cx="648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F949-604C-411B-AB7E-419470FAE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-36360" y="6632640"/>
            <a:ext cx="66974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5966-55AC-4EFB-905C-485BA86885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ovisint.com/" TargetMode="External"/><Relationship Id="rId2" Type="http://schemas.openxmlformats.org/officeDocument/2006/relationships/hyperlink" Target="http://www.supplyon.com/" TargetMode="External"/><Relationship Id="rId3" Type="http://schemas.openxmlformats.org/officeDocument/2006/relationships/hyperlink" Target="http://www.aeroxchange.com/" TargetMode="External"/><Relationship Id="rId4" Type="http://schemas.openxmlformats.org/officeDocument/2006/relationships/hyperlink" Target="http://www.b2b-aero.com/" TargetMode="External"/><Relationship Id="rId5" Type="http://schemas.openxmlformats.org/officeDocument/2006/relationships/hyperlink" Target="http://www.exostar.com/" TargetMode="External"/><Relationship Id="rId6" Type="http://schemas.openxmlformats.org/officeDocument/2006/relationships/hyperlink" Target="http://www.bravobuild.it/" TargetMode="External"/><Relationship Id="rId7" Type="http://schemas.openxmlformats.org/officeDocument/2006/relationships/hyperlink" Target="http://www.edilportale.it/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TUE Meta"/>
              </a:rPr>
              <a:t>Planning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9920" y="4508640"/>
            <a:ext cx="7372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. Purchasing Intelligence and market resear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2280" y="40176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Subjects of purchasing market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912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on (1976) distinguishes 3 areas of investig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Materials, goods and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ims at realizing savings or at reducing purchasing relat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upplie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cerned with obtaining specific information with regard to the supplier’s financial performance, capabilities, management, processes,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ystems and procedur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good purchasing information system is of great importance. ICT offers great possibilities but it has to be guided on the basis of buyer’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2280" y="3286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Subjects of purchasing market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disti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Macro-economic research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s to the general economic environment and focuses on factors that can influence the future balance between supply and de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Meso-economic research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cuses on specific sectors of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Micro-economic research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cuses on assessing strengths and weaknesses of individual suppliers and 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79800" y="847800"/>
            <a:ext cx="5603760" cy="594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03560" y="1827360"/>
            <a:ext cx="3735360" cy="396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46760" y="2828880"/>
            <a:ext cx="1962000" cy="2081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46760" y="3821040"/>
            <a:ext cx="28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81680" y="382104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881680" y="2333520"/>
            <a:ext cx="2413080" cy="14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3466800" y="2333520"/>
            <a:ext cx="2414520" cy="14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78000" y="38210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81680" y="3821040"/>
            <a:ext cx="855720" cy="173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81680" y="3821040"/>
            <a:ext cx="16351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412960" y="3821040"/>
            <a:ext cx="468360" cy="90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557240" y="5554800"/>
            <a:ext cx="4669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390480" y="4729320"/>
            <a:ext cx="855720" cy="49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024160" y="3821040"/>
            <a:ext cx="85716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99160" y="1238400"/>
            <a:ext cx="2352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Macro-economic resear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23360" y="2282760"/>
            <a:ext cx="2283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Meso-economic resear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65280" y="3002040"/>
            <a:ext cx="151272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Micro-econom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25880" y="3786120"/>
            <a:ext cx="616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BAS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80680" y="4178160"/>
            <a:ext cx="548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Sh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51440" y="4505400"/>
            <a:ext cx="438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G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83800" y="4440240"/>
            <a:ext cx="616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Bay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42840" y="3852720"/>
            <a:ext cx="517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F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35760" y="4113360"/>
            <a:ext cx="7779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Chrys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74760" y="5529240"/>
            <a:ext cx="398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52440" y="5951520"/>
            <a:ext cx="636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Jap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02840" y="5397480"/>
            <a:ext cx="398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1480" y="4025880"/>
            <a:ext cx="726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13880" y="4767120"/>
            <a:ext cx="12369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e.g. Chemic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indus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99960" y="5092560"/>
            <a:ext cx="8924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Chemic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indus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66320" y="4622760"/>
            <a:ext cx="10404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Automoti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indus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0720" y="4048200"/>
            <a:ext cx="557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 Narrow"/>
              </a:rPr>
              <a:t>Ste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7021080" y="5224320"/>
            <a:ext cx="430200" cy="260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451640" y="4309920"/>
            <a:ext cx="370080" cy="1239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6713280" y="4113000"/>
            <a:ext cx="368280" cy="5871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219360" y="4700520"/>
            <a:ext cx="5540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6467040" y="4505040"/>
            <a:ext cx="306360" cy="129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35200" y="5092560"/>
            <a:ext cx="306360" cy="262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941280" y="4505400"/>
            <a:ext cx="677880" cy="326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19800" y="5354640"/>
            <a:ext cx="0" cy="652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235480" y="4505400"/>
            <a:ext cx="61920" cy="326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510160" y="4742640"/>
            <a:ext cx="250920" cy="307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6527880" y="5484600"/>
            <a:ext cx="923760" cy="129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741920" y="4113000"/>
            <a:ext cx="307800" cy="5871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8800" y="836640"/>
            <a:ext cx="326556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UE Meta"/>
              </a:rPr>
              <a:t>Three are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UE Met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UE Meta"/>
              </a:rPr>
              <a:t>of purchasing marke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UE Meta"/>
              </a:rPr>
              <a:t>research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95280" y="6308640"/>
            <a:ext cx="1570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dapted from Fa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d de Weerd, 198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116000" y="1092240"/>
          <a:ext cx="7265880" cy="5721480"/>
        </p:xfrm>
        <a:graphic>
          <a:graphicData uri="http://schemas.openxmlformats.org/drawingml/2006/table">
            <a:tbl>
              <a:tblPr/>
              <a:tblGrid>
                <a:gridCol w="1777680"/>
                <a:gridCol w="2735280"/>
                <a:gridCol w="2752920"/>
              </a:tblGrid>
              <a:tr h="3193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72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Macro-econom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ycle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grow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uti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 in indu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of w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clim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580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Meso-econom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-and-dem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 situation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908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Micro-econom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l sit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delive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lead 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quali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ship and sha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-price struc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463680" y="541440"/>
            <a:ext cx="72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parameters to be addressed in purchasing market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Purchasing market research and informatio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ies are discovering the many ways in which ICT may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purchasing operations and strategies. Some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ny’s like 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Gras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nufacturer of industrial cooling and heating equipment and part of a large German group with business units around the world, have installed a purchasing intranet within three months enabling exchange of product, supplier and contr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uppliers like 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Yellow Pages, A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now available through their websites vast supplier bases covering supplier addresses in all major EC countries enabling buyers to conduct market surveys in short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So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s its Purchasing website to attract new suppliers for certain commod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nies like 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FedEx, DHL, 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 linkages through the Internet which enable companies to keep track of their delive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UE Meta"/>
              </a:rPr>
              <a:t>Introduction of purchasing marke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9040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on 1976 mentions 3 methods of establishing purchasing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reate a staff department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 all purchasing market research activities in a separate department or section. Advantage: research can be allocated to specialist researc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Market research conducted by the bu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: research only done on issues which buyers consider relevant and this enlarges their involvem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s: buyer’s lack of time to do the research systematically and the lack of knowledge of market research techn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Work with researc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e solution: ad hoc research teams consisting of buyers and researc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purchasing market re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market research: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tructure purchasing 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s of purchasing 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market research and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ng for purchasing 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Why purchasing market resear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ontinuing technological developments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a company develop new technologies itself or buy them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Supply market dynamics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supply and demand are constantly changing due to changes in business cycles, mergers and acquisitions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hanges in European economies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international labour costs and productivity may lead to different sourcing patterns by large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Monetary developments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inflation in some countries, large governmental budget deficits, rapidly changing currency exchange rates may require action from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912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Purchasing market research: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ron (1976) defines purchasing market research as</a:t>
            </a:r>
            <a:r>
              <a:rPr b="1" lang="en-US" sz="3200" spc="-1" strike="noStrike">
                <a:solidFill>
                  <a:srgbClr val="000000"/>
                </a:solidFill>
                <a:latin typeface="TUE Scal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9900"/>
                </a:solidFill>
                <a:latin typeface="Arial Narrow"/>
              </a:rPr>
              <a:t>Systematic gathering, classifying and analyzing data considering all relevant factors that influence the procurement of goods and services for the purpose of meeting present and future company requirements in such a way that they contribute to an optimal re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How to structure market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7880" y="2023560"/>
            <a:ext cx="7770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Determin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xactly is the problem to be solved? What information is desired? How accurate does the information have to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ost-benefit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ill be the costs of the research? How many hours are requi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nformation is already available?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xt step is only taken when the required information is unavailable in the form of publications or stat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How to structure market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Design of research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action is sometimes needed to obtain information, e.g. auditing a supplier. A detailed project plan is needed to prepare for re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Execution of research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tage it is important to follow the project plan prepared earl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Preparing research report and evaluation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research is finished a report has to be prepared- this has to contain the assignment, as well as the obtain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37400" y="1501920"/>
            <a:ext cx="2095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termine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9720" y="2548080"/>
            <a:ext cx="215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st-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1640" y="3556080"/>
            <a:ext cx="2032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480" y="5159520"/>
            <a:ext cx="2753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sign of research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42040" y="4049640"/>
            <a:ext cx="1785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3840" y="189396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3840" y="3005280"/>
            <a:ext cx="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42040" y="2938320"/>
            <a:ext cx="1785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39280" y="2090880"/>
            <a:ext cx="2366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pare research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5840" y="1241280"/>
            <a:ext cx="11228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3840" y="3984480"/>
            <a:ext cx="0" cy="117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22480" y="4506840"/>
            <a:ext cx="7538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60920" y="5943600"/>
            <a:ext cx="882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16680" y="4506840"/>
            <a:ext cx="1494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sk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15600" y="5943600"/>
            <a:ext cx="1471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el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23680" y="5094360"/>
            <a:ext cx="1816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ec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search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4702320"/>
            <a:ext cx="61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18080" y="613872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9920" y="535608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25680" y="463680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25680" y="5356080"/>
            <a:ext cx="0" cy="84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25680" y="620568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25680" y="463716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470232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613872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73760" y="4702320"/>
            <a:ext cx="0" cy="143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73760" y="55515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8004240" y="444132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943760" y="3330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881840" y="248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881840" y="1633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8000" y="2421000"/>
            <a:ext cx="28220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i="1" lang="en-US" sz="2300" spc="-1" strike="noStrike">
                <a:solidFill>
                  <a:srgbClr val="cc9900"/>
                </a:solidFill>
                <a:latin typeface="TUE Meta"/>
              </a:rPr>
              <a:t>A stepwise approa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468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UE Meta"/>
              </a:rPr>
              <a:t>How to structure market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How to structure market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 researc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vers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researc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Desk researc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thering, analysis and interpretation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serve the research assignment, but which have already b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ed by others (e.g. internet searc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Field researc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thering, analysis and interpretation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that cannot be obtained by desk research. It tries to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 new information: visits to industrial exhibitions and supplier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of field research metho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8480" y="185760"/>
            <a:ext cx="8436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E Meta"/>
              </a:rPr>
              <a:t>How to structure market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2134800"/>
            <a:ext cx="3744720" cy="38862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o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ovisin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supplyon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www.aeroxchang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ww.b2b-aer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www.exostar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and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www.bravobuild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edilportale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citadon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elemic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chemconnec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33920" y="2135160"/>
            <a:ext cx="3898800" cy="38862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care and Pharmaceu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ghx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and consumer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gnx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wwr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ation and 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transcor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and fu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eutili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traderanger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 and be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transcor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cpgmarke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520" y="5975280"/>
            <a:ext cx="49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list was taken from e-market services (2003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-market places may have underg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changes since th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3800" y="1432080"/>
            <a:ext cx="64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most important e-marketplaces listed per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4:34:01Z</dcterms:created>
  <dc:creator>Frank Rozemeijer</dc:creator>
  <dc:description/>
  <dc:language>en-US</dc:language>
  <cp:lastModifiedBy>ldawson-bowling</cp:lastModifiedBy>
  <dcterms:modified xsi:type="dcterms:W3CDTF">2008-02-08T11:21:12Z</dcterms:modified>
  <cp:revision>19</cp:revision>
  <dc:subject/>
  <dc:title>Analysis</dc:title>
</cp:coreProperties>
</file>