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02CE-03E6-428F-93B6-286B16BE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007A-0157-4273-9BE7-7D275F5E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AC39-A258-4902-992B-B3A08EEF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A38F-AA96-4278-A9A6-72D8192D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6C2B-C478-4BC7-8180-CD0EC193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89D7-5347-4D87-951F-A7B80D64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D659-A5E8-4068-8559-84CBCC04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AF96-585D-4363-A56F-B458AF13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B0CF-1DBE-407D-9BB2-E2576839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64A1-FDB2-4F62-8E22-139E4F37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37F8-EDB6-450C-9376-F8D2C22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D8FD-F6C4-4A50-BA9A-EFCD687C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9264-4E99-40E1-B9EA-AC8FAF6B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F844-C0F7-46F5-8794-ED549336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2FB2-79E8-4933-8CA0-9F6B7DCE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4F0D-B0E5-4B35-9F0E-3ADCC693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A4DF-B2AA-4D35-B686-FA6D050E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C7ED-B009-4C4D-BA75-E8B74AE4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F06F-4601-4A1D-A5F3-A12E431E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ECE1-AA77-4545-9389-3CC4FDF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C1BE-A9FD-4FB1-BBA0-2218F13B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C017-DE5F-431B-A25D-0AAC611C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F006-4CF9-4648-8A57-561BA42C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2C9D-4A26-4E2F-99AA-E084DC77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9280" y="6644880"/>
            <a:ext cx="561672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4D77-B58F-4133-BBEF-300ADA085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4920" y="6427800"/>
            <a:ext cx="705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engage Learning – Purchasing &amp; Supply Chain Management 4 ed (1-84480-024-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103C-6DD3-4AE4-AE4C-21C03B927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. Industrial buying behavio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cision making in purchas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bottlenecks and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Supplier or brand specification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buyers are involved only to a minor extent in the specification phase, so the specifications of the user are often designed ‘towards’ a particular 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Inadequate supplier selec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fficient screening of suppliers on financial strenghts and technical capabilities leading to discontinuities of supply in delivery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Insufficient contracting experti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ing to misunderstandings on how supplier should perform and difficulties in solving delivery and qual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Too much emphasis on pric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need to be based upon total-cost-of- ownership (TCO) rather than pric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dministrative organis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clear procedures with regard to procurement or authorisation of orders, leads to lack of control on purchasing expenditure and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ole of the purchasing depar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5120" y="2279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fferent items are not purchased by the purchasing department, but by management, accounting, administration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chasing department usually is mainly involved in the procurement of indirect materials, somewhat less in production-related items and least in investment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olvement of the purchasing department is limited during  the first few stages of the purchas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ly purchasing’s role focused on the last stage of the process, when contracts have to be drawn up and when orders have to be placed. This picture is changing, howev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ole of the purchasing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4111920"/>
          </a:xfrm>
          <a:prstGeom prst="rect">
            <a:avLst/>
          </a:prstGeom>
          <a:solidFill>
            <a:srgbClr val="cccce6"/>
          </a:solidFill>
          <a:ln w="9360">
            <a:solidFill>
              <a:srgbClr val="666699"/>
            </a:solidFill>
            <a:miter/>
          </a:ln>
          <a:effectLst>
            <a:outerShdw dist="36147" dir="2700000" blurRad="0" rotWithShape="0">
              <a:srgbClr val="00007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ype of purchasing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ey raw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uters and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ase con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sur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counting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at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c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oks and magaz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les promotion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mporary labour an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leaning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49920" y="1981080"/>
            <a:ext cx="3898800" cy="411192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99"/>
            </a:solidFill>
            <a:miter/>
          </a:ln>
          <a:effectLst>
            <a:outerShdw dist="36147" dir="2700000" blurRad="0" rotWithShape="0">
              <a:srgbClr val="00007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urchas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counting, IT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nagement, 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les,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Facilities manager, Cat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&amp;D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les,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ersonnel department, H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Facilities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chnical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3573360"/>
            <a:ext cx="36036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6440" y="2959200"/>
            <a:ext cx="2438640" cy="2209680"/>
          </a:xfrm>
          <a:prstGeom prst="ellipse">
            <a:avLst/>
          </a:prstGeom>
          <a:solidFill>
            <a:srgbClr val="cc9900"/>
          </a:solidFill>
          <a:ln w="57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 dimensions of the purchasing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79680" y="2959200"/>
            <a:ext cx="2432160" cy="2209680"/>
          </a:xfrm>
          <a:prstGeom prst="ellipse">
            <a:avLst/>
          </a:prstGeom>
          <a:noFill/>
          <a:ln w="5724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urchasing </a:t>
            </a:r>
            <a:r>
              <a:rPr b="1" lang="nl-NL" sz="20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66760" y="1844640"/>
            <a:ext cx="2895480" cy="1977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Times New Roman"/>
              </a:rPr>
              <a:t>Technical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termine spec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dit suppliers’ quality orga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lu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Quality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pplier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raw up con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66760" y="4543560"/>
            <a:ext cx="2895480" cy="19162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Times New Roman"/>
              </a:rPr>
              <a:t>Logistical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ptimisation of ordering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rder expediting and follow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coming insp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onitoring delivery 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05240" y="1844640"/>
            <a:ext cx="3038760" cy="1946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Times New Roman"/>
              </a:rPr>
              <a:t>Commercial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pply market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pplier vis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quests for quo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valuate quo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gotiations with suppl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05240" y="4543560"/>
            <a:ext cx="3038760" cy="17337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Times New Roman"/>
              </a:rPr>
              <a:t>Administrative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rder handling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, expediting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and fi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ecking supplier inv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ecking payments to sup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0920" y="566640"/>
            <a:ext cx="849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s of industrial buying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63480" y="2206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Variables that affect the buy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importance of the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s of money involved in the purc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supply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risk related to the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the purchasing department in the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to which the purchase product affects existing routines in the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5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s of industrial buying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586400" y="3594240"/>
            <a:ext cx="3817440" cy="2503080"/>
            <a:chOff x="4586400" y="3594240"/>
            <a:chExt cx="3817440" cy="2503080"/>
          </a:xfrm>
        </p:grpSpPr>
        <p:sp>
          <p:nvSpPr>
            <p:cNvPr id="287" name=""/>
            <p:cNvSpPr/>
            <p:nvPr/>
          </p:nvSpPr>
          <p:spPr>
            <a:xfrm>
              <a:off x="4586400" y="4845960"/>
              <a:ext cx="1909080" cy="1251360"/>
            </a:xfrm>
            <a:prstGeom prst="rect">
              <a:avLst/>
            </a:prstGeom>
            <a:solidFill>
              <a:srgbClr val="cc99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nance 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dminis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in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95480" y="4845960"/>
              <a:ext cx="1908360" cy="1251360"/>
            </a:xfrm>
            <a:prstGeom prst="rect">
              <a:avLst/>
            </a:prstGeom>
            <a:solidFill>
              <a:srgbClr val="cc99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ross-func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ecision mak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86400" y="3594240"/>
              <a:ext cx="1906920" cy="1249560"/>
            </a:xfrm>
            <a:prstGeom prst="rect">
              <a:avLst/>
            </a:prstGeom>
            <a:solidFill>
              <a:srgbClr val="cc99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urchas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epar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in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95480" y="3594240"/>
              <a:ext cx="1908360" cy="1251720"/>
            </a:xfrm>
            <a:prstGeom prst="rect">
              <a:avLst/>
            </a:prstGeom>
            <a:solidFill>
              <a:srgbClr val="cc99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ngineer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in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823280" y="3149640"/>
            <a:ext cx="3353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Low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08720" y="134136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Product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86400" y="3092400"/>
            <a:ext cx="38178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5920" y="3693960"/>
            <a:ext cx="60984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2200" y="2867040"/>
            <a:ext cx="1447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Commer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8080" y="3594240"/>
            <a:ext cx="0" cy="26035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3276720" y="2349000"/>
            <a:ext cx="1317600" cy="12574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89400" y="1854360"/>
            <a:ext cx="22017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Standar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Technically 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Existing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Repeat pur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Easy to install &amp;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No after sales service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80080" y="1854360"/>
            <a:ext cx="20113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Customise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Complex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New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Initial  pur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Difficult to inst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After sales service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6880" y="3683160"/>
            <a:ext cx="27370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Limited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Small ord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Short-term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No organisational adaptatio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Low impact on financi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6880" y="4978440"/>
            <a:ext cx="3276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High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Large ord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Long-term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Extensive organisational adaptatio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High impact on financi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499080" y="1854360"/>
            <a:ext cx="0" cy="17524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50560" y="4838760"/>
            <a:ext cx="434340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451640" y="6165720"/>
            <a:ext cx="998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isher, 197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566640"/>
            <a:ext cx="842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s of industrial buying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35120" y="2279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that affect the buy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Task variables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 that are related to the tasks, responsibilities and competences assigned by the organisation to the person involved in the purchas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Non-task variables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 that are related to the professional’s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3800" y="6237360"/>
            <a:ext cx="168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Webster and Wind, 19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1280" y="566640"/>
            <a:ext cx="842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s of industrial buying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3480" y="1918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ision Making Un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ous roles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Use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 who will work with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Influencers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 who are able to affect the outcome of the purchasing process by means of solicited or unsolicited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uye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 who will negotiate with the suppliers about terms and conditions and who place th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Decisionmake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 who actually determine the selection of the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Gatekeepe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 who control the flow of information from the supplier towards the other members of the D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517440" y="6060960"/>
            <a:ext cx="168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Webster and Wind, 19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66640"/>
            <a:ext cx="842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s of industrial buying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7240" y="2860560"/>
            <a:ext cx="411480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Identification of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Establishing specification &amp; 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cheduling the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Identifying buying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4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Evaluating alternative buying 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5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electing the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7400000">
            <a:off x="4425120" y="224532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7400000">
            <a:off x="4952160" y="1946160"/>
            <a:ext cx="131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Influe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7400000">
            <a:off x="5871240" y="2171520"/>
            <a:ext cx="84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Bu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7400000">
            <a:off x="6541560" y="2109960"/>
            <a:ext cx="102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Dec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7400000">
            <a:off x="7174440" y="1933560"/>
            <a:ext cx="144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Gatekee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3560" y="2860560"/>
            <a:ext cx="73915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3560" y="3546360"/>
            <a:ext cx="73915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3560" y="4156200"/>
            <a:ext cx="73915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3560" y="4765680"/>
            <a:ext cx="73915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3560" y="5375160"/>
            <a:ext cx="73915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1160" y="2556000"/>
            <a:ext cx="0" cy="3429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7160" y="2556000"/>
            <a:ext cx="0" cy="3429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45040" y="2556000"/>
            <a:ext cx="0" cy="3429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3280" y="2556000"/>
            <a:ext cx="0" cy="3429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469280" y="2556000"/>
            <a:ext cx="0" cy="3429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155080" y="2556000"/>
            <a:ext cx="0" cy="3429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3560" y="5985000"/>
            <a:ext cx="73915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49760" y="3013200"/>
            <a:ext cx="304920" cy="304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49760" y="5527800"/>
            <a:ext cx="304920" cy="304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49760" y="4917960"/>
            <a:ext cx="304920" cy="304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49760" y="3699000"/>
            <a:ext cx="304920" cy="304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49760" y="4308480"/>
            <a:ext cx="304920" cy="304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73640" y="3699000"/>
            <a:ext cx="304920" cy="304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73640" y="5527800"/>
            <a:ext cx="304920" cy="304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73640" y="4917960"/>
            <a:ext cx="304920" cy="304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73640" y="4308480"/>
            <a:ext cx="304920" cy="304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1880" y="3013200"/>
            <a:ext cx="304560" cy="304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11880" y="5527800"/>
            <a:ext cx="304560" cy="304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11880" y="4917960"/>
            <a:ext cx="304560" cy="304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11880" y="3699000"/>
            <a:ext cx="304560" cy="304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11880" y="4308480"/>
            <a:ext cx="304560" cy="304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35760" y="5527800"/>
            <a:ext cx="304920" cy="304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35760" y="3699000"/>
            <a:ext cx="304920" cy="304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21560" y="4308480"/>
            <a:ext cx="304920" cy="304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ying behavior: an interactiv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Johansson, Håkansson &amp; Woo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following physical characteristics, the interaction process between buyers and sellers can be describ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the parties make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of the object of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gree in which the process is formal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of the parties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443640" y="3325680"/>
            <a:ext cx="245268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ree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spects of this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Physical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Social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24360" y="4076640"/>
            <a:ext cx="687600" cy="486000"/>
          </a:xfrm>
          <a:prstGeom prst="rightArrow">
            <a:avLst>
              <a:gd name="adj1" fmla="val 50000"/>
              <a:gd name="adj2" fmla="val 35370"/>
            </a:avLst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buying behaviour: basic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bottlenecks an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the purchasing department in the purcha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of industrial buy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behaviour considered as an interactiv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ying behavior: an interactiv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04560" y="1828800"/>
            <a:ext cx="5704920" cy="4576320"/>
            <a:chOff x="304560" y="1828800"/>
            <a:chExt cx="5704920" cy="4576320"/>
          </a:xfrm>
        </p:grpSpPr>
        <p:sp>
          <p:nvSpPr>
            <p:cNvPr id="353" name=""/>
            <p:cNvSpPr/>
            <p:nvPr/>
          </p:nvSpPr>
          <p:spPr>
            <a:xfrm>
              <a:off x="892080" y="2338200"/>
              <a:ext cx="4038120" cy="350496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80920" y="1828800"/>
              <a:ext cx="1440" cy="3112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764720" y="4956120"/>
              <a:ext cx="4244760" cy="4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04560" y="4941720"/>
              <a:ext cx="1455480" cy="1463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01560" y="4547880"/>
              <a:ext cx="914040" cy="685440"/>
            </a:xfrm>
            <a:prstGeom prst="cube">
              <a:avLst>
                <a:gd name="adj" fmla="val 3263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01560" y="3328920"/>
              <a:ext cx="914040" cy="14472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904400" y="49528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04400" y="38862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19000" y="32004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53600" y="5105520"/>
            <a:ext cx="103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uncerta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1760" y="6019920"/>
            <a:ext cx="96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uncerta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5480" y="1828800"/>
            <a:ext cx="934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uncerta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91160" y="2348280"/>
            <a:ext cx="265284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uying sit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. Buying a standard product from an existing sup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uying a standard commodity from a new sup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uying a reactor for a new nuclear 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ying behavior: an interactiv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approach of 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crucial element of industrial marketing is viewing the market as a network of relationships between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policy should strive to maintain and expand a particular portfolio of concrete relationships with organisations… the same is true for purchas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4167000" y="390960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ying behavior: an interactiv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network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yadic relationship between supplier and manufacturer is not only influenced by the characteristics of the product and the involved organisations , but also by the relationship between these organisations and other organisations that are part of the supplie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Effective purchasing and effective management of supplier relationships requires a thorough understanding of the cost structures and the balance of power in the entire buyer-supplie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4184280" y="417672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 vs. consumer mar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1887480"/>
          <a:ext cx="695628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87480"/>
                    <a:ext cx="69562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92320" y="1484280"/>
            <a:ext cx="664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24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ndustrial market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nsumer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6664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 markets: basic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Professional purchas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fessional buyers with education and experience who know their task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Derived demand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s in industrial markets are often related to changes in the end-user markets upstream in the valu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Inelastic, fluctuating demand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the derived demand, price-elasticity in industrial markets is frequently lower than in consumer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Geographical concentration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industrial markets are geographical concentrated (e.g. Silicon Vall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Large order quantities and large amounts of money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Limited number of customers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 suppliers often supply only a few companies compared to companies that deliver directly to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96360" y="4844880"/>
            <a:ext cx="1366560" cy="100836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4844880"/>
            <a:ext cx="1150920" cy="64800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4844880"/>
            <a:ext cx="1150920" cy="64800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4844880"/>
            <a:ext cx="1150920" cy="64800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4844880"/>
            <a:ext cx="1366920" cy="64800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844880"/>
            <a:ext cx="1081080" cy="86364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1040" y="1628640"/>
            <a:ext cx="1734840" cy="436680"/>
          </a:xfrm>
          <a:custGeom>
            <a:avLst/>
            <a:gdLst/>
            <a:ahLst/>
            <a:rect l="l" t="t" r="r" b="b"/>
            <a:pathLst>
              <a:path w="1093" h="275">
                <a:moveTo>
                  <a:pt x="7" y="0"/>
                </a:moveTo>
                <a:lnTo>
                  <a:pt x="973" y="0"/>
                </a:lnTo>
                <a:lnTo>
                  <a:pt x="1092" y="137"/>
                </a:lnTo>
                <a:lnTo>
                  <a:pt x="973" y="274"/>
                </a:lnTo>
                <a:lnTo>
                  <a:pt x="0" y="274"/>
                </a:lnTo>
                <a:lnTo>
                  <a:pt x="119" y="137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440" y="1628640"/>
            <a:ext cx="1735200" cy="436680"/>
          </a:xfrm>
          <a:custGeom>
            <a:avLst/>
            <a:gdLst/>
            <a:ahLst/>
            <a:rect l="l" t="t" r="r" b="b"/>
            <a:pathLst>
              <a:path w="1093" h="275">
                <a:moveTo>
                  <a:pt x="7" y="0"/>
                </a:moveTo>
                <a:lnTo>
                  <a:pt x="973" y="0"/>
                </a:lnTo>
                <a:lnTo>
                  <a:pt x="1092" y="137"/>
                </a:lnTo>
                <a:lnTo>
                  <a:pt x="973" y="274"/>
                </a:lnTo>
                <a:lnTo>
                  <a:pt x="0" y="274"/>
                </a:lnTo>
                <a:lnTo>
                  <a:pt x="119" y="137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7680" y="217440"/>
            <a:ext cx="79246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23120" y="1628640"/>
            <a:ext cx="1758960" cy="436680"/>
          </a:xfrm>
          <a:custGeom>
            <a:avLst/>
            <a:gdLst/>
            <a:ahLst/>
            <a:rect l="l" t="t" r="r" b="b"/>
            <a:pathLst>
              <a:path w="1108" h="275">
                <a:moveTo>
                  <a:pt x="0" y="0"/>
                </a:moveTo>
                <a:lnTo>
                  <a:pt x="981" y="0"/>
                </a:lnTo>
                <a:lnTo>
                  <a:pt x="1107" y="143"/>
                </a:lnTo>
                <a:lnTo>
                  <a:pt x="981" y="274"/>
                </a:lnTo>
                <a:lnTo>
                  <a:pt x="0" y="274"/>
                </a:lnTo>
                <a:lnTo>
                  <a:pt x="111" y="143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35720" y="2060640"/>
            <a:ext cx="151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33840" y="2189160"/>
            <a:ext cx="964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stab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d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11240" y="2552760"/>
            <a:ext cx="692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37080" y="2946240"/>
            <a:ext cx="98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ped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7440" y="3159000"/>
            <a:ext cx="917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'Troubl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ing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360" y="3040200"/>
            <a:ext cx="1193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Vendor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3800" y="325116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Vend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9960" y="1628640"/>
            <a:ext cx="1747800" cy="436680"/>
          </a:xfrm>
          <a:custGeom>
            <a:avLst/>
            <a:gdLst/>
            <a:ahLst/>
            <a:rect l="l" t="t" r="r" b="b"/>
            <a:pathLst>
              <a:path w="1101" h="275">
                <a:moveTo>
                  <a:pt x="7" y="0"/>
                </a:moveTo>
                <a:lnTo>
                  <a:pt x="981" y="0"/>
                </a:lnTo>
                <a:lnTo>
                  <a:pt x="1100" y="137"/>
                </a:lnTo>
                <a:lnTo>
                  <a:pt x="981" y="274"/>
                </a:lnTo>
                <a:lnTo>
                  <a:pt x="7" y="274"/>
                </a:lnTo>
                <a:lnTo>
                  <a:pt x="126" y="137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78360" y="2060640"/>
            <a:ext cx="151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0560" y="2189160"/>
            <a:ext cx="894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stab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5800" y="2324160"/>
            <a:ext cx="1082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rou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29840" y="2946240"/>
            <a:ext cx="835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5080" y="3083040"/>
            <a:ext cx="1082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rout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28040" y="32940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derhand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8920" y="5005440"/>
            <a:ext cx="614520" cy="271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1628640"/>
            <a:ext cx="1735200" cy="436680"/>
          </a:xfrm>
          <a:custGeom>
            <a:avLst/>
            <a:gdLst/>
            <a:ahLst/>
            <a:rect l="l" t="t" r="r" b="b"/>
            <a:pathLst>
              <a:path w="1093" h="275">
                <a:moveTo>
                  <a:pt x="7" y="0"/>
                </a:moveTo>
                <a:lnTo>
                  <a:pt x="973" y="0"/>
                </a:lnTo>
                <a:lnTo>
                  <a:pt x="1092" y="137"/>
                </a:lnTo>
                <a:lnTo>
                  <a:pt x="973" y="274"/>
                </a:lnTo>
                <a:lnTo>
                  <a:pt x="0" y="274"/>
                </a:lnTo>
                <a:lnTo>
                  <a:pt x="119" y="137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971280" y="2066760"/>
            <a:ext cx="11160" cy="212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2066760"/>
            <a:ext cx="0" cy="220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2000" y="2066760"/>
            <a:ext cx="12600" cy="227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5240" y="2060640"/>
            <a:ext cx="462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920" y="2189160"/>
            <a:ext cx="93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.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2680" y="2946240"/>
            <a:ext cx="861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5120" y="4861080"/>
            <a:ext cx="101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197800" y="2066760"/>
            <a:ext cx="18360" cy="220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0000" y="2189160"/>
            <a:ext cx="818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4600" y="2946240"/>
            <a:ext cx="105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a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47240" y="3083040"/>
            <a:ext cx="801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93520" y="3294000"/>
            <a:ext cx="1048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egoti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47240" y="3429000"/>
            <a:ext cx="801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92600" y="5005440"/>
            <a:ext cx="844200" cy="271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77640" y="2189160"/>
            <a:ext cx="1432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ure adeq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53960" y="2324160"/>
            <a:ext cx="1362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78720" y="2946240"/>
            <a:ext cx="136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equalif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6120" y="3083040"/>
            <a:ext cx="963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uppl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80520" y="3294000"/>
            <a:ext cx="1065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que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55400" y="3429000"/>
            <a:ext cx="812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74760" y="4873680"/>
            <a:ext cx="1516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94280" y="5008680"/>
            <a:ext cx="768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95320" y="31050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51440" y="31050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92240" y="2189160"/>
            <a:ext cx="1022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41400" y="221148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92600" y="2946240"/>
            <a:ext cx="88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92240" y="3083040"/>
            <a:ext cx="1022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92960" y="3294000"/>
            <a:ext cx="835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92240" y="3429000"/>
            <a:ext cx="80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91880" y="3639960"/>
            <a:ext cx="1115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 supp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91160" y="3927600"/>
            <a:ext cx="108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90440" y="3757680"/>
            <a:ext cx="981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2560" y="2968560"/>
            <a:ext cx="224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1160" y="31050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52560" y="3316320"/>
            <a:ext cx="224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1160" y="33750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52560" y="366228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6320" y="4896000"/>
            <a:ext cx="181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6240" y="495468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6320" y="52419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92600" y="4873680"/>
            <a:ext cx="88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92240" y="5008680"/>
            <a:ext cx="1022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94040" y="5219640"/>
            <a:ext cx="961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/sp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93680" y="5354640"/>
            <a:ext cx="640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03800" y="1628640"/>
            <a:ext cx="1758960" cy="436680"/>
          </a:xfrm>
          <a:custGeom>
            <a:avLst/>
            <a:gdLst/>
            <a:ahLst/>
            <a:rect l="l" t="t" r="r" b="b"/>
            <a:pathLst>
              <a:path w="1108" h="275">
                <a:moveTo>
                  <a:pt x="0" y="0"/>
                </a:moveTo>
                <a:lnTo>
                  <a:pt x="981" y="0"/>
                </a:lnTo>
                <a:lnTo>
                  <a:pt x="1107" y="143"/>
                </a:lnTo>
                <a:lnTo>
                  <a:pt x="981" y="274"/>
                </a:lnTo>
                <a:lnTo>
                  <a:pt x="0" y="274"/>
                </a:lnTo>
                <a:lnTo>
                  <a:pt x="111" y="143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32200" y="1628640"/>
            <a:ext cx="1758960" cy="436680"/>
          </a:xfrm>
          <a:custGeom>
            <a:avLst/>
            <a:gdLst/>
            <a:ahLst/>
            <a:rect l="l" t="t" r="r" b="b"/>
            <a:pathLst>
              <a:path w="1108" h="275">
                <a:moveTo>
                  <a:pt x="0" y="0"/>
                </a:moveTo>
                <a:lnTo>
                  <a:pt x="981" y="0"/>
                </a:lnTo>
                <a:lnTo>
                  <a:pt x="1107" y="143"/>
                </a:lnTo>
                <a:lnTo>
                  <a:pt x="981" y="274"/>
                </a:lnTo>
                <a:lnTo>
                  <a:pt x="0" y="274"/>
                </a:lnTo>
                <a:lnTo>
                  <a:pt x="111" y="143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60600" y="1628640"/>
            <a:ext cx="1758960" cy="436680"/>
          </a:xfrm>
          <a:custGeom>
            <a:avLst/>
            <a:gdLst/>
            <a:ahLst/>
            <a:rect l="l" t="t" r="r" b="b"/>
            <a:pathLst>
              <a:path w="1108" h="275">
                <a:moveTo>
                  <a:pt x="0" y="0"/>
                </a:moveTo>
                <a:lnTo>
                  <a:pt x="981" y="0"/>
                </a:lnTo>
                <a:lnTo>
                  <a:pt x="1107" y="143"/>
                </a:lnTo>
                <a:lnTo>
                  <a:pt x="981" y="274"/>
                </a:lnTo>
                <a:lnTo>
                  <a:pt x="0" y="274"/>
                </a:lnTo>
                <a:lnTo>
                  <a:pt x="111" y="143"/>
                </a:lnTo>
                <a:lnTo>
                  <a:pt x="0" y="0"/>
                </a:lnTo>
              </a:path>
            </a:pathLst>
          </a:custGeom>
          <a:solidFill>
            <a:srgbClr val="ebf5a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5320" y="1628640"/>
            <a:ext cx="1758960" cy="436680"/>
          </a:xfrm>
          <a:custGeom>
            <a:avLst/>
            <a:gdLst/>
            <a:ahLst/>
            <a:rect l="l" t="t" r="r" b="b"/>
            <a:pathLst>
              <a:path w="1108" h="275">
                <a:moveTo>
                  <a:pt x="0" y="0"/>
                </a:moveTo>
                <a:lnTo>
                  <a:pt x="981" y="0"/>
                </a:lnTo>
                <a:lnTo>
                  <a:pt x="1107" y="143"/>
                </a:lnTo>
                <a:lnTo>
                  <a:pt x="981" y="274"/>
                </a:lnTo>
                <a:lnTo>
                  <a:pt x="0" y="274"/>
                </a:lnTo>
                <a:lnTo>
                  <a:pt x="111" y="143"/>
                </a:lnTo>
                <a:lnTo>
                  <a:pt x="0" y="0"/>
                </a:lnTo>
              </a:path>
            </a:pathLst>
          </a:custGeom>
          <a:solidFill>
            <a:srgbClr val="ebf5a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3720" y="1628640"/>
            <a:ext cx="1758960" cy="436680"/>
          </a:xfrm>
          <a:custGeom>
            <a:avLst/>
            <a:gdLst/>
            <a:ahLst/>
            <a:rect l="l" t="t" r="r" b="b"/>
            <a:pathLst>
              <a:path w="1108" h="275">
                <a:moveTo>
                  <a:pt x="0" y="0"/>
                </a:moveTo>
                <a:lnTo>
                  <a:pt x="981" y="0"/>
                </a:lnTo>
                <a:lnTo>
                  <a:pt x="1107" y="143"/>
                </a:lnTo>
                <a:lnTo>
                  <a:pt x="981" y="274"/>
                </a:lnTo>
                <a:lnTo>
                  <a:pt x="0" y="274"/>
                </a:lnTo>
                <a:lnTo>
                  <a:pt x="111" y="143"/>
                </a:lnTo>
                <a:lnTo>
                  <a:pt x="0" y="0"/>
                </a:lnTo>
              </a:path>
            </a:pathLst>
          </a:custGeom>
          <a:solidFill>
            <a:srgbClr val="ebf5a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74880" y="1639800"/>
            <a:ext cx="1115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76160" y="1639800"/>
            <a:ext cx="775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69640" y="1639800"/>
            <a:ext cx="95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43040" y="1716120"/>
            <a:ext cx="82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d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15360" y="1716120"/>
            <a:ext cx="96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ed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09920" y="1639800"/>
            <a:ext cx="95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0200" y="5005440"/>
            <a:ext cx="103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du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03560" y="209700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Vend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79160" y="2249640"/>
            <a:ext cx="1039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78080" y="2401920"/>
            <a:ext cx="87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02480" y="255420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ttling 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79880" y="2706840"/>
            <a:ext cx="80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54040" y="3392640"/>
            <a:ext cx="87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01400" y="4844880"/>
            <a:ext cx="13550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Vend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Vendor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Vendor ran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434016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19640" y="434016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434016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434016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85080" y="434016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8000" y="434016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300360" y="2036880"/>
            <a:ext cx="12600" cy="227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667280" y="2036880"/>
            <a:ext cx="12600" cy="227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72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Process approach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rious steps in the model are closely connected and the quality of the output of the preceding steps determines to a large extent the quality of the subsequent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Defining the interfaces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put of each phase has to be clearly defined, preferably with a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Determining responsibilities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ing is considered to be a cross-functional responsibility. Therefore, the tasks, responsibilities and authority of the parties involved should be clearly indicated in each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Combining different skills, different types of knowledge and expertis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question is how to combine the different types knowledge, skills and expertise in such way that all parties involved arrive at an optimal solution for the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62864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dded value of the professional buyer lies in the ability to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a facilitator for the supply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1160" indent="-55116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ing involved in new product development and investment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1160" indent="-55116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ing a list of approved suppliers, drawing up requests for quotations and selecting a supplier together with the internal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1160" indent="-55116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ing and carrying out contract negotiations setting up requisitioning and ordering routines (e.g. through electronic buying catalogues, e-Procurement) in such a way that users can place orders themsel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1160" indent="-55116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orders at suppliers and maintain and monitor order, contract and supplier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1160" indent="-55116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ing outstanding orders and financial oblig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1160" indent="-55116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up and evaluation of supplier performance and maintaining relevant supplier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0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d 4) Inkoopclassific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73320" y="2109960"/>
            <a:ext cx="6251400" cy="1311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76920" y="206064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task sit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25400" y="2457360"/>
            <a:ext cx="468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letely new product from unknown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gh uncertainty regarding 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e.g. acquisition of capital goo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73320" y="3551400"/>
            <a:ext cx="6251400" cy="1309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352908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dified Rebu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48080" y="3949560"/>
            <a:ext cx="396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ew product from known 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xisting product, new 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derate uncertainty regarding 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73320" y="5018040"/>
            <a:ext cx="6251400" cy="1355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79080" y="500544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raight rebu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25040" y="5410080"/>
            <a:ext cx="353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nown product from known 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ow uncertainty regarding outc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e.g. consumable items like M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0160" y="148428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ee types of purchasing sit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76720" y="1905120"/>
            <a:ext cx="0" cy="403524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2360" y="549000"/>
            <a:ext cx="80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purchasing sit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340160"/>
            <a:ext cx="7467480" cy="0"/>
          </a:xfrm>
          <a:prstGeom prst="line">
            <a:avLst/>
          </a:prstGeom>
          <a:ln w="7632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6000" y="1905120"/>
            <a:ext cx="0" cy="403524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" y="3882960"/>
            <a:ext cx="1149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Routine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9800" y="4492800"/>
            <a:ext cx="861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Low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3516600">
            <a:off x="411840" y="2856960"/>
            <a:ext cx="174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s, water, 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3516600">
            <a:off x="1137600" y="2968560"/>
            <a:ext cx="153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eaning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516600">
            <a:off x="2096280" y="3078720"/>
            <a:ext cx="129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lk 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8600000">
            <a:off x="887040" y="5277960"/>
            <a:ext cx="127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ice sup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600000">
            <a:off x="1717560" y="5210280"/>
            <a:ext cx="981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re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8600000">
            <a:off x="2665800" y="5554080"/>
            <a:ext cx="182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nic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8600000">
            <a:off x="3765600" y="5445000"/>
            <a:ext cx="1609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r termi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8600000">
            <a:off x="5126040" y="5381640"/>
            <a:ext cx="1479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lephon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8600000">
            <a:off x="5590080" y="5447880"/>
            <a:ext cx="177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ion equi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3516600">
            <a:off x="2924640" y="3086640"/>
            <a:ext cx="130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ice furni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3516600">
            <a:off x="3666600" y="3031560"/>
            <a:ext cx="135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ri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3516600">
            <a:off x="4603680" y="3087000"/>
            <a:ext cx="1152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iness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3516600">
            <a:off x="5991480" y="3222360"/>
            <a:ext cx="9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3516600">
            <a:off x="6873120" y="3254040"/>
            <a:ext cx="880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il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882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3882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3882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43401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43401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3882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3882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3882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3882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43401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43401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34320" y="43401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3882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43401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95360" y="3807000"/>
            <a:ext cx="87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ew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93560" y="4492800"/>
            <a:ext cx="90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igh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000" y="1773360"/>
            <a:ext cx="2247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Straight re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6200" y="1773360"/>
            <a:ext cx="235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Modified re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20280" y="1773360"/>
            <a:ext cx="150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New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34:01Z</dcterms:created>
  <dc:creator>Frank Rozemeijer</dc:creator>
  <dc:description/>
  <dc:language>en-US</dc:language>
  <cp:lastModifiedBy>ldawson-bowling</cp:lastModifiedBy>
  <dcterms:modified xsi:type="dcterms:W3CDTF">2008-02-08T11:19:21Z</dcterms:modified>
  <cp:revision>18</cp:revision>
  <dc:subject/>
  <dc:title>Analysis</dc:title>
</cp:coreProperties>
</file>