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8B81-95FF-4486-9B53-A42D50D1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1FFD-C433-435C-890B-0F22B36C63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2F68-E1F4-4D0B-913E-546AC8E5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A035-6B1C-4EFF-AE69-CB6264A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E734-D03A-48FD-857C-684B0920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75F3-57B9-4BBB-B9A3-00B156ED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0C9F-EF64-4EDF-B46F-D4690B62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CD82-84D8-4F14-A3BD-2E497346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95EC-D1D7-4C1B-8B12-FAFD8CC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8379-AC78-49E7-BBFD-3A1D00F9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2112-BA46-4545-AA24-23703EC7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D3F3-A244-4294-A4E1-3468D64E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49E0-C41B-49BF-A77C-46EB9A5A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0824-FDCC-4A06-BA47-AE67807F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52D2-0B80-4BD4-90EA-1A6E5A31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9A54-5528-42A3-8D17-FA8B0844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ED37-833D-46C5-95DB-6B02AA37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7D0D-10DB-4D5A-97A7-C38559AD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F384-81D9-4356-A46D-04279A6A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03A9-6F7E-4BE5-BE65-86CA06EC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2CAE-BD25-4B19-B425-72485C2A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3EAA-76E1-40E6-9373-E405EAF3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B5E3-945B-4C95-925B-AD07BCFC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28B1-30D5-4D83-8C15-6A523E98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DB74-9326-4B05-9EE8-9D29C45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E1A9-D9B4-441F-8776-508354B8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-360" y="6427800"/>
            <a:ext cx="57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1FAB-3FAB-4584-BE63-F686BA510A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108000" y="6427800"/>
            <a:ext cx="569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B845-A28B-4417-964E-B80A944D8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TUE Meta"/>
              </a:rPr>
              <a:t>Planning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rchasing, new produc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ment and qualit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419720"/>
            <a:ext cx="67816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and risks related to early supplier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11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 is not without risks. In most cases the risks are related to companies being afraid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ing crucial product- or process knowledge and skills to the 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ing locked in into a specific suppli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ing down the development process by involving suppliers early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relationship and/or coordination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ing interests and levels of commi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ies that want to involve suppliers in new product development ne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a long term view on their make or buy policies, supplier selection and other strategic suppl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experienced in applying modern project management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partnership relationships with suppliers that go far beyond the traditional buyer-supplie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220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terms: quality and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defines quality as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 the degree in which customer requirements are met. We speak of a quality product or quality service when both supplier and customer agree on requirements and these requirements are m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ntrol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 making sure that the requirements are met and being able to demonstrate this obj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ransaction between customer and supplier,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gree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requirements of the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y in which the requirements are to be rea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heck that the requirements are (being)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es to be taken when the requirements/expectations are not 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 concerns keeping methods and procedures of quality control up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84200" y="2205000"/>
            <a:ext cx="6396120" cy="3950280"/>
            <a:chOff x="1384200" y="2205000"/>
            <a:chExt cx="6396120" cy="3950280"/>
          </a:xfrm>
        </p:grpSpPr>
        <p:sp>
          <p:nvSpPr>
            <p:cNvPr id="181" name=""/>
            <p:cNvSpPr/>
            <p:nvPr/>
          </p:nvSpPr>
          <p:spPr>
            <a:xfrm>
              <a:off x="3231720" y="2840400"/>
              <a:ext cx="2216880" cy="235080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06120" y="2205000"/>
              <a:ext cx="1653120" cy="350280"/>
            </a:xfrm>
            <a:prstGeom prst="rect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UE Meta"/>
                </a:rPr>
                <a:t>Requi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84200" y="3715200"/>
              <a:ext cx="1235520" cy="350280"/>
            </a:xfrm>
            <a:prstGeom prst="rect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UE Meta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01920" y="5805000"/>
              <a:ext cx="2253600" cy="350280"/>
            </a:xfrm>
            <a:prstGeom prst="rect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UE Meta"/>
                </a:rPr>
                <a:t>Check/ver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1120" y="3715200"/>
              <a:ext cx="1429200" cy="350280"/>
            </a:xfrm>
            <a:prstGeom prst="rect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UE Meta"/>
                </a:rPr>
                <a:t>Real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02080" y="2579040"/>
              <a:ext cx="0" cy="261000"/>
            </a:xfrm>
            <a:prstGeom prst="line">
              <a:avLst/>
            </a:prstGeom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2080" y="5191560"/>
              <a:ext cx="0" cy="587520"/>
            </a:xfrm>
            <a:prstGeom prst="line">
              <a:avLst/>
            </a:prstGeom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54200" y="3885120"/>
              <a:ext cx="677160" cy="0"/>
            </a:xfrm>
            <a:prstGeom prst="line">
              <a:avLst/>
            </a:prstGeom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48960" y="3885120"/>
              <a:ext cx="923760" cy="0"/>
            </a:xfrm>
            <a:prstGeom prst="line">
              <a:avLst/>
            </a:prstGeom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87040" y="3624120"/>
              <a:ext cx="61560" cy="261000"/>
            </a:xfrm>
            <a:prstGeom prst="line">
              <a:avLst/>
            </a:prstGeom>
            <a:ln w="2844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31720" y="3623760"/>
              <a:ext cx="61560" cy="261000"/>
            </a:xfrm>
            <a:prstGeom prst="line">
              <a:avLst/>
            </a:prstGeom>
            <a:ln w="2844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19600" y="2060640"/>
            <a:ext cx="219096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900" spc="-1" strike="noStrike">
                <a:solidFill>
                  <a:srgbClr val="cc9900"/>
                </a:solidFill>
                <a:latin typeface="Arial"/>
              </a:rPr>
              <a:t>The requir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900" spc="-1" strike="noStrike">
                <a:solidFill>
                  <a:srgbClr val="cc9900"/>
                </a:solidFill>
                <a:latin typeface="Arial"/>
              </a:rPr>
              <a:t>-verification cyc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7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st of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10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revention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sts of preventing quality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10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Assessment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sts related to the timely recognition of quality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10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rrection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st that result from (rectifying) mist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Internal error cost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from mistakes noticed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ternal error cost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result of flaws identified by the custo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6577" t="4937" r="0" b="0"/>
          <a:stretch/>
        </p:blipFill>
        <p:spPr>
          <a:xfrm>
            <a:off x="1403280" y="1628640"/>
            <a:ext cx="7056360" cy="4878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11920" y="1413000"/>
            <a:ext cx="238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UE Meta"/>
              </a:rPr>
              <a:t>Quality Cost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912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quality assurance building bl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ing the purchase order specification (sign-off proced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qualification of (potential) suppliers (quality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spection procedure to determine the initial sampling rejec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of first and subsequent preproduction series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 of the first production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agreement and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verification (supplier rating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637920"/>
            <a:ext cx="8134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Assessing  supplier quality: diagnostic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06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for assessing a supplier’s capa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Product audit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 image of the degree in which a company succeeds in making everything run perfectly by inspecting final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Process audit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atic investigation of the extent to which the (technical) processes are capable of meeting the standard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ystems audit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he quality system to external standards (e.g. ISO 9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566640"/>
            <a:ext cx="80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Assessing  supplier quality: diagnostic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2560" y="2441520"/>
          <a:ext cx="7705800" cy="3987720"/>
        </p:xfrm>
        <a:graphic>
          <a:graphicData uri="http://schemas.openxmlformats.org/drawingml/2006/table">
            <a:tbl>
              <a:tblPr/>
              <a:tblGrid>
                <a:gridCol w="1058760"/>
                <a:gridCol w="6647040"/>
              </a:tblGrid>
              <a:tr h="3808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 Narrow"/>
                        </a:rPr>
                        <a:t>ISO 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uidelines for selection and application of ISO 9000 through 9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758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 Narrow"/>
                        </a:rPr>
                        <a:t>ISO 9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quirements concerning quality control in purchasing, development, production and sales (equivalent to AQAP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 Narrow"/>
                        </a:rPr>
                        <a:t>ISO 9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quirements concerning quality control in purchasing, production and sales (equivalent to AQAP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8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 Narrow"/>
                        </a:rPr>
                        <a:t>ISO 9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quirements concerning quality control of final inspection and testing (equivalent to AQAP 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 Narrow"/>
                        </a:rPr>
                        <a:t>ISO 9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uidelines for the organization of a qualit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 Narrow"/>
                        </a:rPr>
                        <a:t>ISO 8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minology and defin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2654280" y="1989000"/>
            <a:ext cx="6226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UE Meta"/>
              </a:rPr>
              <a:t>The ISO 9000 series of quality assurance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Implementing supplier quality assurance: consequences for pur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634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important changes to be prepared for by purcha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Clear task descriptions and performance meas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um rejection percentage per article code or per 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verage term in which rejection reports must be dealt with (per buy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quality agreements closed with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ertifie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Clarity concerning supplier selection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in the company is competent to enter into relationships with suppli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is responsible for ultimate selection of suppli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to suppliers from one central point (supplier account manag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Quality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responsibility for quality and being accoun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ion percentages and number of quality agreements becoming part of the buyer’s annual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To measure i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sential that suppliers receive feedback on their performance (e.g. vendor rating sys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and new produ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and risks related to early suppli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and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ing  supplier quality: diagnost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supplier quality assurance: consequences for purch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002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and new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912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s in the development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roduct development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ideas are translated into functional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roduct desig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designs are worked out in detail, prototypes are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reproduction plan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equirements are take into account. Ends with trial runs and preproduction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tart of the production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roduction series are examined. Design and technical changes are documented in change-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and new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120" y="5748480"/>
            <a:ext cx="8190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046160" y="1959120"/>
            <a:ext cx="0" cy="4311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6160" y="2220840"/>
            <a:ext cx="72658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85880" y="2220840"/>
            <a:ext cx="0" cy="352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25960" y="2220840"/>
            <a:ext cx="0" cy="352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64240" y="2220840"/>
            <a:ext cx="0" cy="352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03960" y="2220840"/>
            <a:ext cx="0" cy="352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6160" y="2220840"/>
            <a:ext cx="6157800" cy="3460680"/>
          </a:xfrm>
          <a:custGeom>
            <a:avLst/>
            <a:gdLst/>
            <a:ahLst/>
            <a:rect l="l" t="t" r="r" b="b"/>
            <a:pathLst>
              <a:path w="4800" h="2544">
                <a:moveTo>
                  <a:pt x="0" y="0"/>
                </a:moveTo>
                <a:cubicBezTo>
                  <a:pt x="400" y="632"/>
                  <a:pt x="800" y="1264"/>
                  <a:pt x="1200" y="1632"/>
                </a:cubicBezTo>
                <a:cubicBezTo>
                  <a:pt x="1600" y="2000"/>
                  <a:pt x="2000" y="2072"/>
                  <a:pt x="2400" y="2208"/>
                </a:cubicBezTo>
                <a:cubicBezTo>
                  <a:pt x="2800" y="2344"/>
                  <a:pt x="3200" y="2392"/>
                  <a:pt x="3600" y="2448"/>
                </a:cubicBezTo>
                <a:cubicBezTo>
                  <a:pt x="4000" y="2504"/>
                  <a:pt x="4400" y="2524"/>
                  <a:pt x="4800" y="2544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2220840"/>
            <a:ext cx="6141960" cy="3527640"/>
          </a:xfrm>
          <a:custGeom>
            <a:avLst/>
            <a:gdLst/>
            <a:ahLst/>
            <a:rect l="l" t="t" r="r" b="b"/>
            <a:pathLst>
              <a:path w="4788" h="2592">
                <a:moveTo>
                  <a:pt x="0" y="2592"/>
                </a:moveTo>
                <a:cubicBezTo>
                  <a:pt x="400" y="1984"/>
                  <a:pt x="800" y="1376"/>
                  <a:pt x="1200" y="1008"/>
                </a:cubicBezTo>
                <a:cubicBezTo>
                  <a:pt x="1600" y="640"/>
                  <a:pt x="2000" y="520"/>
                  <a:pt x="2400" y="384"/>
                </a:cubicBezTo>
                <a:cubicBezTo>
                  <a:pt x="2800" y="248"/>
                  <a:pt x="3202" y="256"/>
                  <a:pt x="3600" y="192"/>
                </a:cubicBezTo>
                <a:cubicBezTo>
                  <a:pt x="3998" y="128"/>
                  <a:pt x="4541" y="40"/>
                  <a:pt x="4788" y="0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6160" y="2220840"/>
            <a:ext cx="6173640" cy="3527640"/>
          </a:xfrm>
          <a:custGeom>
            <a:avLst/>
            <a:gdLst/>
            <a:ahLst/>
            <a:rect l="l" t="t" r="r" b="b"/>
            <a:pathLst>
              <a:path w="4812" h="2592">
                <a:moveTo>
                  <a:pt x="0" y="2592"/>
                </a:moveTo>
                <a:cubicBezTo>
                  <a:pt x="396" y="2552"/>
                  <a:pt x="806" y="2508"/>
                  <a:pt x="1200" y="2304"/>
                </a:cubicBezTo>
                <a:cubicBezTo>
                  <a:pt x="1594" y="2100"/>
                  <a:pt x="2068" y="1616"/>
                  <a:pt x="2364" y="1368"/>
                </a:cubicBezTo>
                <a:cubicBezTo>
                  <a:pt x="2660" y="1120"/>
                  <a:pt x="2770" y="972"/>
                  <a:pt x="2976" y="816"/>
                </a:cubicBezTo>
                <a:cubicBezTo>
                  <a:pt x="3182" y="660"/>
                  <a:pt x="3294" y="568"/>
                  <a:pt x="3600" y="432"/>
                </a:cubicBezTo>
                <a:cubicBezTo>
                  <a:pt x="3906" y="296"/>
                  <a:pt x="4560" y="90"/>
                  <a:pt x="4812" y="0"/>
                </a:cubicBezTo>
              </a:path>
            </a:pathLst>
          </a:cu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86160" y="2220840"/>
            <a:ext cx="0" cy="784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86160" y="50292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4680" y="5681520"/>
            <a:ext cx="11700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76760" y="5668920"/>
            <a:ext cx="7646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7400" y="5668920"/>
            <a:ext cx="12600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Prepro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7800" y="5681520"/>
            <a:ext cx="1002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633560" y="3592440"/>
            <a:ext cx="369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60880" y="3395520"/>
            <a:ext cx="2462400" cy="3351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ost of engineering  chan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58880" y="2060640"/>
            <a:ext cx="1829880" cy="5943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Degrees of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reedom specif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1360" y="5094360"/>
            <a:ext cx="1770480" cy="5943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Degrees of freedo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purcha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7640" y="5159520"/>
            <a:ext cx="478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3840" y="2155680"/>
            <a:ext cx="6076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77800" y="5681520"/>
            <a:ext cx="546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-497520" y="3811680"/>
            <a:ext cx="219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osts/degrees of freed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365120"/>
            <a:ext cx="66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chasing’s relationship to the new product developm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and new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large manufacturers communicate with their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 suppliers in product development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urchasing engineeri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alist function to provide the liaison between the engineering department and the purchasing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arly supplier involvement (ESI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in-class suppliers are invited to participate in the company’s product/process development projects at an early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Residential engineering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from the other party are located on a more or less permanent basis within the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0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and new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95360" y="2286000"/>
            <a:ext cx="6441480" cy="3189240"/>
            <a:chOff x="1395360" y="2286000"/>
            <a:chExt cx="6441480" cy="3189240"/>
          </a:xfrm>
        </p:grpSpPr>
        <p:sp>
          <p:nvSpPr>
            <p:cNvPr id="150" name=""/>
            <p:cNvSpPr/>
            <p:nvPr/>
          </p:nvSpPr>
          <p:spPr>
            <a:xfrm>
              <a:off x="7142760" y="2873520"/>
              <a:ext cx="0" cy="22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031480" y="280800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86520" y="2742840"/>
              <a:ext cx="2524680" cy="2155320"/>
            </a:xfrm>
            <a:prstGeom prst="triangle">
              <a:avLst>
                <a:gd name="adj" fmla="val 50000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98240" y="2286000"/>
              <a:ext cx="1333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One suppl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5360" y="5094360"/>
              <a:ext cx="151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More suppl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99320" y="3697200"/>
              <a:ext cx="1320840" cy="685800"/>
            </a:xfrm>
            <a:prstGeom prst="rect">
              <a:avLst/>
            </a:prstGeom>
            <a:solidFill>
              <a:srgbClr val="d5e0e5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ngineer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fun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75760" y="2286000"/>
              <a:ext cx="1054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Mono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72160" y="3592080"/>
              <a:ext cx="1250640" cy="685800"/>
            </a:xfrm>
            <a:prstGeom prst="rect">
              <a:avLst/>
            </a:prstGeom>
            <a:solidFill>
              <a:srgbClr val="d5e0e5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Purchas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fun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73960" y="5094360"/>
              <a:ext cx="1262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Compet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01840" y="5290200"/>
              <a:ext cx="32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16800" y="2481840"/>
              <a:ext cx="34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73920" y="6000840"/>
            <a:ext cx="779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onflicting interest between purchasing and engineering activiti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and new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ing buyers in development processes at an early stage can result in contribution of new knowledge and better understanding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ing the supplier in new product development can also result in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nsiderabl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39640" y="3357720"/>
          <a:ext cx="8226360" cy="2447640"/>
        </p:xfrm>
        <a:graphic>
          <a:graphicData uri="http://schemas.openxmlformats.org/drawingml/2006/table">
            <a:tbl>
              <a:tblPr/>
              <a:tblGrid>
                <a:gridCol w="3944880"/>
                <a:gridCol w="1783080"/>
                <a:gridCol w="1334880"/>
                <a:gridCol w="1163520"/>
              </a:tblGrid>
              <a:tr h="41904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Stage of product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ing existing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signing to improve 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135400" y="2684520"/>
            <a:ext cx="30294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of design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roduct uniquenes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240" y="1876320"/>
            <a:ext cx="6374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gures in table indicate percentage of savings on cost pr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and new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and risks related to early supplier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39640" y="3075120"/>
          <a:ext cx="8229600" cy="3017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term 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25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ts resulting from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product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produc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development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developmen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fficient and 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in future new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gnment of future 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 access to 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 of the supp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of suppliers to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467280" y="2066760"/>
            <a:ext cx="81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ssessing the benefits of ESI companies need to differentiate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term and long term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97440" y="609300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Van Echtelt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3:40Z</dcterms:modified>
  <cp:revision>28</cp:revision>
  <dc:subject/>
  <dc:title>Analysis</dc:title>
</cp:coreProperties>
</file>