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B5AE-9AC8-44F4-B7B8-9EE887C97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C1DC-7226-4161-9E63-A6FEC42EC7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BE7A2-39EF-4FF1-9437-21A3AEF6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44AC4-630F-4631-8A37-2DB22A4A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6C20F-3B60-4B3E-AD33-6E6262D7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BA491-CEE8-4655-97B2-D38453E0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FD83-F7E6-4806-8DD2-6A1F89E7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9FAF-5500-439C-A3F8-84615064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D83F-2595-48B8-B0F5-4AE8EE2C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893E-6946-43E4-BB1C-328FC938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E59C-544F-4547-830D-0E65A550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DED2-BDD9-4353-B4C0-2FB7429E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FEAD-2C74-4AEC-83CF-E2181E1A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A1FD6-B86C-496D-815B-25A2F87E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89AC-7468-433B-8242-40C92D70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D24C-0522-43B8-BDC8-E9F16FA8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4290-FABA-4B5C-BB66-E11C9FC4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E80D-5C4D-4F47-87AD-7F25B7E9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E35B-A156-49C3-BAC7-B1C834E0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6DB5-C3AB-4FA8-B51F-7BFC2D7F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E6161-488C-4AB1-B8F1-FFEB7776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9D62B-D583-496C-B414-C6843F71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3C047-5503-4039-B30A-7AA96DD2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FDCB9-CA0A-421A-96FC-4B6D8026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FC8B7-BC95-4583-8294-C014F301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BF16B-38FA-4C7F-A893-2CFD7CE4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0560" y="6488280"/>
            <a:ext cx="56242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engage Learning – Purchasing &amp; Supply Chain Management 4 ed (1-84480-024-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3D34-4D6C-40ED-B6ED-A85560D826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24000" y="6248520"/>
            <a:ext cx="569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engage Learning – Purchasing &amp; Supply Chain Management 4 ed (1-84480-024-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F7BB-45B6-4DA8-8DAF-7410D9132A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UE Meta"/>
              </a:rPr>
              <a:t>Planning</a:t>
            </a: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tting organized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8360" y="587160"/>
            <a:ext cx="815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structures within purch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57224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8000" y="587160"/>
            <a:ext cx="8010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structures within purch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24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02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structures within purch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93280" y="2206440"/>
            <a:ext cx="4049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c99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rect responsibility of operating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ronger customer orientation towards internal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ss bureaucratic purchasing procedures/higher operational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ss friction costs due to 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rect communication with 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6800" y="2206440"/>
            <a:ext cx="3895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c9900"/>
                </a:solidFill>
                <a:latin typeface="Arial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spersed purchasing power, lack of economies of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o uniform way of handling towards 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cattered supply market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imited possibilities for building up specific expertise on purchasing, supply markets and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fferent commercial purchasing conditions among different operating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2840" y="1447920"/>
            <a:ext cx="74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dvantages and disadvantages of decentralised purch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36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structures within purch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48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82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structures within purch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8240" y="169380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functional sourcing teams at I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067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21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structures within purch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44680" y="169812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urchasing organization in single-unit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78865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493560"/>
            <a:ext cx="8142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structures within purch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urchasing organization in single-unit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640872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s for purchasing professi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981000"/>
          <a:ext cx="8496000" cy="5446800"/>
        </p:xfrm>
        <a:graphic>
          <a:graphicData uri="http://schemas.openxmlformats.org/drawingml/2006/table">
            <a:tbl>
              <a:tblPr/>
              <a:tblGrid>
                <a:gridCol w="1867680"/>
                <a:gridCol w="3242880"/>
                <a:gridCol w="338544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s re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715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rate Procurement Officer (CP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and coordination of key purchasing and supply processes throughout the orga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ior execu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lent management skil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ersh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36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rate buy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ic commod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st commercial skil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term planning horiz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on skil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ad business ori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36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chasing engine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aterials and compon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suppli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-round technical backg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term planning horiz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 skil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on skil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buy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nd ser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st project management skil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play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157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O Buy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O supplies and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t order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ortment mana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 orien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 skil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36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s plan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s and order pla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r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dorra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round common se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ss resis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 orien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 solving skil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s for purchasing professi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d with ten years ago, purchasing professional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educated (business degree, M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more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likely to be a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otiating more long term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d in outsourc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out on a global market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costs and the number of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ing organizatio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influencing location of purchasing in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 of task, responsibility and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structures within purch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 for purchasing profess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4680" y="333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chasing organization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20360" y="178596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=-3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39840" y="541656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re detailed analysis showed that since 1988, purchasing organization structure moved towards hybrid structures (e.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ion or combination central / decen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9320" y="1341360"/>
            <a:ext cx="649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ing structures appear to vary among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5530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influencing location of purchasing in th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ganizational location of purchasing is very much dependent on the view management holds towards the purchasing fun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view is related to the following fa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ing’s share in the end-product’s cost 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osition of the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t to which the company is depending on the supply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932360" y="2144880"/>
          <a:ext cx="4722840" cy="337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144880"/>
                    <a:ext cx="472284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of task, responsibility and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630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trategic purchasing decisions (long term imp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velopment and issuing operational guidelines, procedures and task descriptions, which provide authority to the purchasing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velopment and implementation of auditing and review progr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utsourcing of activities and/o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stablishing long term contracts with preferred 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opting a supplier strategy based on multui- versus single 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jor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ciding on financial participation in suppliers (backward integ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ormulating policies concerning transfer pricing and intercompany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ormulating policies on reciprocal arrangements, countertrade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of task, responsibility and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actical purchasing decisions (medium term imp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greement on corporate and/or annual supplier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eparing and developing value analysis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opting and conducting quality certification programs for 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election and contracting of suppliers i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grams aimed at supply-base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perational purchasing decisions (short term imp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d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pediting activities related to released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oice verification and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roublesho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nitoring and evaluation of supplie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of task, responsibility and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lationship between the three managerial levels and some management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7440" y="4097160"/>
            <a:ext cx="67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Strategic lev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Tactical lev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Operational lev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89160" y="3548160"/>
            <a:ext cx="107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31440" y="3548160"/>
            <a:ext cx="78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16960" y="354816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57720" y="3548160"/>
            <a:ext cx="62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94440" y="3548160"/>
            <a:ext cx="78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8520" y="3114720"/>
            <a:ext cx="16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ia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3800" y="4005360"/>
            <a:ext cx="72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3800" y="3573360"/>
            <a:ext cx="72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800" y="5661000"/>
            <a:ext cx="72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3800" y="2997360"/>
            <a:ext cx="72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3800" y="299736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66160" y="299736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16360" y="299736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structures within purch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s for multi-unit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Decentralized purchas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 purchasing is responsible for all purchasing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Centralized purchas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purchasing department is responsible for all strategic and tactical purchasing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Centralized/decentralized purchasing organiz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corporate purchasing and BU purchasing exist next to each other and divide responsibilities an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Pooling structu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 of the previous three structures aimed at combining common requirements across operating units. There are different forms of pooling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oluntary coordin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ad buyersh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ad design conce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Cross-functional sourcing team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ing is done centrally by a commodity team. However, all operational purchasing activities are decentral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structures within purch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362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ntralised versus decentralised purchasing: som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 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monality of purchas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or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pply marke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avings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erti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ice fluc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ustomer de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5516640"/>
            <a:ext cx="7556400" cy="703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actice these considerations appear to be decisive when deciding on buying products centrally or otherw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4:34:01Z</dcterms:created>
  <dc:creator>Frank Rozemeijer</dc:creator>
  <dc:description/>
  <dc:language>en-US</dc:language>
  <cp:lastModifiedBy>ldawson-bowling</cp:lastModifiedBy>
  <dcterms:modified xsi:type="dcterms:W3CDTF">2008-02-08T11:24:18Z</dcterms:modified>
  <cp:revision>28</cp:revision>
  <dc:subject/>
  <dc:title>Analysis</dc:title>
</cp:coreProperties>
</file>