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33DF-D29E-4362-80F6-706A61AF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85F7-615F-44FE-9C02-163A5E193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7D3C-9348-498F-948B-B82ED004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3827-A39A-43E8-8962-5CFDF4FC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05C4-21FE-4998-9C9D-B348DEE6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2DA5-A276-4DCE-AE4F-0C0AA998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E33B-E971-43EF-9C8A-181774C0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F0DF-F108-4EAF-AABD-1A197D7B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F7F1-A146-4F01-A021-47E2C127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1EAE-DE2A-486F-8809-A18205E1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FE94-A417-41F9-B8D0-C91934E3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09AF-457F-4A16-87A4-7777341F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4338-4D78-43CB-888C-C6B2FF6D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1FE70-38BB-4AD2-8F25-84406633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4BAA-6EE0-4FE7-8976-25445A74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CF79-A654-4988-87C3-8EB5F76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AA4D-DFC9-4F34-B9C2-5F5D21E2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DD9C-5D4D-46B1-84D1-B5A18825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6475-D156-4CA5-A045-293D5AB0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3B0A-9890-48AB-AA56-7A7C062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FB6D-CD2B-4C2E-A0D4-7C115D9A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2BFCA-EEAE-478A-8F88-9C6DF35C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F115-9E04-4FA0-8DFB-90AA9A3C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85BE-FEE4-41F8-BB9D-31DD2F1A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964D-4F65-4456-89A8-C2FEB4CB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AA58-5265-434E-BCEE-CED252C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07640" y="6634080"/>
            <a:ext cx="58402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FE2D-1B2C-47EE-925A-8A64AC432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107640" y="6427800"/>
            <a:ext cx="57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1F02-F3A3-4D44-86D5-5599FE2EC2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UE Meta"/>
              </a:rPr>
              <a:t>Practice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804760" y="4413240"/>
            <a:ext cx="579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lier assessment: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st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roaches and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419720"/>
            <a:ext cx="67816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2023920"/>
            <a:ext cx="777240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list can help the buyer to gain insight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plier’s cost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aterials co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itemized according to the majo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Direct labor co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an be obtained by consulting the collective labor agreements for each particular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Transporta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direct co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d into general management costs and sales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4936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Metho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ing cu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iscovered (in American Airline Industry) that the cost price per unit decreased at a fixed percentage as experience (the cumulative production volume of a type of aircraft) increased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rning effects result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supervision as experience with production g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fits, from improved efficiency through streamlining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defects and line reject rates during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batch sizes (less time spent on resetting mach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production equipment (after a wh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engineering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earning cur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55736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284040" indent="-284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asic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Each time the cumulative production volume of a particular item doubles, the average time required to produce that item is approximately  x % less of the previously required number of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916360" y="3141720"/>
          <a:ext cx="3647880" cy="3344760"/>
        </p:xfrm>
        <a:graphic>
          <a:graphicData uri="http://schemas.openxmlformats.org/drawingml/2006/table">
            <a:tbl>
              <a:tblPr/>
              <a:tblGrid>
                <a:gridCol w="1823760"/>
                <a:gridCol w="1824120"/>
              </a:tblGrid>
              <a:tr h="990720"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umulative amount produ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quired time in hours pe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50720"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95000"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19040"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95000"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94280"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arning curve is preferably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When it concerns customized compon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manufactured by a supplier at the customer’s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When large amounts of money are inv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When the buyer cannot request competitive quot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, e.g., a considerable investment has to be made in moulds and specific production tooling which lead the buyer to single sourc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When direct labor costs make up an important part of the cost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54936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earning cur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93960"/>
            <a:ext cx="77724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objective assessment of suppliers increases a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the supplier in the business chain gr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 assessment may take place at four different lev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Product level</a:t>
            </a:r>
            <a:r>
              <a:rPr b="0" i="1" lang="en-US" sz="1800" spc="-1" strike="noStrike">
                <a:solidFill>
                  <a:srgbClr val="9999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s on establishing and improving the supplier’s product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Process level</a:t>
            </a:r>
            <a:r>
              <a:rPr b="0" i="1" lang="en-US" sz="2000" spc="-1" strike="noStrike">
                <a:solidFill>
                  <a:srgbClr val="9999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product, but the supplier’s production process is closely investig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Quality assurance system level</a:t>
            </a:r>
            <a:r>
              <a:rPr b="0" i="1" lang="en-US" sz="2000" spc="-1" strike="noStrike">
                <a:solidFill>
                  <a:srgbClr val="9999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tire supplier quality organization is subject of investigation by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Company level</a:t>
            </a:r>
            <a:r>
              <a:rPr b="0" i="1" lang="en-US" sz="2000" spc="-1" strike="noStrike">
                <a:solidFill>
                  <a:srgbClr val="9999cc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ides quality aspects also financial aspects are taken into consideration. Also auditors want to get an idea of the quality of management (how competitive is the supplier in the future?)</a:t>
            </a:r>
            <a:r>
              <a:rPr b="0" i="1" lang="en-US" sz="20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893960"/>
            <a:ext cx="777240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631800" indent="-63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wo types of assessment may be differentiate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ubjective 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used when companies evaluate suppliers through personal jud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bjective 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 to quantify the supplier’s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llowing techniques and tools can be used (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preadsheets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systematically compare and asses quotations obtained from suppliers. Important criteria are listed on one axis and the supplier quotations on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Personal assessmen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suppliers with whom exist close business relationships. Specialis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have experience with the suppliers rate them according to a agreed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862280"/>
            <a:ext cx="777240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504720" indent="-504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ques and tools (2)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Vendor rating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o quantitative data only. Entails measuring the aspects of price, quality and delivery reliability per supp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Supplier audit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ails that the supplier is periodically visited by specialist(s) from the customer. They investigate the production process and quality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Cost modeling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 from the buying company estimate, based on the production technology, the cost of the product. This may lead to ‘should cost’ discussions with the suppl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170172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504720" indent="-5047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amework for identifying the most important cost driver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04960" y="2133720"/>
          <a:ext cx="7943760" cy="4389480"/>
        </p:xfrm>
        <a:graphic>
          <a:graphicData uri="http://schemas.openxmlformats.org/drawingml/2006/table">
            <a:tbl>
              <a:tblPr/>
              <a:tblGrid>
                <a:gridCol w="1363680"/>
                <a:gridCol w="3208320"/>
                <a:gridCol w="3371760"/>
              </a:tblGrid>
              <a:tr h="5364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704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sts attributable to product design 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t line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0134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c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sts related to the size of the facility, equipment and process technology employ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cility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gree of vertical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se of auto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561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st associated with the location of the facility relative to the custo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cation related  wage rat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portation costs to custo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0134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p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st that differentiate a well run facility from a poorly run fac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or produ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cility ut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jection 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170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504720" indent="-504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between supplier auditing and vendor ra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4360" y="2205000"/>
          <a:ext cx="7573680" cy="4035600"/>
        </p:xfrm>
        <a:graphic>
          <a:graphicData uri="http://schemas.openxmlformats.org/drawingml/2006/table">
            <a:tbl>
              <a:tblPr/>
              <a:tblGrid>
                <a:gridCol w="2215800"/>
                <a:gridCol w="2587680"/>
                <a:gridCol w="2770200"/>
              </a:tblGrid>
              <a:tr h="5335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lier aud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endor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572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cus on 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sed on historical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</a:tr>
              <a:tr h="5335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and curren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urren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</a:tr>
              <a:tr h="4572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inly 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inly 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</a:tr>
              <a:tr h="5158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oad, many asp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mited,few asp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</a:tr>
              <a:tr h="4572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me consu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ndard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</a:tr>
              <a:tr h="4572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roce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jective, manu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ctual, computer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</a:tr>
              <a:tr h="6246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lation with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-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sed on internal administrativ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ing and cost structures of suppliers are always interrelated, but the effect they have on one another is not always cl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rucial to buyers to be able to lift the veil that covers the supplier’s pricing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hods to do 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ly monitoring the supply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individual supplier financia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nalysis of supplier’s cos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 developments in the supplier’s performance on price, quality, delivery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90324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2096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purchase price determ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ing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purchase price determ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ce ultimately paid for materials and service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environmental factors (internal and extern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Internal fac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ring about a change in the materials’ costs before the finished product is placed on the market. (logistical, technical or organizational fa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xternal fac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ose factors that change the availability of a product in a given market. (economic, socio political or technological fa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081920" y="169848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9800" y="1916280"/>
            <a:ext cx="3255840" cy="291780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916280"/>
            <a:ext cx="3084480" cy="291780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53840" y="719280"/>
            <a:ext cx="2165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vironmental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000" y="1306440"/>
            <a:ext cx="1529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47880" y="1306440"/>
            <a:ext cx="1598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ternal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4840" y="2604960"/>
            <a:ext cx="959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87040" y="2604960"/>
            <a:ext cx="1099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chn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2637000"/>
            <a:ext cx="1182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con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31040" y="2573280"/>
            <a:ext cx="986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cio-pol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3920" y="3909960"/>
            <a:ext cx="2117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chnological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787920"/>
            <a:ext cx="1494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ganiz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33760" y="1109520"/>
            <a:ext cx="0" cy="3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63840" y="1501920"/>
            <a:ext cx="387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24040" y="169848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24040" y="4964040"/>
            <a:ext cx="541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4040" y="4834080"/>
            <a:ext cx="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142040" y="4833720"/>
            <a:ext cx="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33760" y="4964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0000" y="5159520"/>
            <a:ext cx="1052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lack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37640" y="5094360"/>
            <a:ext cx="91548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82120" y="5622840"/>
            <a:ext cx="152964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ying to ra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17240" y="5094360"/>
            <a:ext cx="67320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0280" y="5616720"/>
            <a:ext cx="17154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ying to redu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22840" y="5681520"/>
            <a:ext cx="144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fluence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63480" y="535608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87800" y="5356080"/>
            <a:ext cx="172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55960" y="5943600"/>
            <a:ext cx="861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234040" y="5943600"/>
            <a:ext cx="1231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938320"/>
            <a:ext cx="0" cy="8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7800" y="293832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3005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300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191880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y (1978) considers prices to be based on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Cost-based pric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upplier’s offering price is directly derived from his cost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Market-based pricing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ice of the product is determined on the market and is generated by market circumstances (demand, supply, stock positions, economic factor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Competitive bidd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ice is influenced by market factors as well as cost factors. This situation is most com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4936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purchase price determ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11280" y="692280"/>
          <a:ext cx="8190000" cy="5743440"/>
        </p:xfrm>
        <a:graphic>
          <a:graphicData uri="http://schemas.openxmlformats.org/drawingml/2006/table">
            <a:tbl>
              <a:tblPr/>
              <a:tblGrid>
                <a:gridCol w="2523960"/>
                <a:gridCol w="1303560"/>
                <a:gridCol w="1039680"/>
                <a:gridCol w="150840"/>
                <a:gridCol w="585720"/>
                <a:gridCol w="150840"/>
                <a:gridCol w="957240"/>
                <a:gridCol w="150840"/>
                <a:gridCol w="1327320"/>
              </a:tblGrid>
              <a:tr h="3852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8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thod of price se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urchase product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sed on cost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6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sed both on market and cost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sed on market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907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mphasis on cost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/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mphasis on market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52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w 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mi-manufactured g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7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n-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7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ished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Meth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suppliers have to take into account to se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evelopment of the cost price per produc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’s order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of the customer to th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the product to the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pricing methods can be distinguish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Cost-plus pricing</a:t>
            </a:r>
            <a:r>
              <a:rPr b="0" i="1" lang="en-US" sz="2000" spc="-1" strike="noStrike">
                <a:solidFill>
                  <a:srgbClr val="9999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a fixed percentage mark-up to the cost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Target-profit pricing</a:t>
            </a:r>
            <a:r>
              <a:rPr b="0" i="1" lang="en-US" sz="2000" spc="-1" strike="noStrike">
                <a:solidFill>
                  <a:srgbClr val="9999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is determined based on profits that should be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Pricing based on the buyer perceived value.</a:t>
            </a:r>
            <a:r>
              <a:rPr b="0" i="1" lang="en-US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ule in marketing: do not base your price on the cost price but on what the market can b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Pricing based on the competitors prices.</a:t>
            </a:r>
            <a:r>
              <a:rPr b="0" i="1" lang="en-US" sz="20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Tender-based pricing.</a:t>
            </a:r>
            <a:r>
              <a:rPr b="0" i="1" lang="en-US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 request from the principal, contractors are invited to submit bids for a specific job. The job is awarded to the contractor with the lowest b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936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Metho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1728720"/>
            <a:ext cx="806436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284040" indent="-28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al characteristic of pricing policies for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is the discount policy which is appl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ash discount:</a:t>
            </a:r>
            <a:r>
              <a:rPr b="0" lang="en-US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2% discount for payments within 1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Quantity discoun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imulate larger quantity or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Bonus agree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the amounts purchased from a specific supplier for a specific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Geographical discou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o customers located near the supp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asonal discou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o improve capacity utilization in periods when sales dec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lnSpc>
                <a:spcPct val="85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Promotional discou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to temporarily stimulate the sale of a produ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Metho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5:06Z</dcterms:modified>
  <cp:revision>22</cp:revision>
  <dc:subject/>
  <dc:title>Analysis</dc:title>
</cp:coreProperties>
</file>