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F0BA-153E-4B88-9879-CF861C2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3731-0F9C-477D-800E-1979BCEA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2FEC-39EB-41EC-B9C6-782C5FB1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90DB-AB66-4D9D-9CCC-85A0840F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F12-F041-44FE-BCE6-25B1A4D7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A218-B073-4AE1-9EAD-011112E4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96D-CDED-4AA4-B527-CA109E3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FB2-D0BE-49FA-8CA4-F492AC8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9F4-54A3-4743-AAA9-3E218BF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0A8D-7FB5-4F07-BB74-1EE65AD5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923-2AB6-4D6E-BC22-17A8283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24F1-28F2-4A53-A24D-379373F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38C6-FE43-4006-99DD-F4D4D7E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277F-1400-4730-9BAC-57B6C0A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32EA-FAB1-4DCD-B675-EF0E79E8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EF9E-731B-4256-8FAF-06D64D63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02A-A74A-478D-BF7F-995505CA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A934-7CC3-4119-83A1-2309039A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2F0D-9613-477C-8B11-4CB3AFE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446B-833F-4235-B493-DCC7AA75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2B55-3245-4E8A-94CA-7A00C74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B10F-11BA-4EDE-8E84-4620DB8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9CAD-D760-4F93-98EF-5B832B2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F6B7-D573-405F-8C54-E2CCF82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0560" y="6581520"/>
            <a:ext cx="56163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CE5-3E17-43F5-AD55-FEAE12533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4920" y="6629400"/>
            <a:ext cx="684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CC8-0D79-4147-A5DE-9860F83DD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. Markets and produ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materials and commodity ex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06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atural raw mater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ttle, corn, coffee,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) and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iner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al, iron ore, copper and bauxi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dity exchanges play a significant role in the purchase of 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. The major commodity exchanges are in the USA.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ir roots in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materials and commodity ex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for the effective functioning of a futures mark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A logical geographical 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or transportation of th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Liquidity of the article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erial must be available in sufficient quantity and in manageable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Liquidity of the market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must be sufficient parties willing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olitical stability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must be a certain degree of political stability in the country where the exchange is established, because of the huge financial interests connected with the futures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materials and commodity ex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35120" y="1981080"/>
            <a:ext cx="822960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 trade is forward trade, which means that goods are purchased to be delivered at a future time, to fulfill the contract by settling the price difference between the original and a new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always take an open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329720"/>
            <a:ext cx="2743200" cy="133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cc9900"/>
                </a:solidFill>
                <a:latin typeface="Arial"/>
              </a:rPr>
              <a:t>ong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uation in which a party buys more of the product than he has sold: positive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329720"/>
            <a:ext cx="2743200" cy="133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cc9900"/>
                </a:solidFill>
                <a:latin typeface="Arial"/>
              </a:rPr>
              <a:t>hor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uation in which a party sells more of the product than he has bought: negative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materials and commodity ex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s market: some definition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learing hou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 that guarantees the contracts and takes ca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ncial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groups participat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roduc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s market to secure his crop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ra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oth buyer and seller and is satisfied with small profits over larg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uy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 goal is to limit the market or pri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Speculat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goal is profit. Speculators provide the market with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materials and commodity ex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4760" y="2206440"/>
            <a:ext cx="7581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s market,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material is an essential constituent of the cost price of the finishe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most impossible to translate a price increase on the purchasing side in the sales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w material that is used in the finished product cannot be substituted by othe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chasing related characteristic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parts that are to be built in the final product, to be sold by the manufacturer: standard or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r se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spects and punctual delivery play an important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71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, Repair &amp; Operating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chasing related characteristic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extensive article asso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egree of specif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, but irregular consump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has substantial influence on the choice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O articles represent 80% of product codes, and 20% of the purchasing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, Repair &amp; Operating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91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urchasing agreements for MRO-suppl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all-off agreement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reements that specify price, delivery terms and conditions and the contract period. Orders are placed against annual co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Systems contract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ract that covers a plant or department’s requirements for MRO supplies. Supplier carries inventory and makes regular and timely deliveries. Often supported by electronic catalogues and/or e-Procurem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orporate credit card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only for travel and entertainment purposes, but also for non-production buying and incidental purchases. Often in form  of Procurement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ment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chase of investment goods entail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chase of machinery, installation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th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the required quality and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related purchasing organized through project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engin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engin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engin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ment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828800"/>
            <a:ext cx="820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a for selecting suppl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rodu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experience that the supplier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of quality of the staff and the ability to provide in all the required disci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Financial stat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ancial reliability, state of liquidity and prof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Design and manufacturing capac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ssembly instructions, the material experience and the monitoring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Quality assurance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s that the supplier provides and the quality standards he adher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Experience and 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eferences the supplier can provide and the experiences of other clients it has work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 and marke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materials and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, repair and operating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ment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5120" y="1915920"/>
            <a:ext cx="8084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pecific aspec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ank guarantee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sure that the supplier’s obligations are ful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ransfer of title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reements about ownership of th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erformance guarantee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that the supplier will meet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ayment term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ier usually wants pre-payment in sever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4760" y="1980720"/>
            <a:ext cx="7437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types of service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 engineering an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construction, production equipment, transportation a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engineering, instrumenta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s, laboratories, computers, ca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Capacity buying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services because of insufficient interna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Specialist buying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services because of a lack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ender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e-selection: principal indicates which companies are qualified and can submit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pre-selection: every supplier can submit a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estments can be focused on cor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timal use of knowledge, equipment and experience of thir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lexibility is increased; fluctuations in workload can be absorbed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cting out leads to a more simple primary process in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put of an independent vision prevents organizational shortsight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 of the company risk is outsourced to thir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03848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creased dependency on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stant monitoring of costs related to contracting out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of communication and organizational problems during outsourcing of activities to thir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of information ‘leaks’ (confidential in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of social and legal problems in case of activities by thir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1240" y="162864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f outsourcing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6440" y="1628640"/>
            <a:ext cx="35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f outsourcing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of links in supply chains (companies, institutions) that are connected via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rizontal relationship of organisations that experience each other as effective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y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companies and valuechains in which the consecutive stages of production of an economic product take place – from primary producer to a specific set f customers or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2860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9718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6576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3434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0292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2860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9718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6576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3434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029200"/>
            <a:ext cx="76212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286000"/>
            <a:ext cx="76176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2971800"/>
            <a:ext cx="76176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657600"/>
            <a:ext cx="76176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343400"/>
            <a:ext cx="76176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5029200"/>
            <a:ext cx="76176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981080"/>
            <a:ext cx="0" cy="3733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1981080"/>
            <a:ext cx="0" cy="3733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7432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1148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18960" y="2743200"/>
            <a:ext cx="5331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743200"/>
            <a:ext cx="5335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114800"/>
            <a:ext cx="5331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14600" y="4114800"/>
            <a:ext cx="5335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6720" y="2335320"/>
            <a:ext cx="176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Raw</a:t>
            </a:r>
            <a:r>
              <a:rPr b="1" lang="en-US" sz="1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9520" y="3021120"/>
            <a:ext cx="303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Semi-manufactured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6560" y="5078520"/>
            <a:ext cx="204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Fin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6800" y="4392720"/>
            <a:ext cx="221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6080" y="3706920"/>
            <a:ext cx="1555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209680"/>
            <a:ext cx="49532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verging Material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ished product of one link is the main or sole input for the next production stages of various industry columns. This applies to industries that process raw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495680"/>
            <a:ext cx="4953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verging Material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ous finished products of  links of various industry columns are the input for the next link. This situation is found in companies with assembly-oriented production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429000"/>
            <a:ext cx="4953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ar Material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nished product of one link is the main or sole input for the subsequent li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side economics: four types of market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Pur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the supplier nor the buyer can influence the product price, price is a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formation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Monopolistic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gree of produc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pplier tries to make his product stand out in the eyes of the customer in order to create a monopoly situation for him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pressure on prices from competitors’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5717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side economics: four types of market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Olig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number of suppliers and limited produc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icult to get foothold in the market, entry b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fo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962520"/>
            <a:ext cx="160020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1911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6483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403848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44197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3962520"/>
            <a:ext cx="160020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038480"/>
            <a:ext cx="609480" cy="60984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4114800"/>
            <a:ext cx="304560" cy="3049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648320"/>
            <a:ext cx="304560" cy="3045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724280"/>
            <a:ext cx="304920" cy="3049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962520"/>
            <a:ext cx="160020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46483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9625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457200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05520" y="4190760"/>
            <a:ext cx="380880" cy="75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419720"/>
            <a:ext cx="7596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34120" y="4800600"/>
            <a:ext cx="38088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952880" y="4419360"/>
            <a:ext cx="763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962520"/>
            <a:ext cx="160020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403848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72428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39625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4648320"/>
            <a:ext cx="457200" cy="4572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4419720"/>
            <a:ext cx="152280" cy="38088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7958000">
            <a:off x="7124400" y="3999960"/>
            <a:ext cx="152280" cy="38124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4343400"/>
            <a:ext cx="152640" cy="38088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7958000">
            <a:off x="7277040" y="4838760"/>
            <a:ext cx="152640" cy="38088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3642000">
            <a:off x="7123680" y="4152600"/>
            <a:ext cx="152640" cy="38124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4187600">
            <a:off x="7159320" y="4248000"/>
            <a:ext cx="228600" cy="609480"/>
          </a:xfrm>
          <a:custGeom>
            <a:avLst/>
            <a:gdLst/>
            <a:ahLst/>
            <a:rect l="l" t="t" r="r" b="b"/>
            <a:pathLst>
              <a:path w="160" h="384">
                <a:moveTo>
                  <a:pt x="0" y="0"/>
                </a:moveTo>
                <a:cubicBezTo>
                  <a:pt x="12" y="108"/>
                  <a:pt x="24" y="216"/>
                  <a:pt x="48" y="240"/>
                </a:cubicBezTo>
                <a:cubicBezTo>
                  <a:pt x="72" y="264"/>
                  <a:pt x="128" y="120"/>
                  <a:pt x="144" y="144"/>
                </a:cubicBezTo>
                <a:cubicBezTo>
                  <a:pt x="160" y="168"/>
                  <a:pt x="144" y="344"/>
                  <a:pt x="144" y="38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257800"/>
            <a:ext cx="1600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price P1 and quantity Q1, all capacity is u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ice s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5257800"/>
            <a:ext cx="1600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ice lea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this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257800"/>
            <a:ext cx="1600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ice agre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5257800"/>
            <a:ext cx="16002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price P1 and quantity Q1, one party operates below cost price and starts a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ice off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side economics: four types of market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Mon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f only one supplier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s are virtually ab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monopolies: the entire supply of raw materials or a particular manufacturing process is owned by just one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monopolies exist when based on special licenses that are required from the government or when based on state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s the supplier to dictate the price and other contr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side economics: three type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Pur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Oligop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gopoly in reverse: a few buyers and a large number of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eratives or buying conso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Monop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uyer versus a large number of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 and marke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743200"/>
            <a:ext cx="190476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ilateral Monopoly, çaptive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spare pa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2743200"/>
            <a:ext cx="1905120" cy="12193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Limited supply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n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fuel pum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2743200"/>
            <a:ext cx="1905120" cy="1219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upply side mon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gas, water, l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5181480"/>
            <a:ext cx="1904760" cy="12193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eb"/>
                </a:solidFill>
                <a:latin typeface="Times New Roman"/>
              </a:rPr>
              <a:t>Demand-side mon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eb"/>
                </a:solidFill>
                <a:latin typeface="Times New Roman"/>
              </a:rPr>
              <a:t>(weapons systems, ammu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962520"/>
            <a:ext cx="1904760" cy="1218960"/>
          </a:xfrm>
          <a:prstGeom prst="rect">
            <a:avLst/>
          </a:prstGeom>
          <a:solidFill>
            <a:srgbClr val="fdeb3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Limited demand side mon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telephone exchanges, tr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5181480"/>
            <a:ext cx="1905120" cy="1219320"/>
          </a:xfrm>
          <a:prstGeom prst="rect">
            <a:avLst/>
          </a:prstGeom>
          <a:solidFill>
            <a:srgbClr val="fdeb3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emand-side olig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components, automobile indus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962520"/>
            <a:ext cx="190512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ilateral olig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chemical semi-manufactur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962520"/>
            <a:ext cx="1905120" cy="1218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upply-side oligop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copiers, compu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5181480"/>
            <a:ext cx="190512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olypolistic com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(office suppl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523520" y="1905120"/>
            <a:ext cx="838440" cy="838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1440" y="236232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120" y="320040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2520" y="236232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120" y="441972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36232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99840" y="556272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60120" y="1855800"/>
            <a:ext cx="195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Number of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1920" y="2590920"/>
            <a:ext cx="218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Number of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0:23Z</dcterms:modified>
  <cp:revision>15</cp:revision>
  <dc:subject/>
  <dc:title>Analysis</dc:title>
</cp:coreProperties>
</file>