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2F41-0A29-475C-B7C8-86685748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513-1BDE-4815-8109-2B54C1B3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943A-AD7E-47DE-AD7B-12AC0C4F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1B96-C43F-4390-961D-22D8E48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A1D6-997B-4750-A0EF-FD796179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C903-762F-42D3-95C6-5610977F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A41-58F5-4182-BBAC-5C800F7F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F00-81F0-43B0-BABC-EAA6BCC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165-441D-4BC5-99BF-D3F90FA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1A1-F281-4BF4-B072-8A070C2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EB9A-9FAD-497C-A361-1EB5DEA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4BCC-C69B-452D-ACD4-C124CA34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7B82-DD7C-4826-8859-A49AEE3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7A43-8346-4A42-9566-BB636F3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CE8A-5E27-41F4-896F-8700D46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FE2A-614A-48E5-AFA8-0724EE6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6EA-43F2-4907-BF41-166DE20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A8A-C6D1-47A4-A90E-1EAF350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92A-E201-4628-BE02-D885111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0154-4430-4806-8CC8-B7BE5671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E871-326A-41D3-A74E-44FDFB3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1A32-4629-4723-AC35-56056F87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2ABB-8007-462C-8CDE-0AFCD03F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5BB1-9289-4797-AA57-35CBFCF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20BF-B212-4212-8B8A-2A4FE78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924E-68FC-4143-A36D-43BCA99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9280" y="6561000"/>
            <a:ext cx="5624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D87-34EE-4098-82FB-B0D8717E1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4920" y="6561000"/>
            <a:ext cx="5695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55F-A6BE-468F-9A10-0C3C13E12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28600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acility management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buying service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and facilities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200" y="184428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creased concentration in the service industry affects the purchasing operations in several w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creased outsourcing of support activities (e.g. security, catering, cleaning, mainten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gration of support activities in a facility management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creased scale of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represents a big opportunity for more professional approach to purch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and facilities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rofessional approach to purchasing can result in savings of between </a:t>
            </a:r>
            <a:r>
              <a:rPr b="1" lang="en-US" sz="2400" spc="-1" strike="noStrike">
                <a:solidFill>
                  <a:srgbClr val="cc9900"/>
                </a:solidFill>
                <a:latin typeface="Arial Narrow"/>
              </a:rPr>
              <a:t>5 - 20%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ever this is not a simple matter. Top management will often fail to provide support, and buyers will get recognition only by providing a superior service to their internal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ing managers should therefore be </a:t>
            </a: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service driv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ather than </a:t>
            </a: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cost driv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55680" y="2828880"/>
            <a:ext cx="2462400" cy="2665440"/>
          </a:xfrm>
          <a:prstGeom prst="rect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0" tIns="0" bIns="0" anchor="t">
            <a:noAutofit/>
          </a:bodyPr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livery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77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77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ght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 startAt="2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gh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 startAt="2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response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d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4.   High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3760" y="2354400"/>
            <a:ext cx="2874960" cy="1123920"/>
          </a:xfrm>
          <a:prstGeom prst="rect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0" tIns="0" bIns="0" anchor="t">
            <a:noAutofit/>
          </a:bodyPr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w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od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bjective supplier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2143080"/>
            <a:ext cx="2340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ceived by internal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700280"/>
            <a:ext cx="241128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ceived by purchas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5686560"/>
            <a:ext cx="642780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Arial Narrow"/>
              </a:rPr>
              <a:t>Expectations levels with regard to purchasing are not always ident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93560"/>
            <a:ext cx="8202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9040" y="493560"/>
            <a:ext cx="8204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01400" y="1780920"/>
            <a:ext cx="7770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cess factors for a purchasing department as formulated by customer depart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asy access (both by telephone and personal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st reaction to questions and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mpt delivery of goods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hort delivery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istent quality of goods deliv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mmediate feedback in case of (unforeseen) order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 Narrow"/>
              </a:rPr>
              <a:t>Provided these requirements are met, users are willing to allow purchasing to take a more pro-active role and involve them at earlier stages in the purchasing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3068640"/>
            <a:ext cx="7632720" cy="3168720"/>
          </a:xfrm>
          <a:prstGeom prst="foldedCorner">
            <a:avLst>
              <a:gd name="adj" fmla="val 12500"/>
            </a:avLst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4040" y="620640"/>
            <a:ext cx="7770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360" y="1988640"/>
            <a:ext cx="8208720" cy="39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improve the customer orientation of the purchasing department, the following approach may be use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ze and document internal product/customer combinations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es internal custom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rget setting and ac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ss functional buying teams and organiza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 supply and commodity strateg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lementation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247840"/>
          <a:ext cx="8229600" cy="4060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ry lab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509760" y="186840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 product group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6720" y="280656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) Total purchasing 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) Purchasing expendi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) Market share 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) Expected 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measures with regard to the purchasing custom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efforts aimed at reducing number of products (standard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efforts aimed at supplier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accessibility and customer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measures to improve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product and marke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purchasing techniqu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ordering system (e.g. e-proc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e routine buying to internal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s more effective purchasing in a facilitie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scussing the optimal structure for a purchasing department within a service company, several options exist as guiding 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ustomer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Product 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ten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ervic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upply market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dilemma is how to secure an effective internal customer orientation in combination with knowledge or products and supply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440" y="3213000"/>
            <a:ext cx="718920" cy="216000"/>
          </a:xfrm>
          <a:prstGeom prst="leftArrow">
            <a:avLst>
              <a:gd name="adj1" fmla="val 50000"/>
              <a:gd name="adj2" fmla="val 832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5280" y="1484280"/>
            <a:ext cx="8353440" cy="2305080"/>
          </a:xfrm>
          <a:prstGeom prst="rect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services: definitions and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(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oos, 20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service is a process consisting of a series of more or less intangible activities, that normally (but not necessarily always) take place in interactions between the customer and service employees, and/or physical resources or goods and/or systems of the services provider, which are provided as solutions to the customers problem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y relate to human exchange of knowledge and expertise, services are intangible and cannot be made on st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relate to the performance of a predefined activity that is executed in cooperation with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ficulty is to separate what is considered to be the supplier’s responsibility and the customer’s responsi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512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services: definitions and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3725640"/>
            <a:ext cx="3384720" cy="236700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, distribution and consumption are simultaneous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difficult to demonstrate before the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not be trans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ivity or a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value produced in the interaction between buyer and s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3725640"/>
            <a:ext cx="3379680" cy="236700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and distribution are separate from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emonstrated before the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transpor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value produced i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7201080" cy="1224000"/>
          </a:xfrm>
          <a:prstGeom prst="rect">
            <a:avLst/>
          </a:prstGeom>
          <a:solidFill>
            <a:srgbClr val="d1d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060640"/>
            <a:ext cx="7201080" cy="12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6520" y="3357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3640" y="3357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2160" y="235116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5600" y="234936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7760" y="2349360"/>
            <a:ext cx="204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 produ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offe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032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59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ends and developments in the servic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rchasing and facilitie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wards more effective purchasing in a facilitie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ying services: definitions and ty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can we learn from the way services are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rchasing services: service level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services: definitions and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8120" y="213480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ECD service typology differentiates 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cleaning, catering, secu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nd communication technolog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organization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consulta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nd development and technic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 and distribu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development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trainin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advertising, re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we learn from the way services are s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zels et.al. (1999) present a framework to understand business service relationship trust and commitment. They claim that trust and commitment depen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tact and interaction between supplier and the end-user in the customer firm seems to play a vital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ision to remain in a certain relationship will be based on affective (e.g. positive feeling) and calculative (e.g. high switching costs) moti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services: service level agre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8480" y="1980720"/>
            <a:ext cx="843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 process related to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qualification of service provider of prim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supplier capacity and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upon key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working space and other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and managing expectations before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ual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7d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based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services: service level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99044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uyers increasingly try to make arrangements through using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ervice Level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 is a performance based agreement with a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evel is defined in very specific terms by using  key performance indicators (K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 will also outline the resources that will be used by both supplier and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scenario’s for the suppl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ble to meet the SL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lier will receive full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nable to meet SL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lier will be paid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services: service level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levels may be specified in the following ways (Axelsson and Wynstra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99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ecifying in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ing resources that will be used by the supplier to deliver the service required (e.g. temp la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99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ecifying through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a general work description the range of activities that will be performed by the supplier is described (e.g.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99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ecifying 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ing the final result. The functionality of the service is stressed rather than the activity itself (e.g.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99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ecifying 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is method the value rather than the functionality of the service is stressed (e.g. purchasing consulta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1844640"/>
            <a:ext cx="8137440" cy="4537080"/>
          </a:xfrm>
          <a:prstGeom prst="foldedCorner">
            <a:avLst>
              <a:gd name="adj" fmla="val 12500"/>
            </a:avLst>
          </a:prstGeom>
          <a:solidFill>
            <a:srgbClr val="d1d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services: service level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ing for services: some sugges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performance or outcome rather than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when and where the service need t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who will benefit from the service and in what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he supplier reputation, expertise and qua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for CV’s of key personnel and secure their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supplier service process and quality system: assess and discuss weaknesses and threats and major ri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ite supplier to present Business Case based upon work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‘cultural fit’ between buying company and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sue performance based contract (i.e. S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 on what financial, human, technical and information resources will be made available by the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for detailed inspection and quality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 and agree on dispute resolution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 on performance based payment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communication structure and make working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8680" y="620640"/>
            <a:ext cx="77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and developments in the servi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2076480"/>
            <a:ext cx="806436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ervice sector is becoming a dominant economic activity in many European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vice sector includes companies operatin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nsportation an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nking and other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ess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ctors explain the rapid growth of service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cus on core competencies and outsourcing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location of manufacturing companies to developing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roduction of new technologies (I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and developments in the servi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79160"/>
            <a:ext cx="820872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vil employment in services as a share of total employment for a selection of OECD countries in percentages of total employment (OECD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3317760"/>
          <a:ext cx="6553080" cy="3063960"/>
        </p:xfrm>
        <a:graphic>
          <a:graphicData uri="http://schemas.openxmlformats.org/drawingml/2006/table">
            <a:tbl>
              <a:tblPr/>
              <a:tblGrid>
                <a:gridCol w="1368360"/>
                <a:gridCol w="2519280"/>
                <a:gridCol w="2665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77880" y="2100240"/>
            <a:ext cx="777096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aracteristics of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Intangibility: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cannot be seen, tasted, felt, heard or smell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Inseparability: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service cannot exist separately from its provid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Variability: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quality of service depends on time and provi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Perishability: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services cannot be sto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7d"/>
                </a:solidFill>
                <a:latin typeface="Arial Narrow"/>
              </a:rPr>
              <a:t>Most important characteristic is the absence of a physical transformation. Also, a clear relationship between input, throughput and output is frequently abs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040" y="620640"/>
            <a:ext cx="77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and developments in the servi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0920" y="2058480"/>
            <a:ext cx="7770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her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rge part of the costs of service companies is related to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vice companies generally represent a large valu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ve purchasing spend is ra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 Narrow"/>
              </a:rPr>
              <a:t>Because of severe international competition in the service sector companies try to reduce operational costs. In general, a trend towards a higher degree of concentration in the service sectors can be perceived</a:t>
            </a:r>
            <a:r>
              <a:rPr b="0" lang="en-US" sz="2400" spc="-1" strike="noStrike">
                <a:solidFill>
                  <a:srgbClr val="00007d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54040" y="65232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and developments in the servi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987560"/>
            <a:ext cx="8351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rvice companies are lagging behind industrial companies with regard to their purchasing operations. However, this picture is changing for three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Tendency to outsource support activities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(security, catering, cleaning services, maintenance activiti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Integration of support activities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in a facility management organization (facilitation of the co-operation between purchasing and other support are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300" spc="-1" strike="noStrike">
                <a:solidFill>
                  <a:srgbClr val="cc9900"/>
                </a:solidFill>
                <a:latin typeface="Arial Narrow"/>
              </a:rPr>
              <a:t>Increased scale of operations</a:t>
            </a:r>
            <a:r>
              <a:rPr b="0" lang="en-US" sz="2300" spc="-1" strike="noStrike">
                <a:solidFill>
                  <a:srgbClr val="cc9900"/>
                </a:solidFill>
                <a:latin typeface="Arial Narro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(formation of a specialized purchasing departme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developments have increased the need for a professional purchas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4040" y="652320"/>
            <a:ext cx="7770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and developments in the servi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1280" y="404640"/>
            <a:ext cx="835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and facilities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987560"/>
            <a:ext cx="8064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85000"/>
              </a:lnSpc>
              <a:spcBef>
                <a:spcPts val="499"/>
              </a:spcBef>
              <a:buClr>
                <a:srgbClr val="cc9900"/>
              </a:buClr>
              <a:buSzPct val="120000"/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e-to-sales ratio is low in service compani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10% - 50%)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mpared to industrial compani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50% – 8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SzPct val="120000"/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ing savings will only have a limited financial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SzPct val="120000"/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ing for the primary process almost does not exist, since service companies by definition do not have a produc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SzPct val="120000"/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st considerations are not prime to internal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SzPct val="120000"/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n the specialized nature of most investment buying the user plays a dominant role in decision making leaving administrative matters, at best, to the purchasing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cc9900"/>
              </a:buClr>
              <a:buFont typeface="Arial Narrow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826920" y="1628640"/>
          <a:ext cx="7389720" cy="4608720"/>
        </p:xfrm>
        <a:graphic>
          <a:graphicData uri="http://schemas.openxmlformats.org/drawingml/2006/table">
            <a:tbl>
              <a:tblPr/>
              <a:tblGrid>
                <a:gridCol w="2463480"/>
                <a:gridCol w="2462400"/>
                <a:gridCol w="2463840"/>
              </a:tblGrid>
              <a:tr h="23641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, installation 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e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ucturing and renew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instal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furni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wa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ry build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kee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ing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kee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al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bage rem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upport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ry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ing of temporary perso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programmers, analysts 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22446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mo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and edu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and recruit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&amp; Tele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frames and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range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phe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ommunication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hone switching equip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our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supplies and pri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supp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ing 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 and subscri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26560" y="1319040"/>
            <a:ext cx="2363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jor categories of expend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and facilities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6:09Z</dcterms:modified>
  <cp:revision>20</cp:revision>
  <dc:subject/>
  <dc:title>Analysis</dc:title>
</cp:coreProperties>
</file>