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F210-9EE3-41BB-BAFB-C47011218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DE6A-0132-4EA0-B068-DDAD311366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F503-0763-4019-9C0C-39B1F3E0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5BF52-A0B4-47E3-B5D2-EC5226B5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3905-8FD8-438E-AE9B-67CE0492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5477-89C8-42C8-BF52-9FE60983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76E2-31F9-4F7F-8838-B60226EE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5AD4-9030-47AF-9AEF-581CFA92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E7C7-ADF2-45B3-961F-E9100581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3A96-9D4C-467D-9B74-3CADCD57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FE43-24B3-425E-8601-9B52A456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EAE4-5FA0-4CC6-96CD-1034460F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F147-8925-4470-BD72-185149B1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6A043-B288-488D-A4F6-D9E8EAF2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B365-F380-49B2-8EEE-6D023001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2E9D-F676-40ED-B7BD-D737281E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45AB-9F2D-4216-9970-0B68E3EF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5E46-BB17-4E6A-B309-C45EA882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0CCC-BA9E-4B13-9944-DEA10F8C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AE4C-A5B8-4B66-832C-990BF2EB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E28E9-C5CF-403D-AE63-7B8A2230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06CA-EC85-4301-BF1F-6C197B2E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C85ED-A8F2-40B4-B3F2-F4786B49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A0099-1A4F-42EC-8F32-B15609CE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5E02C-EC2C-41C4-BA2A-1587D9C4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5A38-3CB6-42BC-8D7D-870BCD4B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0920" y="6632640"/>
            <a:ext cx="56959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BB47-67F9-42DE-A469-B67B8CE948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179280" y="6632280"/>
            <a:ext cx="56959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1212-5D9A-4C8B-A327-143BD6486B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TUE Meta"/>
              </a:rPr>
              <a:t>Planning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7280" y="4581000"/>
            <a:ext cx="773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rchasing and Business strate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Lean manufact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eatures of lean manag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Teamwork among line worker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are trained in a variety of skills to conduct different jobs within their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imple but comprehensive information display sy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ake it possible for everyone in the plant to respond quickly to problems and understand the plant’s overall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Total commitment to quality improvement on the shop flo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Lean manufact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Japanese and European new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ese manager in charge of new product development;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greater authority to make deci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n his Western counterp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product and process engineering are integrated responsibility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manag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dec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wh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 wants to involve in his engineering team and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or what peri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Lean manufact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ese way to manage supply 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Average supply base is mu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ller than for Westernn manufactur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Japanese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EMs have a ‘layered’ 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often three or more tiers d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uppliers are usually involved in new product development at a very early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s are confronted with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well-defined targets in terms of quality improvement, lead time reduction an cost re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y are informed as to whether they meet contractual obl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Integrating purchasing into company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signing business strategy top management will have to make decisions about the company’s position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s-a v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s 3 major stakehold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Primary customer groups or target groups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ch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n the issue of market positioning and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Major competitors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ies must not only be able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 to customer needs; but also respond in such a w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y achieve ‘distinctive, sustainable competi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Major suppliers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s in the supplier marke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itate continuous review of the company’s core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172120" y="3429000"/>
            <a:ext cx="2523960" cy="20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87880" y="2752560"/>
            <a:ext cx="984240" cy="10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55880" y="228600"/>
            <a:ext cx="1847880" cy="7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9720" y="5452920"/>
            <a:ext cx="1846440" cy="78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42040" y="5452920"/>
            <a:ext cx="1847880" cy="78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969920" y="3624120"/>
            <a:ext cx="2340000" cy="195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662120" y="3362400"/>
            <a:ext cx="2525760" cy="20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4211640"/>
            <a:ext cx="1847880" cy="784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et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ench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802040" y="1010880"/>
            <a:ext cx="0" cy="17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33760" y="10112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4040" y="1665360"/>
            <a:ext cx="1231920" cy="52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16160" y="5877000"/>
            <a:ext cx="492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49720" y="3624120"/>
            <a:ext cx="2400480" cy="195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03760" y="4211640"/>
            <a:ext cx="1846440" cy="784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ke vs Bu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rategic 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052640"/>
            <a:ext cx="28861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strategic triang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ards leveraged purchas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987200"/>
            <a:ext cx="7873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In sourcing / outsourcing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what activities to handle inside and outside th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Develop commodity strateg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clear and detailed picture of the purchasing spend and a commodity strate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Establish and leverage world class supply base management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y base management relates to how many suppliers will be dealt with for a certain commodity, what conditions the best in class supplier should meet and how suppliers ar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Develop and manage supplier relation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s are grouped into distinctive categories. E.g. commercial suppliers, preferred suppliers, supplier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7880" y="620640"/>
            <a:ext cx="7770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ards leveraged purchas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2356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82560" indent="-682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Integration of suppliers in product developme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building constructive relationships with suppliers in area of new produ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Supplier integration into the order fulfillment process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 is that manufacturer and supplier in the end have agreement on mutually shared objectives aimed at satisfying the final customer as best as they 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Supplier development and quality management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is stage suppliers are challenged actively to provide new ideas (related to product design, manufacturing technology, etc.) for impr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Strategic cost management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ncept includes the identification of all costs, cost drivers and strategies aimed at reducing costs throughout the supply chain. (see chap.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4727" t="0" r="0" b="0"/>
          <a:stretch/>
        </p:blipFill>
        <p:spPr>
          <a:xfrm>
            <a:off x="1108080" y="1633680"/>
            <a:ext cx="7451640" cy="465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611280" y="549360"/>
            <a:ext cx="8137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ards leveraged purchas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770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Purchasing portfolio-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63640"/>
            <a:ext cx="777240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developing effective supplier strateg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following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helpfu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es the present purchasing strategy support our business strategy and does it meet our long term requirement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balance of power between our company and our major supplier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re the strategic products and services sourced from the best in class- suppliers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What percentage of our purchasing requirements is covered by contracts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o what extent are internal operations benchmarked against specialist supplier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What opportunities exist for collaboration with suppliers with product development, quality improvement, lead time reduction reduction?</a:t>
            </a:r>
            <a:r>
              <a:rPr b="0" lang="en-US" sz="1700" spc="-1" strike="noStrike">
                <a:solidFill>
                  <a:srgbClr val="9999cc"/>
                </a:solidFill>
                <a:latin typeface="Arial"/>
                <a:ea typeface="Times New Roman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15120" y="5661000"/>
            <a:ext cx="557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UE Meta"/>
              </a:rPr>
              <a:t>20-80 rule: 20% of the products and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UE Met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UE Meta"/>
              </a:rPr>
              <a:t>represent 80% of purchasing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Purchasing portfolio-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ljic’s (1983) product portfolio based on two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Purchasing’s impact on the bottom line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fit impact of a given supply item measured against criteria such as cost of materials, total cost, volume purch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Supply risk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against criteria such as short-term and long term availability, number of potential suppliers, structure of supply mark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ing and competitiv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leadership and differentiation: consequences for manufacturing and purchasing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n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ng purchasing into company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s leveraged purchas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ing portfolio-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basic supplier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332000" y="1096920"/>
          <a:ext cx="6192720" cy="5043600"/>
        </p:xfrm>
        <a:graphic>
          <a:graphicData uri="http://schemas.openxmlformats.org/drawingml/2006/table">
            <a:tbl>
              <a:tblPr/>
              <a:tblGrid>
                <a:gridCol w="3127320"/>
                <a:gridCol w="3065400"/>
              </a:tblGrid>
              <a:tr h="245412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Leverage 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native sources of            supply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itution pos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mpetitive bid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Strategic 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 for product’s cost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ence on suppl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formance based partn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48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Routine 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product 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logistics complex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 inten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ystems contracting 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-Procurement solu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Bottleneck 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polistic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entry barr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cure supply + 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or alterna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709720" y="2395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11920" y="2108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0200" y="4843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11920" y="464652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2960" y="2997360"/>
            <a:ext cx="13024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rchasing’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act 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5614920"/>
            <a:ext cx="549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76360" y="6175440"/>
            <a:ext cx="549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0560" y="1149480"/>
            <a:ext cx="598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27120" y="6189840"/>
            <a:ext cx="598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66400" y="6178680"/>
            <a:ext cx="1211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pply ris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8720" y="549360"/>
            <a:ext cx="3599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UE Meta"/>
              </a:rPr>
              <a:t>Purchasing product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1403280" y="1052640"/>
          <a:ext cx="6219720" cy="4952880"/>
        </p:xfrm>
        <a:graphic>
          <a:graphicData uri="http://schemas.openxmlformats.org/drawingml/2006/table">
            <a:tbl>
              <a:tblPr/>
              <a:tblGrid>
                <a:gridCol w="3048120"/>
                <a:gridCol w="3171600"/>
              </a:tblGrid>
              <a:tr h="251244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Leverage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 competi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dity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uyer dominated seg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Strategic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lea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know-h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alance of power may differ among buyer-supp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44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Routine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supp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 suppliers with dependent 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educe number of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Bottleneck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 lea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w, if any, alternative suppl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upplier Dominated seg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2709720" y="215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26160" y="215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47800" y="4767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50000" y="470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0360" y="3068640"/>
            <a:ext cx="11487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mpact 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anci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1320" y="981000"/>
            <a:ext cx="598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000" y="5589720"/>
            <a:ext cx="549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37680" y="6046920"/>
            <a:ext cx="11469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y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6043680"/>
            <a:ext cx="5238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98760" y="6058080"/>
            <a:ext cx="5695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72920" y="549360"/>
            <a:ext cx="2241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UE Meta"/>
              </a:rPr>
              <a:t>Supplier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Purchasing portfolio-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023560"/>
            <a:ext cx="7772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basic supplier strate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6666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6666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Competitive bi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6666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Secure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6666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Category management  and e-procurement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basic supplier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38360" y="2066760"/>
          <a:ext cx="7635600" cy="4098960"/>
        </p:xfrm>
        <a:graphic>
          <a:graphicData uri="http://schemas.openxmlformats.org/drawingml/2006/table">
            <a:tbl>
              <a:tblPr/>
              <a:tblGrid>
                <a:gridCol w="1723680"/>
                <a:gridCol w="5911920"/>
              </a:tblGrid>
              <a:tr h="43488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Ob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utual commitment in long-term 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Suitable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c products (gearboxes, axles, optics, engin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428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Activities</a:t>
                      </a:r>
                      <a:r>
                        <a:rPr b="0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te forecast of future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risk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ful supplier sel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uld cost’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ing materials sched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change order proce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dor ra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82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Decisio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- functional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72560" y="1484280"/>
            <a:ext cx="1997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700" spc="-1" strike="noStrike">
                <a:solidFill>
                  <a:srgbClr val="cc9900"/>
                </a:solidFill>
                <a:latin typeface="Arial"/>
              </a:rPr>
              <a:t>Partnership</a:t>
            </a:r>
            <a:r>
              <a:rPr b="0" lang="en-US" sz="2700" spc="-1" strike="noStrike">
                <a:solidFill>
                  <a:srgbClr val="cc9900"/>
                </a:solidFill>
                <a:latin typeface="TUE Scal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basic supplier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824040" y="2205000"/>
          <a:ext cx="7635600" cy="3456000"/>
        </p:xfrm>
        <a:graphic>
          <a:graphicData uri="http://schemas.openxmlformats.org/drawingml/2006/table">
            <a:tbl>
              <a:tblPr/>
              <a:tblGrid>
                <a:gridCol w="1724040"/>
                <a:gridCol w="5911560"/>
              </a:tblGrid>
              <a:tr h="38088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Ob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 ‘best deal’ for short 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Suitable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products (commodities, steelplate, wi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08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Activities</a:t>
                      </a:r>
                      <a:r>
                        <a:rPr b="0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product/market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for alternative products/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locate purchasing volumes over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ize order quant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pricing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252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Decisio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cha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61760" y="1590840"/>
            <a:ext cx="3163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700" spc="-1" strike="noStrike">
                <a:solidFill>
                  <a:srgbClr val="cc9900"/>
                </a:solidFill>
                <a:latin typeface="Arial"/>
              </a:rPr>
              <a:t>Competitive bid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basic supplier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4360" y="2149560"/>
          <a:ext cx="8135640" cy="4348080"/>
        </p:xfrm>
        <a:graphic>
          <a:graphicData uri="http://schemas.openxmlformats.org/drawingml/2006/table">
            <a:tbl>
              <a:tblPr/>
              <a:tblGrid>
                <a:gridCol w="1836720"/>
                <a:gridCol w="6298920"/>
              </a:tblGrid>
              <a:tr h="68184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Ob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short- and long-term 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supply 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Suitable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leneck products (natural flavours, vitamins, pigm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048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Activities</a:t>
                      </a:r>
                      <a:r>
                        <a:rPr b="0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te forecast of future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risk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e ranking in supplier’s client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reventative measures (buffer stock, consigned stock, transporta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for alternative products/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1808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Decisio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cha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 functional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676800" y="1590840"/>
            <a:ext cx="2326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700" spc="-1" strike="noStrike">
                <a:solidFill>
                  <a:srgbClr val="cc9900"/>
                </a:solidFill>
                <a:latin typeface="Arial"/>
              </a:rPr>
              <a:t>Secure supp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basic supplier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54200" y="2376360"/>
          <a:ext cx="7635600" cy="4148280"/>
        </p:xfrm>
        <a:graphic>
          <a:graphicData uri="http://schemas.openxmlformats.org/drawingml/2006/table">
            <a:tbl>
              <a:tblPr/>
              <a:tblGrid>
                <a:gridCol w="1724040"/>
                <a:gridCol w="5911560"/>
              </a:tblGrid>
              <a:tr h="10134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Ob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logistics 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perational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number of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Suitable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e products (consumables, suppli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232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Activities</a:t>
                      </a:r>
                      <a:r>
                        <a:rPr b="0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ontract per product group/ product fam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ze product assor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effective internal order delivery and invoic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gate order handling to internal 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972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Decisio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cha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 functional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50920" y="1484280"/>
            <a:ext cx="646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5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9900"/>
                </a:solidFill>
                <a:latin typeface="Arial"/>
              </a:rPr>
              <a:t>Category management a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5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9900"/>
                </a:solidFill>
                <a:latin typeface="Arial"/>
              </a:rPr>
              <a:t>e-procurement solu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basic supplier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95280" y="1700280"/>
          <a:ext cx="8435880" cy="4890960"/>
        </p:xfrm>
        <a:graphic>
          <a:graphicData uri="http://schemas.openxmlformats.org/drawingml/2006/table">
            <a:tbl>
              <a:tblPr/>
              <a:tblGrid>
                <a:gridCol w="1108080"/>
                <a:gridCol w="1782720"/>
                <a:gridCol w="1873440"/>
                <a:gridCol w="1798560"/>
                <a:gridCol w="18730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ive bid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sup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management  and e-procurement solu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8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ut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ment in long 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onsh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 ‘best deal’ for sh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short and l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supp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supply ris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logistic complex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pera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number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f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c products (e.g. gearboxes, axles, engin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products (e.g. commodities, steelplate, wir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leneck products (e.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flavours, vitamins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gments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e products (e.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ables, off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ies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9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te forecast of fu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risk 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ful supplier sel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uld cost’ 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ing’ materi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change or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dor r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product / mark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for altern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 / suppl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locate purchas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s over suppl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ize order quant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’ pric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te forecast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risk analysi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e ranking 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ier’s client li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revent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s (e.g. buff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, consigned stoc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for altern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 / suppl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ontract per produ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ze produ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rt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effective inter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 delivery and invoic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gate order handling 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u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 functional approa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chas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chas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 func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chas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 functional approa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Purchasing and competitive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etitive situation of West European industry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over the past dec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More competition from countries like Korea, Singapore, China, Taiw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Industry in W-Europe seems to be under-represented in areas of new technologies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industries seem to be at the stage of saturation or decl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77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Purchasing and competitive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08080" y="1341360"/>
          <a:ext cx="6958080" cy="4798800"/>
        </p:xfrm>
        <a:graphic>
          <a:graphicData uri="http://schemas.openxmlformats.org/drawingml/2006/table">
            <a:tbl>
              <a:tblPr/>
              <a:tblGrid>
                <a:gridCol w="1739880"/>
                <a:gridCol w="1739880"/>
                <a:gridCol w="1738440"/>
                <a:gridCol w="1739880"/>
              </a:tblGrid>
              <a:tr h="38088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9900"/>
                          </a:solidFill>
                          <a:latin typeface="TUE Meta"/>
                        </a:rPr>
                        <a:t>Int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9900"/>
                          </a:solidFill>
                          <a:latin typeface="TUE Meta"/>
                        </a:rPr>
                        <a:t>Grow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9900"/>
                          </a:solidFill>
                          <a:latin typeface="TUE Meta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9900"/>
                          </a:solidFill>
                          <a:latin typeface="TUE Meta"/>
                        </a:rPr>
                        <a:t>Dec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41792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08080" y="2316240"/>
            <a:ext cx="6357960" cy="3405240"/>
          </a:xfrm>
          <a:custGeom>
            <a:avLst/>
            <a:gdLst/>
            <a:ahLst/>
            <a:rect l="l" t="t" r="r" b="b"/>
            <a:pathLst>
              <a:path w="4956" h="2502">
                <a:moveTo>
                  <a:pt x="0" y="2494"/>
                </a:moveTo>
                <a:cubicBezTo>
                  <a:pt x="104" y="2498"/>
                  <a:pt x="208" y="2502"/>
                  <a:pt x="432" y="2398"/>
                </a:cubicBezTo>
                <a:cubicBezTo>
                  <a:pt x="656" y="2294"/>
                  <a:pt x="1136" y="2006"/>
                  <a:pt x="1344" y="1870"/>
                </a:cubicBezTo>
                <a:cubicBezTo>
                  <a:pt x="1552" y="1734"/>
                  <a:pt x="1536" y="1742"/>
                  <a:pt x="1680" y="1582"/>
                </a:cubicBezTo>
                <a:cubicBezTo>
                  <a:pt x="1824" y="1422"/>
                  <a:pt x="2040" y="1110"/>
                  <a:pt x="2208" y="910"/>
                </a:cubicBezTo>
                <a:cubicBezTo>
                  <a:pt x="2376" y="710"/>
                  <a:pt x="2500" y="532"/>
                  <a:pt x="2688" y="382"/>
                </a:cubicBezTo>
                <a:cubicBezTo>
                  <a:pt x="2876" y="232"/>
                  <a:pt x="3076" y="20"/>
                  <a:pt x="3336" y="10"/>
                </a:cubicBezTo>
                <a:cubicBezTo>
                  <a:pt x="3596" y="0"/>
                  <a:pt x="3978" y="158"/>
                  <a:pt x="4248" y="322"/>
                </a:cubicBezTo>
                <a:cubicBezTo>
                  <a:pt x="4518" y="486"/>
                  <a:pt x="4808" y="854"/>
                  <a:pt x="4956" y="99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63200" y="5667480"/>
            <a:ext cx="10450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Biochemi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1880" y="5340240"/>
            <a:ext cx="12308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ptical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1440" y="3773520"/>
            <a:ext cx="15843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Telecommunic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0200" y="4687920"/>
            <a:ext cx="13057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harmaceutic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5013360"/>
            <a:ext cx="14641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edical equip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27040" y="4098960"/>
            <a:ext cx="915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mput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1080" y="2387520"/>
            <a:ext cx="8805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hemic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0360" y="2649600"/>
            <a:ext cx="11516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Food produ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79640" y="2924280"/>
            <a:ext cx="12736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ubber, plast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1080" y="3249720"/>
            <a:ext cx="15249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utomobile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64880" y="3497400"/>
            <a:ext cx="16286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achine constr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82880" y="2270160"/>
            <a:ext cx="6915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Texti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96200" y="2583000"/>
            <a:ext cx="726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loth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17080" y="2909880"/>
            <a:ext cx="14806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Leatherware/sho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96560" y="3236760"/>
            <a:ext cx="5086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te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79280" y="3511440"/>
            <a:ext cx="10036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hipbuil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Purchasing and competitive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Long-term strategy of many companies focuses on 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‘</a:t>
            </a:r>
            <a:r>
              <a:rPr b="0" i="1" lang="en-US" sz="2400" spc="-1" strike="noStrike">
                <a:solidFill>
                  <a:srgbClr val="cc9900"/>
                </a:solidFill>
                <a:latin typeface="Arial"/>
              </a:rPr>
              <a:t>selective growth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: a combination of enhancing the core activity and starting up new, promising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 of this strategy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companies  sell off activities that are not considered to belong to their cor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Purchasing and competitive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s underlying this tr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Increased subcontracting, as a result of make-or- buy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Buying of finished products instead of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urnkey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echnologic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Cost leadership and differentiation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UE Meta"/>
              </a:rPr>
              <a:t>consequences for manufacturing and purchasing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49048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mpany’s 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</a:t>
            </a:r>
            <a:r>
              <a:rPr b="0" i="1" lang="en-US" sz="2400" spc="-1" strike="noStrike">
                <a:solidFill>
                  <a:srgbClr val="cc9900"/>
                </a:solidFill>
                <a:latin typeface="Arial"/>
              </a:rPr>
              <a:t>a distinctive,sustainable competitive advantage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7040" y="5613480"/>
            <a:ext cx="1494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38200" y="630864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orter, 19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Cost leadership and differentiation: </a:t>
            </a:r>
            <a:r>
              <a:rPr b="0" lang="en-US" sz="2400" spc="-1" strike="noStrike">
                <a:solidFill>
                  <a:srgbClr val="000000"/>
                </a:solidFill>
                <a:latin typeface="TUE Meta"/>
              </a:rPr>
              <a:t>consequences for manufacturing and purchasing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512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er (1980) defines three strategies leading to a distinguishing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ost leadershi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focus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lly reducing the cost price of the final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Differentiatio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ms at marketing products which are perceived by the customer as being 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ocus strateg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ms at serving a particular, clearly defined group of customers in an optimal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99cc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consequence of not making a choice between the strategic alternatives is that the company will be unable to build up a sustainable competitive advantage in the end-us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Lean manufact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ack et al. (199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to lean management i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9900"/>
                </a:solidFill>
                <a:latin typeface="Arial"/>
              </a:rPr>
              <a:t>It transfers the maximum number of tasks and responsibilities to those workers actually adding value to the car on the line, and it has in place a system for detecting defects that quickly traces every problem, once discovered, to its ultimate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4:34:01Z</dcterms:created>
  <dc:creator>Frank Rozemeijer</dc:creator>
  <dc:description/>
  <dc:language>en-US</dc:language>
  <cp:lastModifiedBy>ldawson-bowling</cp:lastModifiedBy>
  <dcterms:modified xsi:type="dcterms:W3CDTF">2008-02-08T11:22:15Z</dcterms:modified>
  <cp:revision>19</cp:revision>
  <dc:subject/>
  <dc:title>Analysis</dc:title>
</cp:coreProperties>
</file>