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26DA4-16F8-479C-BD45-61BB34F53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3FDCC-6AA9-468B-A438-E5CA0E84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8B8A0-980B-48EC-9987-541D2D148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D3898-EAF0-4140-B815-CA7C959A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043E-E286-4E45-83B1-9D8B884F1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B8B5-A402-4E1C-A6CD-B1BC7B03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E0BF-1449-4ED7-A914-13397F7C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E74F-D450-419E-A6A5-30BC50CC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A906-FCAD-4553-B0E3-CF3CE055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2A9A-E306-469B-9862-DD69DA7D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2DE7-D9CE-4CBA-8272-1DBAFD14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0D14D-E100-4E91-8D33-93316312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9020-FC33-49B9-9A8E-17610868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6730-28B2-4E5B-A91E-29EB2041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EFC6-A653-4DA9-8A84-FC6879D5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32DE-6079-4BFA-9C55-77E636749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FDE1-24CA-492C-A261-D6EAEA427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B8297-DA55-4623-B2F2-18D52EBB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29175-16BD-4B09-B673-41ECAAD1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A3745-1AB6-497E-8E92-6C79A317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4DCEB-AFA7-4C76-82B0-E94856F2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A0570-EB9C-4DD7-B561-51DD7003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BA1E0-92C7-4755-855E-3AF91DDE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74DD8-12F5-44B3-9764-88F3E73D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78920" y="6719760"/>
            <a:ext cx="60483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engage Learning – Purchasing &amp; Supply Chain Management 4 ed (1-84480-024-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024C-F13E-4E89-8821-B36A16B1B9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7000"/>
            <a:ext cx="9144000" cy="6858000"/>
            <a:chOff x="0" y="2700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2700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717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93680"/>
              <a:ext cx="2867040" cy="3157560"/>
              <a:chOff x="0" y="1093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610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717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93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610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717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51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51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51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75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75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6800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0" y="6524280"/>
            <a:ext cx="6192720" cy="2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engage Learning – Purchasing &amp; Supply Chain Management 4 ed (1-84480-024-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F177-3F39-4E36-84C4-9B1639EC94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3. The purchasing process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buyer’s ro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2: Supplier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ision in favor of either fixed price or cost-reimbursable contracts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d by a number of factors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Comprehensiveness of the specific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ility of extensive specifications is crucial for fixed price contrac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Available tim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re enough time for a tender procedure and price negotiations, or should the work be started immedi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Technical experti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specialised knowledge is required, a cost reimbursable contract is pre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Knowledge of the industry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egree to wich the principal knows the methods and price arrangements operating in that particul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2: Supplier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2206800"/>
            <a:ext cx="822960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Arial"/>
              </a:rPr>
              <a:t>Unit-rate contra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s the cost per activity for standardized and routine activities. Unit-rate contracts are used for activities that are standardized but which are difficult to estimate in terms of volum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2: Supplier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512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. Preliminary qualification of suppli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the prequalification requirements, based on the purchase order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mbling the initial bidders list that indicates which suppliers may probably do the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2: Supplier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064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3 to 5 prospective suppliers (bidders’ short li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 quo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liminary technical and commercial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ranking sche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Supplier selection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 to select certain supp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lying ranking sche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lying quo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14600" y="3657600"/>
            <a:ext cx="1247760" cy="595440"/>
          </a:xfrm>
          <a:prstGeom prst="downArrow">
            <a:avLst>
              <a:gd name="adj1" fmla="val 49870"/>
              <a:gd name="adj2" fmla="val 42935"/>
            </a:avLst>
          </a:prstGeom>
          <a:solidFill>
            <a:srgbClr val="cc9900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2: Added value of the bu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63480" y="1980720"/>
            <a:ext cx="7940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ing the most adequate way of subcontrac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ing reliable supplier-partners by means of an adequate procedure of prequa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up the request for comparable quo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ing requests for information from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ucting a balanced analysis of quotations in close co-operation with the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3: The purchasing con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991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ices and terms of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ixed price plus incentive fe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tivate suppliers to deliver work above agreed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ost plus contrac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tual cost plus agreed profit margin. Used in situations where the work can not be specified adequately or when a fixed price constitutes too big a risk for supplier or bu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ost-reimbursable contrac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sed on fixed hourly rates (which incl profit for suppli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Agreement with price-adjustmen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inly used for agreements with long-term delivery or when very specific and market-sensitive materials are proc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3: The purchasing con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rms of pa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practice that payment takes place in several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ferred method of payment is based on suppliers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nalty clauses and warranty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rs have to guarante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oods are of good quality and in accordance with spec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oods are completely new and free of de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al and government regulations have been 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materials obtained from ‘sustainable’ sources of su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ound purchasing contract includes agreement 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alty clau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rranty perio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(if applicable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s 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3: The purchasing con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3512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ther arrang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Insurance and safety reg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Transfer of rights and oblig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Contracting out to third pa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Terms of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3: Added value of the bu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34760" y="1980720"/>
            <a:ext cx="7869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the required contracting expertise in the form of modular purchase contracts (and contract clauses) and general terms of purc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ing what price and other commercial conditions will be negoti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ing specific contractual arrangements to minimize risks and li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ing and conducting the negotiations about all terms and conditions of the con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ing the purchase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ing contract compliance and contract-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8569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4 &amp; 5: Ordering &amp; Exped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types of expediting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Exception expediting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uyer only undertakes action when the organization sends out signals of material shor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Routine status check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preventing materials supply and quality problems - few days before promised delivery, the buyer contacts the supplier to confirm the delivery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Advanced status check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critical purchase parts – a detailed production plan will be handed over to the buyer and during the process the buyer will carry out periodic che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Field expediting</a:t>
            </a: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critical purchase parts – fieldinspector periodically inspects on site whether supplier is on schedule (e.g. military projec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3512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urchasing 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1: determining on purchase order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2: supplier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3: the purchasing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s 4&amp;5: ordering &amp; Exped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6: Follow up and evaluation of the buying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49000"/>
            <a:ext cx="8134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4 &amp; 5: Ordering &amp; Exped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6348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summary, the added value of the buyer during the ordering and expediting phase lies predominantly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ing efficient ordering rout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ing that all purchase orders are confirmed by the supp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ing and executing a computer-supported, differentiated method of expediting and insp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ing a computer-supported database with regard to critical purchasing and supplier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ing a sound procedure for order hand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ing effective ‘trouble shooting’ when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6: Follow up and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63480" y="19188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gs that have to be taken care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tling warranty claims and penalty cla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tling the results of work in excess or work that does not meet spec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ing the purchase and supplier doc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ing project eval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ng and ranking supplie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6: Added value of the bu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3512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ling claims, with regard to work not covered in the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ing the user’s experience with specific products and suppliers by means of a detailed vendor rat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ing compliance with agre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637920"/>
            <a:ext cx="8278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1: Develop purchase order spec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7869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ion betw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Functional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s the functionality which the product must have for the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s of a functional spec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ential suppliers are challenged to give advice using their expertise and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stimulated innovation and innovative id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creates one terms of reference, against which all supplier proposals can b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Detailed technical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s the technical properties and characteristics of the product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l as the activities to be performed by the supplier in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6000" y="566640"/>
            <a:ext cx="8675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1: Purchase order spec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urchase order specification comprises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Quality specific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echnical norms and standards the product should me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Logistics specific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Quantities and delivery ti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Maintenance specifi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How the product will be maintained and servic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Legal and environmental require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roducts, services and production process should be in compliance with legisl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Target budg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upplier solutions and proposals would be within predetermined financial lim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1: Added value of the buy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3512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ing unambiguous functional, technical, logistics and maintenance spec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ing the use of supplier or product brand spec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ing clear procedures regarding approval of specification chan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ing a clear sample inspection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ing clear descriptions of the methods for testing product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ing a general cost breakdown to help assessment of quotations at a later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2: Supplier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35120" y="1990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2 Supplier selection contains 4 sub-steps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ing the method of (sub)contrac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liminary qualification of suppliers and drawing up the ‘bidders list’ (long list and short li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ation of the request for  information (RFI), request for quotation (RFP) and analysis of the bids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on of the supp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2: Supplier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267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. Method of subcontrac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Turnkey Subcontrac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Partial subcontrac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924360" y="2204640"/>
            <a:ext cx="5245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sibility of the entire assignmen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d with the supp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 is divided into parts that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cted out separately, to var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iers: co-ordination rests with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58920" y="3429000"/>
            <a:ext cx="1143000" cy="9856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2: Supplier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3141720"/>
            <a:ext cx="3609720" cy="25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al knows where he stands financi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completion no need for settlements: supplier carries all the r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irm completion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07080" y="3141720"/>
            <a:ext cx="3735360" cy="25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icult to get insight in supplier’s cost break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ation costs a lot of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does not know in advance which supplier will turn out to be the b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1628640"/>
            <a:ext cx="7913520" cy="14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1. Fixed price: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orders the supplier to perform the required activities at a fixed price, before a predetermined d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2: Supplier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136680"/>
            <a:ext cx="4114800" cy="25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al obtains exact picture of the cost structure of th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 is free in his choice of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53000" y="3136680"/>
            <a:ext cx="4022640" cy="25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s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al is not sure about the financial con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incentive to work faster, as the supplier is paid per h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ertainty about completion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989000"/>
            <a:ext cx="769608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2. Cost-reimbursabl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ture and scope of activities are not determined in advance; the supplier works at an agreed hourly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14:34:01Z</dcterms:created>
  <dc:creator>Frank Rozemeijer</dc:creator>
  <dc:description/>
  <dc:language>en-US</dc:language>
  <cp:lastModifiedBy>ldawson-bowling</cp:lastModifiedBy>
  <dcterms:modified xsi:type="dcterms:W3CDTF">2008-02-08T11:20:00Z</dcterms:modified>
  <cp:revision>14</cp:revision>
  <dc:subject/>
  <dc:title>Analysis</dc:title>
</cp:coreProperties>
</file>