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5D10-0C15-4C85-9B1B-EDF81C373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E5C5-CEF9-45C5-9BBF-2556F4285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1FA3-9E16-45EF-B5F6-40958F1C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51464-CA53-4A38-A9E1-D69ED674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2413A-5191-40A8-9E74-17A62D02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F099-44EF-4465-BBB1-395E7278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9571-C2DB-417E-A96F-BF90DB14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67E2-900D-482E-A649-F1865090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889B-7EA5-4F0D-8BB8-B21121AA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F273-3D84-4A18-B2B6-99A1CB02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232F-341A-49B5-824D-8BBB7943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586E-D26E-4AE1-B033-4EA7D3CC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01A6-E46C-463B-A50A-C8CAE69B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72002-8548-48ED-8F97-02E7D03B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1343-9013-453E-A8B1-4FEE931D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2BD0-DCF5-4DA0-9DC8-AD4223C5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633D-A72C-48B2-9705-54584A94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D7F6-BDB9-4A22-BEBD-C40A124A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96BD-6731-43BC-9037-11A21810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438FE-66D2-438A-8FA9-83A11DFA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542D-1F98-4DAC-B111-6B327763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9348A-A1AB-4874-B25E-21DFFCAC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0C48-83AE-4A88-BE01-1CC26A90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39A1E-59F5-4F23-9274-BD2F41D9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8FB6-A816-4130-A980-D53357D2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D2D5-D6D6-4019-90B7-DED068DB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9280" y="6561000"/>
            <a:ext cx="5695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C495-5633-4B10-86E4-C6FBCF9810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179280" y="6561000"/>
            <a:ext cx="5695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0870-58E9-4138-A4D8-540E839329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TUE Meta"/>
              </a:rPr>
              <a:t>Practice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7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urchasing function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trade and retail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n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4419720"/>
            <a:ext cx="678168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54936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and organization of the purchas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35344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in the buying-selling cy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product assortment and distribution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most suitable 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ual 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replen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diting an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buyers need to give more attention to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marketing and s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pects than industrial buyers. The function of retail buyer evolves from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traight buy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mmodity or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ategor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77880" y="2090880"/>
            <a:ext cx="7770960" cy="35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Cross-functional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s are responsible for all aspects of a category in order to generate a maximum return for the retail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ing, styling, visual merchandising and distribution functions operate in one organizational entity. (‘category management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Functional purchasin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is important and reports directly to top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and purchasing often separate activ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and Category Management are conducted central and ordering is carried out decentral as much as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is more and more delegated to the suppliers (i.e. V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54936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and organization of the purchas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9640" y="476280"/>
            <a:ext cx="820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velopments in trade and retail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250480" cy="31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consumer behav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ing population, ongoing individualism,  more men 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income gap between population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ing number of earning co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exposure to other cultures and integration of ethnic min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concern for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ttention to healthier l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0000" y="5157720"/>
            <a:ext cx="8195760" cy="65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900" spc="-1" strike="noStrike">
                <a:solidFill>
                  <a:srgbClr val="cc9900"/>
                </a:solidFill>
                <a:latin typeface="Arial"/>
              </a:rPr>
              <a:t>This means that the commodity manager/ retail-buyer must constantly tail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900" spc="-1" strike="noStrike">
                <a:solidFill>
                  <a:srgbClr val="cc9900"/>
                </a:solidFill>
                <a:latin typeface="Arial"/>
              </a:rPr>
              <a:t>his product assortment to ever more specific and often smaller group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68440" y="1928880"/>
            <a:ext cx="82515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marL="284040" indent="-284040">
              <a:spcBef>
                <a:spcPts val="601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development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cc9900"/>
                </a:solidFill>
                <a:latin typeface="Arial"/>
              </a:rPr>
              <a:t>Concentration:</a:t>
            </a:r>
            <a:r>
              <a:rPr b="0" lang="en-US" sz="21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lobalization of competition and concentration through mergers and acquisi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cc9900"/>
                </a:solidFill>
                <a:latin typeface="Arial"/>
              </a:rPr>
              <a:t>International co-operation:</a:t>
            </a:r>
            <a:r>
              <a:rPr b="0" lang="en-US" sz="21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ue to the concentration of power on the suppliers’ side, trade companies are searching for internationalization as an option to counterbalance this develop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cc9900"/>
                </a:solidFill>
                <a:latin typeface="Arial"/>
              </a:rPr>
              <a:t>Private labels:</a:t>
            </a:r>
            <a:r>
              <a:rPr b="0" lang="en-US" sz="21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vate labels support retailer identity and image. Finding suitable suppliers for private label products will become increasingly difficul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cc9900"/>
                </a:solidFill>
                <a:latin typeface="Arial"/>
              </a:rPr>
              <a:t>Space management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ased on detailed cost information retailers decide on the most profitable display lay ou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476280"/>
            <a:ext cx="820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rade and retail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9640" y="1484280"/>
            <a:ext cx="825192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marL="284040" indent="-284040">
              <a:spcBef>
                <a:spcPts val="524"/>
              </a:spcBef>
              <a:buClr>
                <a:srgbClr val="9999cc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524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cc9900"/>
                </a:solidFill>
                <a:latin typeface="Arial"/>
              </a:rPr>
              <a:t>‘</a:t>
            </a:r>
            <a:r>
              <a:rPr b="0" lang="en-US" sz="2100" spc="-1" strike="noStrike">
                <a:solidFill>
                  <a:srgbClr val="cc9900"/>
                </a:solidFill>
                <a:latin typeface="Arial"/>
              </a:rPr>
              <a:t>Green’ issues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cological considerations are growing in importance (e.g. natural ingredients, biodegradable packag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524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524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cc9900"/>
                </a:solidFill>
                <a:latin typeface="Arial"/>
              </a:rPr>
              <a:t>Information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ome developments in information technology have an immediate impact on consumers. Others are less visible to the consumer. For examp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Electronic bank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Bar codin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Tele shopp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200" y="476280"/>
            <a:ext cx="8183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rade and retail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 and supply chain strategy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upply chain management retail is based on the following con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 Managed Inventory (V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Consumer Response (E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Planning, Forecasting and Replenishment (CPF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market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frequency Identification Detection (RF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 and supply chain strategy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dor Managed Inventory (V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I is a continuous replenishment program in which the retailer provides the supplier with detailed information to allow the supplier to manage and replenish product at the store or warehous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the activities of forecasting, scheduling, requisitioning and ordering are performed by the suppli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tailer does the invoice matching and handles pa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is an integral part of the VMI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s of V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ing repetitive purchasing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ed costs of processing clai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inventory 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ified customer-vendor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I has its drawbacks when not implemented properly. Be aware of EDI problems, employee acceptance, and trust among the supply chain partne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 and supply chain strategy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Consumer Response (E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R is a grocery industry supply chain management strategy aimed at eliminating inefficiencies, and excessive or non-value-added costs within the supply chain, thus delivering better value to the end custom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esigned to re-engineer the grocery supply chain from a “push” system into a “pull” system by using e-commerce informatio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R attempts to eliminate inefficiencies by introducing strategic initiatives in four are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t store asso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t produc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t promo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t product replenish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 and supply chain strategy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Consumer Response (E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that companies need to have in place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management (i.e. managing a group of products as strategic business units within each st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ous replenishment program (CR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 support is needed by some critical technologies and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rcodes / Scan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ic Data Interchange (ED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 aided ordering (C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 docking / direct stor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y based co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obstacle is not technical but managerial, with manager reluctant to transform their adversarial trading relationships into open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 and supply chain strategy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Planning, Forecasting and Replenishment (CPF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ncept allows cooperation across the supply chain, using a set of processes and technology mod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 is to provide dynamic information sharing that is integrating both demand and supply side processes, and effectively planning, forecasting and replenishing customer needs through the total supply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CPF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respons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availabi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d inventory and associate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revenues and ear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relationships with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59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and importance of purchasing in trade and retail compan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and organization of the purchas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s in trade and retail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ing and supply chain strategy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 and supply chain strategy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79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market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inction can be made between </a:t>
            </a: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Open exchan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ccessible for everyone) and </a:t>
            </a: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Private exchan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nly for memb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-marketplace can provide a platform f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 commerce transactions which can automate and streamline the entire requisition-to-payment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ollaborative network for production design, supply chain planning, optimization and fulfillment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wide product information that is aggregated into a common classification and catalogu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nvironment in which sourcing, negotiations and auctions can take place in real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online community for publishing and exchanging industry news, information and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 and supply chain strategy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frequency Identification Detection (RF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ID is a term for technologies that use radio waves to automatically identify individual ter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-ID Center is developing an open global network (a layer on top of internet) that can identify anything, anywhere, automatic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network will give companies near perfect supply chain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if widely adopted the network coul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e human error from data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inven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product in st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loss and w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 up staff to perform more value added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afety and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 and supply chain strategy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ur major developments show how the landscape of the traditional retail buyer has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systems will allow them to optimize their supply chain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competition in retail will no longer be between individual companies, rather it will be among clusters of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research shows the development towards this kind of collaboration can be trouble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between the partners, a long term commitment and a balanced sharing of risks and rewards is required to be 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and retail 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zed by the absence of a produ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added is low compared to manufacturing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nce is primarily based on the exchange of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between the purchase and sale is very 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short time between purchase and sale, buying and selling are sometimes integrated into one function. This is referred to as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categor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477800" y="1828800"/>
            <a:ext cx="6404040" cy="3592440"/>
            <a:chOff x="1477800" y="1828800"/>
            <a:chExt cx="6404040" cy="3592440"/>
          </a:xfrm>
        </p:grpSpPr>
        <p:sp>
          <p:nvSpPr>
            <p:cNvPr id="121" name=""/>
            <p:cNvSpPr/>
            <p:nvPr/>
          </p:nvSpPr>
          <p:spPr>
            <a:xfrm>
              <a:off x="1477800" y="1828800"/>
              <a:ext cx="6404040" cy="3592440"/>
            </a:xfrm>
            <a:custGeom>
              <a:avLst/>
              <a:gdLst>
                <a:gd name="textAreaLeft" fmla="*/ 0 w 6404040"/>
                <a:gd name="textAreaRight" fmla="*/ 6404400 w 6404040"/>
                <a:gd name="textAreaTop" fmla="*/ 0 h 3592440"/>
                <a:gd name="textAreaBottom" fmla="*/ 3592800 h 359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198" y="0"/>
                  </a:lnTo>
                  <a:lnTo>
                    <a:pt x="21600" y="10800"/>
                  </a:lnTo>
                  <a:lnTo>
                    <a:pt x="17198" y="21600"/>
                  </a:lnTo>
                  <a:lnTo>
                    <a:pt x="0" y="21600"/>
                  </a:lnTo>
                  <a:lnTo>
                    <a:pt x="4402" y="10800"/>
                  </a:lnTo>
                  <a:close/>
                </a:path>
              </a:pathLst>
            </a:custGeom>
            <a:solidFill>
              <a:srgbClr val="cccce6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70920" y="3592440"/>
              <a:ext cx="51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40280" y="1828800"/>
              <a:ext cx="1354680" cy="17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4680" y="1828800"/>
              <a:ext cx="1354320" cy="17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63120" y="4049280"/>
              <a:ext cx="51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54960" y="4506840"/>
              <a:ext cx="504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47160" y="4964040"/>
              <a:ext cx="504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397240" y="2305080"/>
            <a:ext cx="82548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og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7560" y="2305080"/>
            <a:ext cx="9720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ut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og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90080" y="2306520"/>
            <a:ext cx="1499400" cy="8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erchandis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78520" y="3635280"/>
            <a:ext cx="148068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cilities bu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3440" y="4092480"/>
            <a:ext cx="276876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uman resource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00480" y="4549680"/>
            <a:ext cx="111816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3480" y="5006880"/>
            <a:ext cx="125388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58640" y="5664240"/>
            <a:ext cx="665784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chain in trade companies (Adapted from Porter, 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54936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companies can be divided into two lev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lesale level (B2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level (B2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ompanies that operate on wholesale level deliver their products to other companies. Customers are retail, industrial and service companies. Wholesale companies devote less effort to promotion, shop layout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and selection of location. Further wholesalers make large transactions with a limited number of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3017880" y="1655640"/>
            <a:ext cx="3323880" cy="3922920"/>
            <a:chOff x="3017880" y="1655640"/>
            <a:chExt cx="3323880" cy="3922920"/>
          </a:xfrm>
        </p:grpSpPr>
        <p:sp>
          <p:nvSpPr>
            <p:cNvPr id="140" name=""/>
            <p:cNvSpPr/>
            <p:nvPr/>
          </p:nvSpPr>
          <p:spPr>
            <a:xfrm>
              <a:off x="3017880" y="1655640"/>
              <a:ext cx="3254760" cy="42624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UE Meta"/>
                </a:rPr>
                <a:t>Manufactur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6640" y="5152320"/>
              <a:ext cx="3255120" cy="42624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UE Meta"/>
                </a:rPr>
                <a:t>Consum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02440" y="3124800"/>
              <a:ext cx="1938960" cy="42624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UE Meta"/>
                </a:rPr>
                <a:t>Wholesal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41040" y="4172400"/>
              <a:ext cx="1524960" cy="42624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UE Meta"/>
                </a:rPr>
                <a:t>Retail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5600" y="2144880"/>
              <a:ext cx="0" cy="30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56480" y="2144880"/>
              <a:ext cx="0" cy="9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56480" y="3614400"/>
              <a:ext cx="0" cy="153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5960" y="2144880"/>
              <a:ext cx="0" cy="9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5960" y="3614400"/>
              <a:ext cx="0" cy="55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25960" y="4663800"/>
              <a:ext cx="0" cy="48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7200" y="2144880"/>
              <a:ext cx="0" cy="20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57200" y="4663800"/>
              <a:ext cx="0" cy="48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560320" y="6021360"/>
            <a:ext cx="44359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lesale and trade in the business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5600" y="1958760"/>
            <a:ext cx="825012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companies fulfill the intermediary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r and end user. Their added value lie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ales and pro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Purchasing and building up a product asso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Bulk bre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arrying th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Marke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Management and marke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54936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Role and importance of purchasing in trade and retail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rding the retail trade, various types of stores can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ed in the area of consumer prod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pecialty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Department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uper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onvenience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ombination store, superstore and hyper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ervice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and importance of purchasing in trade and retail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693960" y="6335640"/>
            <a:ext cx="1494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92280"/>
            <a:ext cx="7770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Role and importance of purchasing in trade and retail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7240" y="2268000"/>
            <a:ext cx="777240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differences with industrial 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Bottom line thinkin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reason for buying in trade companies is to s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Broad assortme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 companies generally have a very broad product assortment for which management information systems are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Buying against supplier specification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 companies frequently buy what the market offers and are usually able to change suppliers more eas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hort feedback loo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ents of buying and selling are closer together in a trade comp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4:34:01Z</dcterms:created>
  <dc:creator>Frank Rozemeijer</dc:creator>
  <dc:description/>
  <dc:language>en-US</dc:language>
  <cp:lastModifiedBy>ldawson-bowling</cp:lastModifiedBy>
  <dcterms:modified xsi:type="dcterms:W3CDTF">2008-02-08T11:25:47Z</dcterms:modified>
  <cp:revision>26</cp:revision>
  <dc:subject/>
  <dc:title>Analysis</dc:title>
</cp:coreProperties>
</file>